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B46B-8371-4324-B792-0C4227C0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B40-E34D-4BF1-9AE7-BE7B4ED2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F96D-29C2-4071-AF26-70444FF7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FDE4-B5D1-432B-A530-E6E5155F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4ABE-DED1-4CFA-9488-0976E9C0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70C-6A40-4666-A57F-5632FE75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6A19-A2BF-4A33-BBB8-179C5D52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0756-E51E-403E-8CF9-C9BCBC87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F8E-BA12-4F54-AA8D-F2F31B26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CB0-ABBA-4FAB-A4E4-E86A0003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BC4-DBAF-4F2E-A799-08C55E2B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24B-E9B3-4BA7-9736-28A88B7F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E23E-8747-490D-BA6C-0D721B9C7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yrównanie wielomianowe w procesie kompresji danych pomiarowych Stacji Laserowej w Borowc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1640" y="55623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iel Kuchar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serwacja%20JA058704" descr=""/>
          <p:cNvPicPr/>
          <p:nvPr/>
        </p:nvPicPr>
        <p:blipFill>
          <a:blip r:embed="rId2"/>
          <a:stretch/>
        </p:blipFill>
        <p:spPr>
          <a:xfrm>
            <a:off x="1219320" y="304920"/>
            <a:ext cx="679428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spółczesne pomiary SL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ładność ~15 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zęstotliwość strzału 10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siące pomiarów na prze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ompresja pomiarów do formy punktów normaln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celu uniknięcia nadmiernej ilości informacji o orbicie sate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yzacja formy końcowej pomiarów laserowy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 kompresj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yznaczenie residuów obserwacyj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yznaczenie parametrów Time Bias i Range B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Eliminacja trendów systematycznych z przebiegu residu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iltracja 2.5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yznaczenie punktów normal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pień funkcji wielomianowej dla najlepszego wyrówn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ig_1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4772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serwacja%20CH058904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692784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bserwacja%20ES029604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693900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Obserwacja%20ES062404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689616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serwacja%20EV020104" descr=""/>
          <p:cNvPicPr/>
          <p:nvPr/>
        </p:nvPicPr>
        <p:blipFill>
          <a:blip r:embed="rId2"/>
          <a:stretch/>
        </p:blipFill>
        <p:spPr>
          <a:xfrm>
            <a:off x="1143000" y="304920"/>
            <a:ext cx="67485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12:05:38Z</dcterms:created>
  <dc:creator>dk</dc:creator>
  <dc:description/>
  <dc:language>en-US</dc:language>
  <cp:lastModifiedBy>dk</cp:lastModifiedBy>
  <dcterms:modified xsi:type="dcterms:W3CDTF">2005-06-22T21:52:43Z</dcterms:modified>
  <cp:revision>18</cp:revision>
  <dc:subject/>
  <dc:title>Prezentacja programu PowerPoint</dc:title>
</cp:coreProperties>
</file>