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png" ContentType="image/png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558-D844-462E-A248-0D7E9B10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8DC-2100-4CA0-8F9E-64E70BD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9D0-42BF-4628-A020-0F13C3B3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FFA-8512-45AE-A591-B7FE47C8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9D2-49C1-4326-AA5B-5979418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0E0-D8D4-4B5A-B582-2E36B440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8E2-7EB4-432B-B890-61BD3344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8CF-1DD8-4EE7-9C3D-402F3681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703-FBD5-47EB-98A6-1223219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4F-EA3D-45AA-84A2-1F334F1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6BF-D1DF-421F-B24C-A557B2D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461-97ED-457E-9C15-CC7248B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5DF-3761-46CB-AE8D-BF57A9141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NOWA GEOIDA </a:t>
            </a:r>
            <a:br>
              <a:rPr sz="3200"/>
            </a:b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ASTRONOMICZNO – GEODEZYJNA</a:t>
            </a:r>
            <a:br>
              <a:rPr sz="3200"/>
            </a:b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- wstępne wnio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4120"/>
            <a:ext cx="86868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SEMINARI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Komisji Geodezji Satelitarnej Komitetu Badań Kosmicznych i Satelitarnych P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ora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Sekcji Sieci Geodezyjnych Komitetu Geodezji P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3333cc"/>
                </a:solidFill>
                <a:latin typeface="Arial"/>
              </a:rPr>
              <a:t>SATELITARNE METODY WYZNACZENIA POZYCJI WE WSPÓŁCZESNEJ GEODEZJI I NAWIGACJI</a:t>
            </a: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23 –24 CZERWIEC 2005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57040" y="261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28954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Jerzy B. Rogowski</a:t>
            </a:r>
            <a:r>
              <a:rPr b="1" lang="pl-PL" sz="2000" spc="-1" strike="noStrike">
                <a:solidFill>
                  <a:srgbClr val="00cc99"/>
                </a:solidFill>
                <a:latin typeface="Arial"/>
              </a:rPr>
              <a:t>, Janusz Bogusz, Lech Kujawa, Adam Łyszk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w1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129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Obserwacje astronomiczne - uzupełni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811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1625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Obserwacje astronomiczne - uzupełni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0" y="-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-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09480" y="1219320"/>
            <a:ext cx="8152560" cy="5257440"/>
            <a:chOff x="609480" y="1219320"/>
            <a:chExt cx="8152560" cy="5257440"/>
          </a:xfrm>
        </p:grpSpPr>
        <p:grpSp>
          <p:nvGrpSpPr>
            <p:cNvPr id="584" name=""/>
            <p:cNvGrpSpPr/>
            <p:nvPr/>
          </p:nvGrpSpPr>
          <p:grpSpPr>
            <a:xfrm>
              <a:off x="609480" y="1219320"/>
              <a:ext cx="1201320" cy="301320"/>
              <a:chOff x="609480" y="1219320"/>
              <a:chExt cx="1201320" cy="301320"/>
            </a:xfrm>
          </p:grpSpPr>
          <p:sp>
            <p:nvSpPr>
              <p:cNvPr id="585" name=""/>
              <p:cNvSpPr/>
              <p:nvPr/>
            </p:nvSpPr>
            <p:spPr>
              <a:xfrm>
                <a:off x="609480" y="1219320"/>
                <a:ext cx="12013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609480" y="1219320"/>
                <a:ext cx="1200960" cy="301320"/>
                <a:chOff x="609480" y="1219320"/>
                <a:chExt cx="1200960" cy="3013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9480" y="1219320"/>
                  <a:ext cx="12009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un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9480" y="1219320"/>
                  <a:ext cx="12009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"/>
            <p:cNvGrpSpPr/>
            <p:nvPr/>
          </p:nvGrpSpPr>
          <p:grpSpPr>
            <a:xfrm>
              <a:off x="1811160" y="1219320"/>
              <a:ext cx="679320" cy="301320"/>
              <a:chOff x="1811160" y="1219320"/>
              <a:chExt cx="679320" cy="301320"/>
            </a:xfrm>
          </p:grpSpPr>
          <p:sp>
            <p:nvSpPr>
              <p:cNvPr id="590" name=""/>
              <p:cNvSpPr/>
              <p:nvPr/>
            </p:nvSpPr>
            <p:spPr>
              <a:xfrm>
                <a:off x="1811160" y="1219320"/>
                <a:ext cx="6793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811160" y="1219320"/>
                <a:ext cx="678960" cy="301320"/>
                <a:chOff x="1811160" y="1219320"/>
                <a:chExt cx="678960" cy="3013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11160" y="1219320"/>
                  <a:ext cx="6789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811160" y="1219320"/>
                  <a:ext cx="6789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2490840" y="1219320"/>
              <a:ext cx="724680" cy="301320"/>
              <a:chOff x="2490840" y="1219320"/>
              <a:chExt cx="724680" cy="301320"/>
            </a:xfrm>
          </p:grpSpPr>
          <p:sp>
            <p:nvSpPr>
              <p:cNvPr id="595" name=""/>
              <p:cNvSpPr/>
              <p:nvPr/>
            </p:nvSpPr>
            <p:spPr>
              <a:xfrm>
                <a:off x="2490840" y="1219320"/>
                <a:ext cx="72468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2490840" y="1219320"/>
                <a:ext cx="724320" cy="301320"/>
                <a:chOff x="2490840" y="1219320"/>
                <a:chExt cx="724320" cy="30132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490840" y="1219320"/>
                  <a:ext cx="72432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</a:t>
                  </a:r>
                  <a:r>
                    <a:rPr b="1" lang="en-US" sz="14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490840" y="1219320"/>
                  <a:ext cx="72432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3215880" y="1219320"/>
              <a:ext cx="581760" cy="301320"/>
              <a:chOff x="3215880" y="1219320"/>
              <a:chExt cx="581760" cy="301320"/>
            </a:xfrm>
          </p:grpSpPr>
          <p:sp>
            <p:nvSpPr>
              <p:cNvPr id="600" name=""/>
              <p:cNvSpPr/>
              <p:nvPr/>
            </p:nvSpPr>
            <p:spPr>
              <a:xfrm>
                <a:off x="3215880" y="1219320"/>
                <a:ext cx="58176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3215880" y="1219320"/>
                <a:ext cx="581400" cy="301320"/>
                <a:chOff x="3215880" y="1219320"/>
                <a:chExt cx="581400" cy="3013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215880" y="1219320"/>
                  <a:ext cx="58140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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15880" y="1219320"/>
                  <a:ext cx="58140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3798360" y="1219320"/>
              <a:ext cx="826920" cy="301320"/>
              <a:chOff x="3798360" y="1219320"/>
              <a:chExt cx="826920" cy="301320"/>
            </a:xfrm>
          </p:grpSpPr>
          <p:sp>
            <p:nvSpPr>
              <p:cNvPr id="605" name=""/>
              <p:cNvSpPr/>
              <p:nvPr/>
            </p:nvSpPr>
            <p:spPr>
              <a:xfrm>
                <a:off x="3798360" y="1219320"/>
                <a:ext cx="8269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798360" y="1219320"/>
                <a:ext cx="826560" cy="301320"/>
                <a:chOff x="3798360" y="1219320"/>
                <a:chExt cx="826560" cy="301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798360" y="1219320"/>
                  <a:ext cx="8265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</a:t>
                  </a:r>
                  <a:r>
                    <a:rPr b="1" lang="en-US" sz="14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98360" y="1219320"/>
                  <a:ext cx="8265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9" name=""/>
            <p:cNvGrpSpPr/>
            <p:nvPr/>
          </p:nvGrpSpPr>
          <p:grpSpPr>
            <a:xfrm>
              <a:off x="4625640" y="1219320"/>
              <a:ext cx="826920" cy="301320"/>
              <a:chOff x="4625640" y="1219320"/>
              <a:chExt cx="826920" cy="301320"/>
            </a:xfrm>
          </p:grpSpPr>
          <p:sp>
            <p:nvSpPr>
              <p:cNvPr id="610" name=""/>
              <p:cNvSpPr/>
              <p:nvPr/>
            </p:nvSpPr>
            <p:spPr>
              <a:xfrm>
                <a:off x="4625640" y="1219320"/>
                <a:ext cx="8269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4625640" y="1219320"/>
                <a:ext cx="826560" cy="301320"/>
                <a:chOff x="4625640" y="1219320"/>
                <a:chExt cx="826560" cy="3013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625640" y="1219320"/>
                  <a:ext cx="8265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un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625640" y="1219320"/>
                  <a:ext cx="8265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5453280" y="1219320"/>
              <a:ext cx="826560" cy="301320"/>
              <a:chOff x="5453280" y="1219320"/>
              <a:chExt cx="826560" cy="301320"/>
            </a:xfrm>
          </p:grpSpPr>
          <p:sp>
            <p:nvSpPr>
              <p:cNvPr id="615" name=""/>
              <p:cNvSpPr/>
              <p:nvPr/>
            </p:nvSpPr>
            <p:spPr>
              <a:xfrm>
                <a:off x="5453280" y="1219320"/>
                <a:ext cx="82656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5453280" y="1219320"/>
                <a:ext cx="826200" cy="301320"/>
                <a:chOff x="5453280" y="1219320"/>
                <a:chExt cx="826200" cy="301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453280" y="1219320"/>
                  <a:ext cx="82620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453280" y="1219320"/>
                  <a:ext cx="82620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9" name=""/>
            <p:cNvGrpSpPr/>
            <p:nvPr/>
          </p:nvGrpSpPr>
          <p:grpSpPr>
            <a:xfrm>
              <a:off x="6280200" y="1219320"/>
              <a:ext cx="826920" cy="301320"/>
              <a:chOff x="6280200" y="1219320"/>
              <a:chExt cx="826920" cy="301320"/>
            </a:xfrm>
          </p:grpSpPr>
          <p:sp>
            <p:nvSpPr>
              <p:cNvPr id="620" name=""/>
              <p:cNvSpPr/>
              <p:nvPr/>
            </p:nvSpPr>
            <p:spPr>
              <a:xfrm>
                <a:off x="6280200" y="1219320"/>
                <a:ext cx="8269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" name=""/>
              <p:cNvGrpSpPr/>
              <p:nvPr/>
            </p:nvGrpSpPr>
            <p:grpSpPr>
              <a:xfrm>
                <a:off x="6280200" y="1219320"/>
                <a:ext cx="826560" cy="301320"/>
                <a:chOff x="6280200" y="1219320"/>
                <a:chExt cx="826560" cy="3013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80200" y="1219320"/>
                  <a:ext cx="8265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</a:t>
                  </a:r>
                  <a:r>
                    <a:rPr b="1" lang="en-US" sz="14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280200" y="1219320"/>
                  <a:ext cx="8265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"/>
            <p:cNvGrpSpPr/>
            <p:nvPr/>
          </p:nvGrpSpPr>
          <p:grpSpPr>
            <a:xfrm>
              <a:off x="7107840" y="1219320"/>
              <a:ext cx="826920" cy="301320"/>
              <a:chOff x="7107840" y="1219320"/>
              <a:chExt cx="826920" cy="301320"/>
            </a:xfrm>
          </p:grpSpPr>
          <p:sp>
            <p:nvSpPr>
              <p:cNvPr id="625" name=""/>
              <p:cNvSpPr/>
              <p:nvPr/>
            </p:nvSpPr>
            <p:spPr>
              <a:xfrm>
                <a:off x="7107840" y="1219320"/>
                <a:ext cx="8269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7107840" y="1219320"/>
                <a:ext cx="826560" cy="301320"/>
                <a:chOff x="7107840" y="1219320"/>
                <a:chExt cx="826560" cy="3013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107840" y="1219320"/>
                  <a:ext cx="8265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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07840" y="1219320"/>
                  <a:ext cx="8265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7935120" y="1219320"/>
              <a:ext cx="826920" cy="301320"/>
              <a:chOff x="7935120" y="1219320"/>
              <a:chExt cx="826920" cy="301320"/>
            </a:xfrm>
          </p:grpSpPr>
          <p:sp>
            <p:nvSpPr>
              <p:cNvPr id="630" name=""/>
              <p:cNvSpPr/>
              <p:nvPr/>
            </p:nvSpPr>
            <p:spPr>
              <a:xfrm>
                <a:off x="7935120" y="1219320"/>
                <a:ext cx="826920" cy="301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7935120" y="1219320"/>
                <a:ext cx="826560" cy="301320"/>
                <a:chOff x="7935120" y="1219320"/>
                <a:chExt cx="826560" cy="3013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7935120" y="1219320"/>
                  <a:ext cx="826560" cy="3013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m</a:t>
                  </a:r>
                  <a:r>
                    <a:rPr b="1" lang="en-US" sz="14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935120" y="1219320"/>
                  <a:ext cx="826560" cy="30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4" name=""/>
            <p:cNvGrpSpPr/>
            <p:nvPr/>
          </p:nvGrpSpPr>
          <p:grpSpPr>
            <a:xfrm>
              <a:off x="609480" y="1520640"/>
              <a:ext cx="1201320" cy="301320"/>
              <a:chOff x="609480" y="1520640"/>
              <a:chExt cx="1201320" cy="301320"/>
            </a:xfrm>
          </p:grpSpPr>
          <p:sp>
            <p:nvSpPr>
              <p:cNvPr id="635" name=""/>
              <p:cNvSpPr/>
              <p:nvPr/>
            </p:nvSpPr>
            <p:spPr>
              <a:xfrm>
                <a:off x="609480" y="152064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OG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9480" y="152064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811160" y="1520640"/>
              <a:ext cx="679320" cy="301320"/>
              <a:chOff x="1811160" y="1520640"/>
              <a:chExt cx="679320" cy="301320"/>
            </a:xfrm>
          </p:grpSpPr>
          <p:sp>
            <p:nvSpPr>
              <p:cNvPr id="638" name=""/>
              <p:cNvSpPr/>
              <p:nvPr/>
            </p:nvSpPr>
            <p:spPr>
              <a:xfrm>
                <a:off x="1811160" y="152064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811160" y="152064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490840" y="1520640"/>
              <a:ext cx="724680" cy="301320"/>
              <a:chOff x="2490840" y="1520640"/>
              <a:chExt cx="724680" cy="301320"/>
            </a:xfrm>
          </p:grpSpPr>
          <p:sp>
            <p:nvSpPr>
              <p:cNvPr id="641" name=""/>
              <p:cNvSpPr/>
              <p:nvPr/>
            </p:nvSpPr>
            <p:spPr>
              <a:xfrm>
                <a:off x="2490840" y="152064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90840" y="152064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215880" y="1520640"/>
              <a:ext cx="581760" cy="301320"/>
              <a:chOff x="3215880" y="1520640"/>
              <a:chExt cx="581760" cy="301320"/>
            </a:xfrm>
          </p:grpSpPr>
          <p:sp>
            <p:nvSpPr>
              <p:cNvPr id="644" name=""/>
              <p:cNvSpPr/>
              <p:nvPr/>
            </p:nvSpPr>
            <p:spPr>
              <a:xfrm>
                <a:off x="3215880" y="152064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215880" y="152064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3798360" y="1520640"/>
              <a:ext cx="826920" cy="301320"/>
              <a:chOff x="3798360" y="1520640"/>
              <a:chExt cx="826920" cy="301320"/>
            </a:xfrm>
          </p:grpSpPr>
          <p:sp>
            <p:nvSpPr>
              <p:cNvPr id="647" name=""/>
              <p:cNvSpPr/>
              <p:nvPr/>
            </p:nvSpPr>
            <p:spPr>
              <a:xfrm>
                <a:off x="3798360" y="15206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98360" y="15206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625640" y="1520640"/>
              <a:ext cx="826920" cy="301320"/>
              <a:chOff x="4625640" y="1520640"/>
              <a:chExt cx="826920" cy="301320"/>
            </a:xfrm>
          </p:grpSpPr>
          <p:sp>
            <p:nvSpPr>
              <p:cNvPr id="650" name=""/>
              <p:cNvSpPr/>
              <p:nvPr/>
            </p:nvSpPr>
            <p:spPr>
              <a:xfrm>
                <a:off x="4625640" y="15206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25640" y="15206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453280" y="1520640"/>
              <a:ext cx="826560" cy="301320"/>
              <a:chOff x="5453280" y="1520640"/>
              <a:chExt cx="826560" cy="301320"/>
            </a:xfrm>
          </p:grpSpPr>
          <p:sp>
            <p:nvSpPr>
              <p:cNvPr id="653" name=""/>
              <p:cNvSpPr/>
              <p:nvPr/>
            </p:nvSpPr>
            <p:spPr>
              <a:xfrm>
                <a:off x="5453280" y="152064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53280" y="152064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280200" y="1520640"/>
              <a:ext cx="826920" cy="301320"/>
              <a:chOff x="6280200" y="1520640"/>
              <a:chExt cx="826920" cy="301320"/>
            </a:xfrm>
          </p:grpSpPr>
          <p:sp>
            <p:nvSpPr>
              <p:cNvPr id="656" name=""/>
              <p:cNvSpPr/>
              <p:nvPr/>
            </p:nvSpPr>
            <p:spPr>
              <a:xfrm>
                <a:off x="6280200" y="15206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80200" y="15206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7107840" y="1520640"/>
              <a:ext cx="826920" cy="301320"/>
              <a:chOff x="7107840" y="1520640"/>
              <a:chExt cx="826920" cy="301320"/>
            </a:xfrm>
          </p:grpSpPr>
          <p:sp>
            <p:nvSpPr>
              <p:cNvPr id="659" name=""/>
              <p:cNvSpPr/>
              <p:nvPr/>
            </p:nvSpPr>
            <p:spPr>
              <a:xfrm>
                <a:off x="7107840" y="15206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07840" y="15206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935120" y="1520640"/>
              <a:ext cx="826920" cy="301320"/>
              <a:chOff x="7935120" y="1520640"/>
              <a:chExt cx="826920" cy="301320"/>
            </a:xfrm>
          </p:grpSpPr>
          <p:sp>
            <p:nvSpPr>
              <p:cNvPr id="662" name=""/>
              <p:cNvSpPr/>
              <p:nvPr/>
            </p:nvSpPr>
            <p:spPr>
              <a:xfrm>
                <a:off x="7935120" y="15206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935120" y="15206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609480" y="1821960"/>
              <a:ext cx="1201320" cy="300960"/>
              <a:chOff x="609480" y="1821960"/>
              <a:chExt cx="1201320" cy="300960"/>
            </a:xfrm>
          </p:grpSpPr>
          <p:sp>
            <p:nvSpPr>
              <p:cNvPr id="665" name=""/>
              <p:cNvSpPr/>
              <p:nvPr/>
            </p:nvSpPr>
            <p:spPr>
              <a:xfrm>
                <a:off x="609480" y="1821960"/>
                <a:ext cx="12013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9480" y="1821960"/>
                <a:ext cx="12013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811160" y="1821960"/>
              <a:ext cx="679320" cy="300960"/>
              <a:chOff x="1811160" y="1821960"/>
              <a:chExt cx="679320" cy="300960"/>
            </a:xfrm>
          </p:grpSpPr>
          <p:sp>
            <p:nvSpPr>
              <p:cNvPr id="668" name=""/>
              <p:cNvSpPr/>
              <p:nvPr/>
            </p:nvSpPr>
            <p:spPr>
              <a:xfrm>
                <a:off x="1811160" y="1821960"/>
                <a:ext cx="6793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11160" y="1821960"/>
                <a:ext cx="6793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490840" y="1821960"/>
              <a:ext cx="724680" cy="300960"/>
              <a:chOff x="2490840" y="1821960"/>
              <a:chExt cx="724680" cy="300960"/>
            </a:xfrm>
          </p:grpSpPr>
          <p:sp>
            <p:nvSpPr>
              <p:cNvPr id="671" name=""/>
              <p:cNvSpPr/>
              <p:nvPr/>
            </p:nvSpPr>
            <p:spPr>
              <a:xfrm>
                <a:off x="2490840" y="1821960"/>
                <a:ext cx="7246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90840" y="1821960"/>
                <a:ext cx="72468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3215880" y="1821960"/>
              <a:ext cx="581760" cy="300960"/>
              <a:chOff x="3215880" y="1821960"/>
              <a:chExt cx="581760" cy="300960"/>
            </a:xfrm>
          </p:grpSpPr>
          <p:sp>
            <p:nvSpPr>
              <p:cNvPr id="674" name=""/>
              <p:cNvSpPr/>
              <p:nvPr/>
            </p:nvSpPr>
            <p:spPr>
              <a:xfrm>
                <a:off x="3215880" y="1821960"/>
                <a:ext cx="5817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15880" y="1821960"/>
                <a:ext cx="58176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3798360" y="1821960"/>
              <a:ext cx="826920" cy="300960"/>
              <a:chOff x="3798360" y="1821960"/>
              <a:chExt cx="826920" cy="300960"/>
            </a:xfrm>
          </p:grpSpPr>
          <p:sp>
            <p:nvSpPr>
              <p:cNvPr id="677" name=""/>
              <p:cNvSpPr/>
              <p:nvPr/>
            </p:nvSpPr>
            <p:spPr>
              <a:xfrm>
                <a:off x="3798360" y="182196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98360" y="182196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625640" y="1821960"/>
              <a:ext cx="826920" cy="300960"/>
              <a:chOff x="4625640" y="1821960"/>
              <a:chExt cx="826920" cy="300960"/>
            </a:xfrm>
          </p:grpSpPr>
          <p:sp>
            <p:nvSpPr>
              <p:cNvPr id="680" name=""/>
              <p:cNvSpPr/>
              <p:nvPr/>
            </p:nvSpPr>
            <p:spPr>
              <a:xfrm>
                <a:off x="4625640" y="182196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25640" y="182196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53280" y="1821960"/>
              <a:ext cx="826560" cy="300960"/>
              <a:chOff x="5453280" y="1821960"/>
              <a:chExt cx="826560" cy="300960"/>
            </a:xfrm>
          </p:grpSpPr>
          <p:sp>
            <p:nvSpPr>
              <p:cNvPr id="683" name=""/>
              <p:cNvSpPr/>
              <p:nvPr/>
            </p:nvSpPr>
            <p:spPr>
              <a:xfrm>
                <a:off x="5453280" y="1821960"/>
                <a:ext cx="8265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.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53280" y="1821960"/>
                <a:ext cx="82656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280200" y="1821960"/>
              <a:ext cx="826920" cy="300960"/>
              <a:chOff x="6280200" y="1821960"/>
              <a:chExt cx="826920" cy="300960"/>
            </a:xfrm>
          </p:grpSpPr>
          <p:sp>
            <p:nvSpPr>
              <p:cNvPr id="686" name=""/>
              <p:cNvSpPr/>
              <p:nvPr/>
            </p:nvSpPr>
            <p:spPr>
              <a:xfrm>
                <a:off x="6280200" y="182196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80200" y="182196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107840" y="1821960"/>
              <a:ext cx="826920" cy="300960"/>
              <a:chOff x="7107840" y="1821960"/>
              <a:chExt cx="826920" cy="300960"/>
            </a:xfrm>
          </p:grpSpPr>
          <p:sp>
            <p:nvSpPr>
              <p:cNvPr id="689" name=""/>
              <p:cNvSpPr/>
              <p:nvPr/>
            </p:nvSpPr>
            <p:spPr>
              <a:xfrm>
                <a:off x="7107840" y="182196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07840" y="182196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935120" y="1821960"/>
              <a:ext cx="826920" cy="300960"/>
              <a:chOff x="7935120" y="1821960"/>
              <a:chExt cx="826920" cy="300960"/>
            </a:xfrm>
          </p:grpSpPr>
          <p:sp>
            <p:nvSpPr>
              <p:cNvPr id="692" name=""/>
              <p:cNvSpPr/>
              <p:nvPr/>
            </p:nvSpPr>
            <p:spPr>
              <a:xfrm>
                <a:off x="7935120" y="182196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935120" y="182196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9480" y="2123280"/>
              <a:ext cx="1201320" cy="301320"/>
              <a:chOff x="609480" y="2123280"/>
              <a:chExt cx="1201320" cy="301320"/>
            </a:xfrm>
          </p:grpSpPr>
          <p:sp>
            <p:nvSpPr>
              <p:cNvPr id="695" name=""/>
              <p:cNvSpPr/>
              <p:nvPr/>
            </p:nvSpPr>
            <p:spPr>
              <a:xfrm>
                <a:off x="609480" y="212328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9480" y="212328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1811160" y="2123280"/>
              <a:ext cx="679320" cy="301320"/>
              <a:chOff x="1811160" y="2123280"/>
              <a:chExt cx="679320" cy="301320"/>
            </a:xfrm>
          </p:grpSpPr>
          <p:sp>
            <p:nvSpPr>
              <p:cNvPr id="698" name=""/>
              <p:cNvSpPr/>
              <p:nvPr/>
            </p:nvSpPr>
            <p:spPr>
              <a:xfrm>
                <a:off x="1811160" y="212328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11160" y="212328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490840" y="2123280"/>
              <a:ext cx="724680" cy="301320"/>
              <a:chOff x="2490840" y="2123280"/>
              <a:chExt cx="724680" cy="301320"/>
            </a:xfrm>
          </p:grpSpPr>
          <p:sp>
            <p:nvSpPr>
              <p:cNvPr id="701" name=""/>
              <p:cNvSpPr/>
              <p:nvPr/>
            </p:nvSpPr>
            <p:spPr>
              <a:xfrm>
                <a:off x="2490840" y="212328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90840" y="212328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3215880" y="2123280"/>
              <a:ext cx="581760" cy="301320"/>
              <a:chOff x="3215880" y="2123280"/>
              <a:chExt cx="581760" cy="301320"/>
            </a:xfrm>
          </p:grpSpPr>
          <p:sp>
            <p:nvSpPr>
              <p:cNvPr id="704" name=""/>
              <p:cNvSpPr/>
              <p:nvPr/>
            </p:nvSpPr>
            <p:spPr>
              <a:xfrm>
                <a:off x="3215880" y="212328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7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215880" y="212328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3798360" y="2123280"/>
              <a:ext cx="826920" cy="301320"/>
              <a:chOff x="3798360" y="2123280"/>
              <a:chExt cx="826920" cy="301320"/>
            </a:xfrm>
          </p:grpSpPr>
          <p:sp>
            <p:nvSpPr>
              <p:cNvPr id="707" name=""/>
              <p:cNvSpPr/>
              <p:nvPr/>
            </p:nvSpPr>
            <p:spPr>
              <a:xfrm>
                <a:off x="3798360" y="21232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8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98360" y="21232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4625640" y="2123280"/>
              <a:ext cx="826920" cy="301320"/>
              <a:chOff x="4625640" y="2123280"/>
              <a:chExt cx="826920" cy="301320"/>
            </a:xfrm>
          </p:grpSpPr>
          <p:sp>
            <p:nvSpPr>
              <p:cNvPr id="710" name=""/>
              <p:cNvSpPr/>
              <p:nvPr/>
            </p:nvSpPr>
            <p:spPr>
              <a:xfrm>
                <a:off x="4625640" y="21232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625640" y="21232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5453280" y="2123280"/>
              <a:ext cx="826560" cy="301320"/>
              <a:chOff x="5453280" y="2123280"/>
              <a:chExt cx="826560" cy="301320"/>
            </a:xfrm>
          </p:grpSpPr>
          <p:sp>
            <p:nvSpPr>
              <p:cNvPr id="713" name=""/>
              <p:cNvSpPr/>
              <p:nvPr/>
            </p:nvSpPr>
            <p:spPr>
              <a:xfrm>
                <a:off x="5453280" y="212328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.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53280" y="212328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6280200" y="2123280"/>
              <a:ext cx="826920" cy="301320"/>
              <a:chOff x="6280200" y="2123280"/>
              <a:chExt cx="826920" cy="301320"/>
            </a:xfrm>
          </p:grpSpPr>
          <p:sp>
            <p:nvSpPr>
              <p:cNvPr id="716" name=""/>
              <p:cNvSpPr/>
              <p:nvPr/>
            </p:nvSpPr>
            <p:spPr>
              <a:xfrm>
                <a:off x="6280200" y="21232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80200" y="21232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107840" y="2123280"/>
              <a:ext cx="826920" cy="301320"/>
              <a:chOff x="7107840" y="2123280"/>
              <a:chExt cx="826920" cy="30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7107840" y="21232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07840" y="21232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7935120" y="2123280"/>
              <a:ext cx="826920" cy="301320"/>
              <a:chOff x="7935120" y="2123280"/>
              <a:chExt cx="826920" cy="301320"/>
            </a:xfrm>
          </p:grpSpPr>
          <p:sp>
            <p:nvSpPr>
              <p:cNvPr id="722" name=""/>
              <p:cNvSpPr/>
              <p:nvPr/>
            </p:nvSpPr>
            <p:spPr>
              <a:xfrm>
                <a:off x="7935120" y="21232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35120" y="21232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609480" y="2424600"/>
              <a:ext cx="1201320" cy="301320"/>
              <a:chOff x="609480" y="2424600"/>
              <a:chExt cx="1201320" cy="301320"/>
            </a:xfrm>
          </p:grpSpPr>
          <p:sp>
            <p:nvSpPr>
              <p:cNvPr id="725" name=""/>
              <p:cNvSpPr/>
              <p:nvPr/>
            </p:nvSpPr>
            <p:spPr>
              <a:xfrm>
                <a:off x="609480" y="242460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9480" y="242460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1811160" y="2424600"/>
              <a:ext cx="679320" cy="301320"/>
              <a:chOff x="1811160" y="2424600"/>
              <a:chExt cx="679320" cy="301320"/>
            </a:xfrm>
          </p:grpSpPr>
          <p:sp>
            <p:nvSpPr>
              <p:cNvPr id="728" name=""/>
              <p:cNvSpPr/>
              <p:nvPr/>
            </p:nvSpPr>
            <p:spPr>
              <a:xfrm>
                <a:off x="1811160" y="242460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811160" y="242460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490840" y="2424600"/>
              <a:ext cx="724680" cy="301320"/>
              <a:chOff x="2490840" y="2424600"/>
              <a:chExt cx="724680" cy="301320"/>
            </a:xfrm>
          </p:grpSpPr>
          <p:sp>
            <p:nvSpPr>
              <p:cNvPr id="731" name=""/>
              <p:cNvSpPr/>
              <p:nvPr/>
            </p:nvSpPr>
            <p:spPr>
              <a:xfrm>
                <a:off x="2490840" y="242460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90840" y="242460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3215880" y="2424600"/>
              <a:ext cx="581760" cy="301320"/>
              <a:chOff x="3215880" y="2424600"/>
              <a:chExt cx="581760" cy="301320"/>
            </a:xfrm>
          </p:grpSpPr>
          <p:sp>
            <p:nvSpPr>
              <p:cNvPr id="734" name=""/>
              <p:cNvSpPr/>
              <p:nvPr/>
            </p:nvSpPr>
            <p:spPr>
              <a:xfrm>
                <a:off x="3215880" y="242460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9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15880" y="242460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3798360" y="2424600"/>
              <a:ext cx="826920" cy="301320"/>
              <a:chOff x="3798360" y="2424600"/>
              <a:chExt cx="826920" cy="301320"/>
            </a:xfrm>
          </p:grpSpPr>
          <p:sp>
            <p:nvSpPr>
              <p:cNvPr id="737" name=""/>
              <p:cNvSpPr/>
              <p:nvPr/>
            </p:nvSpPr>
            <p:spPr>
              <a:xfrm>
                <a:off x="3798360" y="24246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8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798360" y="24246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4625640" y="2424600"/>
              <a:ext cx="826920" cy="301320"/>
              <a:chOff x="4625640" y="2424600"/>
              <a:chExt cx="826920" cy="301320"/>
            </a:xfrm>
          </p:grpSpPr>
          <p:sp>
            <p:nvSpPr>
              <p:cNvPr id="740" name=""/>
              <p:cNvSpPr/>
              <p:nvPr/>
            </p:nvSpPr>
            <p:spPr>
              <a:xfrm>
                <a:off x="4625640" y="24246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625640" y="24246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53280" y="2424600"/>
              <a:ext cx="826560" cy="301320"/>
              <a:chOff x="5453280" y="2424600"/>
              <a:chExt cx="826560" cy="301320"/>
            </a:xfrm>
          </p:grpSpPr>
          <p:sp>
            <p:nvSpPr>
              <p:cNvPr id="743" name=""/>
              <p:cNvSpPr/>
              <p:nvPr/>
            </p:nvSpPr>
            <p:spPr>
              <a:xfrm>
                <a:off x="5453280" y="242460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53280" y="242460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280200" y="2424600"/>
              <a:ext cx="826920" cy="301320"/>
              <a:chOff x="6280200" y="2424600"/>
              <a:chExt cx="826920" cy="301320"/>
            </a:xfrm>
          </p:grpSpPr>
          <p:sp>
            <p:nvSpPr>
              <p:cNvPr id="746" name=""/>
              <p:cNvSpPr/>
              <p:nvPr/>
            </p:nvSpPr>
            <p:spPr>
              <a:xfrm>
                <a:off x="6280200" y="24246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80200" y="24246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7107840" y="2424600"/>
              <a:ext cx="826920" cy="301320"/>
              <a:chOff x="7107840" y="2424600"/>
              <a:chExt cx="826920" cy="301320"/>
            </a:xfrm>
          </p:grpSpPr>
          <p:sp>
            <p:nvSpPr>
              <p:cNvPr id="749" name=""/>
              <p:cNvSpPr/>
              <p:nvPr/>
            </p:nvSpPr>
            <p:spPr>
              <a:xfrm>
                <a:off x="7107840" y="24246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07840" y="24246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7935120" y="2424600"/>
              <a:ext cx="826920" cy="301320"/>
              <a:chOff x="7935120" y="2424600"/>
              <a:chExt cx="826920" cy="301320"/>
            </a:xfrm>
          </p:grpSpPr>
          <p:sp>
            <p:nvSpPr>
              <p:cNvPr id="752" name=""/>
              <p:cNvSpPr/>
              <p:nvPr/>
            </p:nvSpPr>
            <p:spPr>
              <a:xfrm>
                <a:off x="7935120" y="24246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935120" y="24246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609480" y="2725920"/>
              <a:ext cx="1201320" cy="374040"/>
              <a:chOff x="609480" y="2725920"/>
              <a:chExt cx="1201320" cy="374040"/>
            </a:xfrm>
          </p:grpSpPr>
          <p:sp>
            <p:nvSpPr>
              <p:cNvPr id="755" name=""/>
              <p:cNvSpPr/>
              <p:nvPr/>
            </p:nvSpPr>
            <p:spPr>
              <a:xfrm>
                <a:off x="609480" y="2725920"/>
                <a:ext cx="1201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9480" y="2725920"/>
                <a:ext cx="1201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811160" y="2725920"/>
              <a:ext cx="679320" cy="374040"/>
              <a:chOff x="1811160" y="2725920"/>
              <a:chExt cx="679320" cy="374040"/>
            </a:xfrm>
          </p:grpSpPr>
          <p:sp>
            <p:nvSpPr>
              <p:cNvPr id="758" name=""/>
              <p:cNvSpPr/>
              <p:nvPr/>
            </p:nvSpPr>
            <p:spPr>
              <a:xfrm>
                <a:off x="1811160" y="2725920"/>
                <a:ext cx="679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9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11160" y="2725920"/>
                <a:ext cx="679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490840" y="2725920"/>
              <a:ext cx="724680" cy="374040"/>
              <a:chOff x="2490840" y="2725920"/>
              <a:chExt cx="724680" cy="374040"/>
            </a:xfrm>
          </p:grpSpPr>
          <p:sp>
            <p:nvSpPr>
              <p:cNvPr id="761" name=""/>
              <p:cNvSpPr/>
              <p:nvPr/>
            </p:nvSpPr>
            <p:spPr>
              <a:xfrm>
                <a:off x="2490840" y="2725920"/>
                <a:ext cx="72468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490840" y="2725920"/>
                <a:ext cx="72468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215880" y="2725920"/>
              <a:ext cx="581760" cy="374040"/>
              <a:chOff x="3215880" y="2725920"/>
              <a:chExt cx="581760" cy="374040"/>
            </a:xfrm>
          </p:grpSpPr>
          <p:sp>
            <p:nvSpPr>
              <p:cNvPr id="764" name=""/>
              <p:cNvSpPr/>
              <p:nvPr/>
            </p:nvSpPr>
            <p:spPr>
              <a:xfrm>
                <a:off x="3215880" y="2725920"/>
                <a:ext cx="5817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7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15880" y="2725920"/>
                <a:ext cx="5817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798360" y="2725920"/>
              <a:ext cx="826920" cy="374040"/>
              <a:chOff x="3798360" y="2725920"/>
              <a:chExt cx="826920" cy="374040"/>
            </a:xfrm>
          </p:grpSpPr>
          <p:sp>
            <p:nvSpPr>
              <p:cNvPr id="767" name=""/>
              <p:cNvSpPr/>
              <p:nvPr/>
            </p:nvSpPr>
            <p:spPr>
              <a:xfrm>
                <a:off x="3798360" y="272592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98360" y="272592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625640" y="2725920"/>
              <a:ext cx="826920" cy="374040"/>
              <a:chOff x="4625640" y="2725920"/>
              <a:chExt cx="826920" cy="374040"/>
            </a:xfrm>
          </p:grpSpPr>
          <p:sp>
            <p:nvSpPr>
              <p:cNvPr id="770" name=""/>
              <p:cNvSpPr/>
              <p:nvPr/>
            </p:nvSpPr>
            <p:spPr>
              <a:xfrm>
                <a:off x="4625640" y="272592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625640" y="272592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453280" y="2725920"/>
              <a:ext cx="826560" cy="374040"/>
              <a:chOff x="5453280" y="2725920"/>
              <a:chExt cx="826560" cy="374040"/>
            </a:xfrm>
          </p:grpSpPr>
          <p:sp>
            <p:nvSpPr>
              <p:cNvPr id="773" name=""/>
              <p:cNvSpPr/>
              <p:nvPr/>
            </p:nvSpPr>
            <p:spPr>
              <a:xfrm>
                <a:off x="5453280" y="2725920"/>
                <a:ext cx="8265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53280" y="2725920"/>
                <a:ext cx="8265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280200" y="2725920"/>
              <a:ext cx="826920" cy="374040"/>
              <a:chOff x="6280200" y="2725920"/>
              <a:chExt cx="826920" cy="374040"/>
            </a:xfrm>
          </p:grpSpPr>
          <p:sp>
            <p:nvSpPr>
              <p:cNvPr id="776" name=""/>
              <p:cNvSpPr/>
              <p:nvPr/>
            </p:nvSpPr>
            <p:spPr>
              <a:xfrm>
                <a:off x="6280200" y="272592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80200" y="272592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7107840" y="2725920"/>
              <a:ext cx="826920" cy="374040"/>
              <a:chOff x="7107840" y="2725920"/>
              <a:chExt cx="826920" cy="374040"/>
            </a:xfrm>
          </p:grpSpPr>
          <p:sp>
            <p:nvSpPr>
              <p:cNvPr id="779" name=""/>
              <p:cNvSpPr/>
              <p:nvPr/>
            </p:nvSpPr>
            <p:spPr>
              <a:xfrm>
                <a:off x="7107840" y="272592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.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107840" y="272592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7935120" y="2725920"/>
              <a:ext cx="826920" cy="374040"/>
              <a:chOff x="7935120" y="2725920"/>
              <a:chExt cx="826920" cy="374040"/>
            </a:xfrm>
          </p:grpSpPr>
          <p:sp>
            <p:nvSpPr>
              <p:cNvPr id="782" name=""/>
              <p:cNvSpPr/>
              <p:nvPr/>
            </p:nvSpPr>
            <p:spPr>
              <a:xfrm>
                <a:off x="7935120" y="272592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6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35120" y="272592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09480" y="3100320"/>
              <a:ext cx="1201320" cy="373680"/>
              <a:chOff x="609480" y="3100320"/>
              <a:chExt cx="1201320" cy="373680"/>
            </a:xfrm>
          </p:grpSpPr>
          <p:sp>
            <p:nvSpPr>
              <p:cNvPr id="785" name=""/>
              <p:cNvSpPr/>
              <p:nvPr/>
            </p:nvSpPr>
            <p:spPr>
              <a:xfrm>
                <a:off x="609480" y="3100320"/>
                <a:ext cx="12013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09480" y="3100320"/>
                <a:ext cx="12013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1811160" y="3100320"/>
              <a:ext cx="679320" cy="373680"/>
              <a:chOff x="1811160" y="3100320"/>
              <a:chExt cx="679320" cy="373680"/>
            </a:xfrm>
          </p:grpSpPr>
          <p:sp>
            <p:nvSpPr>
              <p:cNvPr id="788" name=""/>
              <p:cNvSpPr/>
              <p:nvPr/>
            </p:nvSpPr>
            <p:spPr>
              <a:xfrm>
                <a:off x="1811160" y="3100320"/>
                <a:ext cx="6793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3.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811160" y="3100320"/>
                <a:ext cx="6793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490840" y="3100320"/>
              <a:ext cx="724680" cy="373680"/>
              <a:chOff x="2490840" y="3100320"/>
              <a:chExt cx="724680" cy="373680"/>
            </a:xfrm>
          </p:grpSpPr>
          <p:sp>
            <p:nvSpPr>
              <p:cNvPr id="791" name=""/>
              <p:cNvSpPr/>
              <p:nvPr/>
            </p:nvSpPr>
            <p:spPr>
              <a:xfrm>
                <a:off x="2490840" y="3100320"/>
                <a:ext cx="72468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490840" y="3100320"/>
                <a:ext cx="72468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3215880" y="3100320"/>
              <a:ext cx="581760" cy="373680"/>
              <a:chOff x="3215880" y="3100320"/>
              <a:chExt cx="581760" cy="373680"/>
            </a:xfrm>
          </p:grpSpPr>
          <p:sp>
            <p:nvSpPr>
              <p:cNvPr id="794" name=""/>
              <p:cNvSpPr/>
              <p:nvPr/>
            </p:nvSpPr>
            <p:spPr>
              <a:xfrm>
                <a:off x="3215880" y="3100320"/>
                <a:ext cx="58176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215880" y="3100320"/>
                <a:ext cx="58176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3798360" y="3100320"/>
              <a:ext cx="826920" cy="373680"/>
              <a:chOff x="3798360" y="3100320"/>
              <a:chExt cx="826920" cy="373680"/>
            </a:xfrm>
          </p:grpSpPr>
          <p:sp>
            <p:nvSpPr>
              <p:cNvPr id="797" name=""/>
              <p:cNvSpPr/>
              <p:nvPr/>
            </p:nvSpPr>
            <p:spPr>
              <a:xfrm>
                <a:off x="3798360" y="310032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98360" y="310032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625640" y="3100320"/>
              <a:ext cx="826920" cy="373680"/>
              <a:chOff x="4625640" y="3100320"/>
              <a:chExt cx="826920" cy="373680"/>
            </a:xfrm>
          </p:grpSpPr>
          <p:sp>
            <p:nvSpPr>
              <p:cNvPr id="800" name=""/>
              <p:cNvSpPr/>
              <p:nvPr/>
            </p:nvSpPr>
            <p:spPr>
              <a:xfrm>
                <a:off x="4625640" y="310032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25640" y="310032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453280" y="3100320"/>
              <a:ext cx="826560" cy="373680"/>
              <a:chOff x="5453280" y="3100320"/>
              <a:chExt cx="826560" cy="373680"/>
            </a:xfrm>
          </p:grpSpPr>
          <p:sp>
            <p:nvSpPr>
              <p:cNvPr id="803" name=""/>
              <p:cNvSpPr/>
              <p:nvPr/>
            </p:nvSpPr>
            <p:spPr>
              <a:xfrm>
                <a:off x="5453280" y="3100320"/>
                <a:ext cx="82656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7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53280" y="3100320"/>
                <a:ext cx="82656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280200" y="3100320"/>
              <a:ext cx="826920" cy="373680"/>
              <a:chOff x="6280200" y="3100320"/>
              <a:chExt cx="826920" cy="373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80200" y="310032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80200" y="310032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7107840" y="3100320"/>
              <a:ext cx="826920" cy="373680"/>
              <a:chOff x="7107840" y="3100320"/>
              <a:chExt cx="826920" cy="373680"/>
            </a:xfrm>
          </p:grpSpPr>
          <p:sp>
            <p:nvSpPr>
              <p:cNvPr id="809" name=""/>
              <p:cNvSpPr/>
              <p:nvPr/>
            </p:nvSpPr>
            <p:spPr>
              <a:xfrm>
                <a:off x="7107840" y="310032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.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107840" y="310032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935120" y="3100320"/>
              <a:ext cx="826920" cy="373680"/>
              <a:chOff x="7935120" y="3100320"/>
              <a:chExt cx="826920" cy="373680"/>
            </a:xfrm>
          </p:grpSpPr>
          <p:sp>
            <p:nvSpPr>
              <p:cNvPr id="812" name=""/>
              <p:cNvSpPr/>
              <p:nvPr/>
            </p:nvSpPr>
            <p:spPr>
              <a:xfrm>
                <a:off x="7935120" y="310032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35120" y="310032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609480" y="3474000"/>
              <a:ext cx="1201320" cy="301320"/>
              <a:chOff x="609480" y="3474000"/>
              <a:chExt cx="1201320" cy="301320"/>
            </a:xfrm>
          </p:grpSpPr>
          <p:sp>
            <p:nvSpPr>
              <p:cNvPr id="815" name=""/>
              <p:cNvSpPr/>
              <p:nvPr/>
            </p:nvSpPr>
            <p:spPr>
              <a:xfrm>
                <a:off x="609480" y="347400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480" y="347400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1811160" y="3474000"/>
              <a:ext cx="679320" cy="301320"/>
              <a:chOff x="1811160" y="3474000"/>
              <a:chExt cx="679320" cy="301320"/>
            </a:xfrm>
          </p:grpSpPr>
          <p:sp>
            <p:nvSpPr>
              <p:cNvPr id="818" name=""/>
              <p:cNvSpPr/>
              <p:nvPr/>
            </p:nvSpPr>
            <p:spPr>
              <a:xfrm>
                <a:off x="1811160" y="347400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811160" y="347400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2490840" y="3474000"/>
              <a:ext cx="724680" cy="301320"/>
              <a:chOff x="2490840" y="3474000"/>
              <a:chExt cx="724680" cy="301320"/>
            </a:xfrm>
          </p:grpSpPr>
          <p:sp>
            <p:nvSpPr>
              <p:cNvPr id="821" name=""/>
              <p:cNvSpPr/>
              <p:nvPr/>
            </p:nvSpPr>
            <p:spPr>
              <a:xfrm>
                <a:off x="2490840" y="347400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490840" y="347400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215880" y="3474000"/>
              <a:ext cx="581760" cy="301320"/>
              <a:chOff x="3215880" y="3474000"/>
              <a:chExt cx="581760" cy="301320"/>
            </a:xfrm>
          </p:grpSpPr>
          <p:sp>
            <p:nvSpPr>
              <p:cNvPr id="824" name=""/>
              <p:cNvSpPr/>
              <p:nvPr/>
            </p:nvSpPr>
            <p:spPr>
              <a:xfrm>
                <a:off x="3215880" y="347400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9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15880" y="347400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3798360" y="3474000"/>
              <a:ext cx="826920" cy="301320"/>
              <a:chOff x="3798360" y="3474000"/>
              <a:chExt cx="826920" cy="301320"/>
            </a:xfrm>
          </p:grpSpPr>
          <p:sp>
            <p:nvSpPr>
              <p:cNvPr id="827" name=""/>
              <p:cNvSpPr/>
              <p:nvPr/>
            </p:nvSpPr>
            <p:spPr>
              <a:xfrm>
                <a:off x="3798360" y="34740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98360" y="34740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4625640" y="3474000"/>
              <a:ext cx="826920" cy="301320"/>
              <a:chOff x="4625640" y="3474000"/>
              <a:chExt cx="826920" cy="301320"/>
            </a:xfrm>
          </p:grpSpPr>
          <p:sp>
            <p:nvSpPr>
              <p:cNvPr id="830" name=""/>
              <p:cNvSpPr/>
              <p:nvPr/>
            </p:nvSpPr>
            <p:spPr>
              <a:xfrm>
                <a:off x="4625640" y="34740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25640" y="34740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453280" y="3474000"/>
              <a:ext cx="826560" cy="301320"/>
              <a:chOff x="5453280" y="3474000"/>
              <a:chExt cx="826560" cy="301320"/>
            </a:xfrm>
          </p:grpSpPr>
          <p:sp>
            <p:nvSpPr>
              <p:cNvPr id="833" name=""/>
              <p:cNvSpPr/>
              <p:nvPr/>
            </p:nvSpPr>
            <p:spPr>
              <a:xfrm>
                <a:off x="5453280" y="347400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453280" y="347400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6280200" y="3474000"/>
              <a:ext cx="826920" cy="301320"/>
              <a:chOff x="6280200" y="3474000"/>
              <a:chExt cx="826920" cy="301320"/>
            </a:xfrm>
          </p:grpSpPr>
          <p:sp>
            <p:nvSpPr>
              <p:cNvPr id="836" name=""/>
              <p:cNvSpPr/>
              <p:nvPr/>
            </p:nvSpPr>
            <p:spPr>
              <a:xfrm>
                <a:off x="6280200" y="34740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280200" y="34740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7107840" y="3474000"/>
              <a:ext cx="826920" cy="301320"/>
              <a:chOff x="7107840" y="3474000"/>
              <a:chExt cx="826920" cy="301320"/>
            </a:xfrm>
          </p:grpSpPr>
          <p:sp>
            <p:nvSpPr>
              <p:cNvPr id="839" name=""/>
              <p:cNvSpPr/>
              <p:nvPr/>
            </p:nvSpPr>
            <p:spPr>
              <a:xfrm>
                <a:off x="7107840" y="34740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.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107840" y="34740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7935120" y="3474000"/>
              <a:ext cx="826920" cy="301320"/>
              <a:chOff x="7935120" y="3474000"/>
              <a:chExt cx="826920" cy="301320"/>
            </a:xfrm>
          </p:grpSpPr>
          <p:sp>
            <p:nvSpPr>
              <p:cNvPr id="842" name=""/>
              <p:cNvSpPr/>
              <p:nvPr/>
            </p:nvSpPr>
            <p:spPr>
              <a:xfrm>
                <a:off x="7935120" y="347400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935120" y="347400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09480" y="3775680"/>
              <a:ext cx="1201320" cy="301320"/>
              <a:chOff x="609480" y="3775680"/>
              <a:chExt cx="1201320" cy="301320"/>
            </a:xfrm>
          </p:grpSpPr>
          <p:sp>
            <p:nvSpPr>
              <p:cNvPr id="845" name=""/>
              <p:cNvSpPr/>
              <p:nvPr/>
            </p:nvSpPr>
            <p:spPr>
              <a:xfrm>
                <a:off x="609480" y="377568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09480" y="377568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811160" y="3775680"/>
              <a:ext cx="679320" cy="301320"/>
              <a:chOff x="1811160" y="3775680"/>
              <a:chExt cx="679320" cy="301320"/>
            </a:xfrm>
          </p:grpSpPr>
          <p:sp>
            <p:nvSpPr>
              <p:cNvPr id="848" name=""/>
              <p:cNvSpPr/>
              <p:nvPr/>
            </p:nvSpPr>
            <p:spPr>
              <a:xfrm>
                <a:off x="1811160" y="377568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811160" y="377568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2490840" y="3775680"/>
              <a:ext cx="724680" cy="301320"/>
              <a:chOff x="2490840" y="3775680"/>
              <a:chExt cx="724680" cy="301320"/>
            </a:xfrm>
          </p:grpSpPr>
          <p:sp>
            <p:nvSpPr>
              <p:cNvPr id="851" name=""/>
              <p:cNvSpPr/>
              <p:nvPr/>
            </p:nvSpPr>
            <p:spPr>
              <a:xfrm>
                <a:off x="2490840" y="377568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90840" y="377568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215880" y="3775680"/>
              <a:ext cx="581760" cy="301320"/>
              <a:chOff x="3215880" y="3775680"/>
              <a:chExt cx="581760" cy="301320"/>
            </a:xfrm>
          </p:grpSpPr>
          <p:sp>
            <p:nvSpPr>
              <p:cNvPr id="854" name=""/>
              <p:cNvSpPr/>
              <p:nvPr/>
            </p:nvSpPr>
            <p:spPr>
              <a:xfrm>
                <a:off x="3215880" y="377568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15880" y="377568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3798360" y="3775680"/>
              <a:ext cx="826920" cy="301320"/>
              <a:chOff x="3798360" y="3775680"/>
              <a:chExt cx="826920" cy="301320"/>
            </a:xfrm>
          </p:grpSpPr>
          <p:sp>
            <p:nvSpPr>
              <p:cNvPr id="857" name=""/>
              <p:cNvSpPr/>
              <p:nvPr/>
            </p:nvSpPr>
            <p:spPr>
              <a:xfrm>
                <a:off x="3798360" y="37756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98360" y="37756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4625640" y="3775680"/>
              <a:ext cx="826920" cy="301320"/>
              <a:chOff x="4625640" y="3775680"/>
              <a:chExt cx="826920" cy="301320"/>
            </a:xfrm>
          </p:grpSpPr>
          <p:sp>
            <p:nvSpPr>
              <p:cNvPr id="860" name=""/>
              <p:cNvSpPr/>
              <p:nvPr/>
            </p:nvSpPr>
            <p:spPr>
              <a:xfrm>
                <a:off x="4625640" y="37756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25640" y="37756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5453280" y="3775680"/>
              <a:ext cx="826560" cy="301320"/>
              <a:chOff x="5453280" y="3775680"/>
              <a:chExt cx="826560" cy="301320"/>
            </a:xfrm>
          </p:grpSpPr>
          <p:sp>
            <p:nvSpPr>
              <p:cNvPr id="863" name=""/>
              <p:cNvSpPr/>
              <p:nvPr/>
            </p:nvSpPr>
            <p:spPr>
              <a:xfrm>
                <a:off x="5453280" y="377568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9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453280" y="377568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280200" y="3775680"/>
              <a:ext cx="826920" cy="301320"/>
              <a:chOff x="6280200" y="3775680"/>
              <a:chExt cx="826920" cy="301320"/>
            </a:xfrm>
          </p:grpSpPr>
          <p:sp>
            <p:nvSpPr>
              <p:cNvPr id="866" name=""/>
              <p:cNvSpPr/>
              <p:nvPr/>
            </p:nvSpPr>
            <p:spPr>
              <a:xfrm>
                <a:off x="6280200" y="37756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7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280200" y="37756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7107840" y="3775680"/>
              <a:ext cx="826920" cy="301320"/>
              <a:chOff x="7107840" y="3775680"/>
              <a:chExt cx="826920" cy="301320"/>
            </a:xfrm>
          </p:grpSpPr>
          <p:sp>
            <p:nvSpPr>
              <p:cNvPr id="869" name=""/>
              <p:cNvSpPr/>
              <p:nvPr/>
            </p:nvSpPr>
            <p:spPr>
              <a:xfrm>
                <a:off x="7107840" y="37756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07840" y="37756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7935120" y="3775680"/>
              <a:ext cx="826920" cy="301320"/>
              <a:chOff x="7935120" y="3775680"/>
              <a:chExt cx="826920" cy="301320"/>
            </a:xfrm>
          </p:grpSpPr>
          <p:sp>
            <p:nvSpPr>
              <p:cNvPr id="872" name=""/>
              <p:cNvSpPr/>
              <p:nvPr/>
            </p:nvSpPr>
            <p:spPr>
              <a:xfrm>
                <a:off x="7935120" y="377568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35120" y="377568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609480" y="4077000"/>
              <a:ext cx="1201320" cy="374040"/>
              <a:chOff x="609480" y="4077000"/>
              <a:chExt cx="1201320" cy="374040"/>
            </a:xfrm>
          </p:grpSpPr>
          <p:sp>
            <p:nvSpPr>
              <p:cNvPr id="875" name=""/>
              <p:cNvSpPr/>
              <p:nvPr/>
            </p:nvSpPr>
            <p:spPr>
              <a:xfrm>
                <a:off x="609480" y="4077000"/>
                <a:ext cx="1201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09480" y="4077000"/>
                <a:ext cx="1201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1811160" y="4077000"/>
              <a:ext cx="679320" cy="374040"/>
              <a:chOff x="1811160" y="4077000"/>
              <a:chExt cx="679320" cy="374040"/>
            </a:xfrm>
          </p:grpSpPr>
          <p:sp>
            <p:nvSpPr>
              <p:cNvPr id="878" name=""/>
              <p:cNvSpPr/>
              <p:nvPr/>
            </p:nvSpPr>
            <p:spPr>
              <a:xfrm>
                <a:off x="1811160" y="4077000"/>
                <a:ext cx="679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0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811160" y="4077000"/>
                <a:ext cx="679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490840" y="4077000"/>
              <a:ext cx="724680" cy="374040"/>
              <a:chOff x="2490840" y="4077000"/>
              <a:chExt cx="724680" cy="374040"/>
            </a:xfrm>
          </p:grpSpPr>
          <p:sp>
            <p:nvSpPr>
              <p:cNvPr id="881" name=""/>
              <p:cNvSpPr/>
              <p:nvPr/>
            </p:nvSpPr>
            <p:spPr>
              <a:xfrm>
                <a:off x="2490840" y="4077000"/>
                <a:ext cx="72468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490840" y="4077000"/>
                <a:ext cx="72468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215880" y="4077000"/>
              <a:ext cx="581760" cy="374040"/>
              <a:chOff x="3215880" y="4077000"/>
              <a:chExt cx="581760" cy="374040"/>
            </a:xfrm>
          </p:grpSpPr>
          <p:sp>
            <p:nvSpPr>
              <p:cNvPr id="884" name=""/>
              <p:cNvSpPr/>
              <p:nvPr/>
            </p:nvSpPr>
            <p:spPr>
              <a:xfrm>
                <a:off x="3215880" y="4077000"/>
                <a:ext cx="5817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7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15880" y="4077000"/>
                <a:ext cx="5817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798360" y="4077000"/>
              <a:ext cx="826920" cy="374040"/>
              <a:chOff x="3798360" y="4077000"/>
              <a:chExt cx="826920" cy="374040"/>
            </a:xfrm>
          </p:grpSpPr>
          <p:sp>
            <p:nvSpPr>
              <p:cNvPr id="887" name=""/>
              <p:cNvSpPr/>
              <p:nvPr/>
            </p:nvSpPr>
            <p:spPr>
              <a:xfrm>
                <a:off x="3798360" y="407700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98360" y="407700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4625640" y="4077000"/>
              <a:ext cx="826920" cy="374040"/>
              <a:chOff x="4625640" y="4077000"/>
              <a:chExt cx="826920" cy="374040"/>
            </a:xfrm>
          </p:grpSpPr>
          <p:sp>
            <p:nvSpPr>
              <p:cNvPr id="890" name=""/>
              <p:cNvSpPr/>
              <p:nvPr/>
            </p:nvSpPr>
            <p:spPr>
              <a:xfrm>
                <a:off x="4625640" y="407700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AC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25640" y="407700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5453280" y="4077000"/>
              <a:ext cx="826560" cy="374040"/>
              <a:chOff x="5453280" y="4077000"/>
              <a:chExt cx="826560" cy="374040"/>
            </a:xfrm>
          </p:grpSpPr>
          <p:sp>
            <p:nvSpPr>
              <p:cNvPr id="893" name=""/>
              <p:cNvSpPr/>
              <p:nvPr/>
            </p:nvSpPr>
            <p:spPr>
              <a:xfrm>
                <a:off x="5453280" y="4077000"/>
                <a:ext cx="8265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53280" y="4077000"/>
                <a:ext cx="8265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280200" y="4077000"/>
              <a:ext cx="826920" cy="374040"/>
              <a:chOff x="6280200" y="4077000"/>
              <a:chExt cx="826920" cy="374040"/>
            </a:xfrm>
          </p:grpSpPr>
          <p:sp>
            <p:nvSpPr>
              <p:cNvPr id="896" name=""/>
              <p:cNvSpPr/>
              <p:nvPr/>
            </p:nvSpPr>
            <p:spPr>
              <a:xfrm>
                <a:off x="6280200" y="407700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80200" y="407700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7107840" y="4077000"/>
              <a:ext cx="826920" cy="374040"/>
              <a:chOff x="7107840" y="4077000"/>
              <a:chExt cx="826920" cy="374040"/>
            </a:xfrm>
          </p:grpSpPr>
          <p:sp>
            <p:nvSpPr>
              <p:cNvPr id="899" name=""/>
              <p:cNvSpPr/>
              <p:nvPr/>
            </p:nvSpPr>
            <p:spPr>
              <a:xfrm>
                <a:off x="7107840" y="407700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107840" y="407700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935120" y="4077000"/>
              <a:ext cx="826920" cy="374040"/>
              <a:chOff x="7935120" y="4077000"/>
              <a:chExt cx="826920" cy="374040"/>
            </a:xfrm>
          </p:grpSpPr>
          <p:sp>
            <p:nvSpPr>
              <p:cNvPr id="902" name=""/>
              <p:cNvSpPr/>
              <p:nvPr/>
            </p:nvSpPr>
            <p:spPr>
              <a:xfrm>
                <a:off x="7935120" y="407700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35120" y="407700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609480" y="4451040"/>
              <a:ext cx="1201320" cy="373680"/>
              <a:chOff x="609480" y="4451040"/>
              <a:chExt cx="1201320" cy="373680"/>
            </a:xfrm>
          </p:grpSpPr>
          <p:sp>
            <p:nvSpPr>
              <p:cNvPr id="905" name=""/>
              <p:cNvSpPr/>
              <p:nvPr/>
            </p:nvSpPr>
            <p:spPr>
              <a:xfrm>
                <a:off x="609480" y="4451040"/>
                <a:ext cx="12013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09480" y="4451040"/>
                <a:ext cx="12013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1811160" y="4451040"/>
              <a:ext cx="679320" cy="373680"/>
              <a:chOff x="1811160" y="4451040"/>
              <a:chExt cx="679320" cy="373680"/>
            </a:xfrm>
          </p:grpSpPr>
          <p:sp>
            <p:nvSpPr>
              <p:cNvPr id="908" name=""/>
              <p:cNvSpPr/>
              <p:nvPr/>
            </p:nvSpPr>
            <p:spPr>
              <a:xfrm>
                <a:off x="1811160" y="4451040"/>
                <a:ext cx="6793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1.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811160" y="4451040"/>
                <a:ext cx="6793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2490840" y="4451040"/>
              <a:ext cx="724680" cy="373680"/>
              <a:chOff x="2490840" y="4451040"/>
              <a:chExt cx="724680" cy="373680"/>
            </a:xfrm>
          </p:grpSpPr>
          <p:sp>
            <p:nvSpPr>
              <p:cNvPr id="911" name=""/>
              <p:cNvSpPr/>
              <p:nvPr/>
            </p:nvSpPr>
            <p:spPr>
              <a:xfrm>
                <a:off x="2490840" y="4451040"/>
                <a:ext cx="72468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490840" y="4451040"/>
                <a:ext cx="72468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215880" y="4451040"/>
              <a:ext cx="581760" cy="373680"/>
              <a:chOff x="3215880" y="4451040"/>
              <a:chExt cx="581760" cy="373680"/>
            </a:xfrm>
          </p:grpSpPr>
          <p:sp>
            <p:nvSpPr>
              <p:cNvPr id="914" name=""/>
              <p:cNvSpPr/>
              <p:nvPr/>
            </p:nvSpPr>
            <p:spPr>
              <a:xfrm>
                <a:off x="3215880" y="4451040"/>
                <a:ext cx="58176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15880" y="4451040"/>
                <a:ext cx="58176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798360" y="4451040"/>
              <a:ext cx="826920" cy="373680"/>
              <a:chOff x="3798360" y="4451040"/>
              <a:chExt cx="826920" cy="373680"/>
            </a:xfrm>
          </p:grpSpPr>
          <p:sp>
            <p:nvSpPr>
              <p:cNvPr id="917" name=""/>
              <p:cNvSpPr/>
              <p:nvPr/>
            </p:nvSpPr>
            <p:spPr>
              <a:xfrm>
                <a:off x="3798360" y="445104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98360" y="445104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625640" y="4451040"/>
              <a:ext cx="826920" cy="373680"/>
              <a:chOff x="4625640" y="4451040"/>
              <a:chExt cx="826920" cy="373680"/>
            </a:xfrm>
          </p:grpSpPr>
          <p:sp>
            <p:nvSpPr>
              <p:cNvPr id="920" name=""/>
              <p:cNvSpPr/>
              <p:nvPr/>
            </p:nvSpPr>
            <p:spPr>
              <a:xfrm>
                <a:off x="4625640" y="445104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OW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625640" y="445104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453280" y="4451040"/>
              <a:ext cx="826560" cy="373680"/>
              <a:chOff x="5453280" y="4451040"/>
              <a:chExt cx="826560" cy="373680"/>
            </a:xfrm>
          </p:grpSpPr>
          <p:sp>
            <p:nvSpPr>
              <p:cNvPr id="923" name=""/>
              <p:cNvSpPr/>
              <p:nvPr/>
            </p:nvSpPr>
            <p:spPr>
              <a:xfrm>
                <a:off x="5453280" y="4451040"/>
                <a:ext cx="82656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53280" y="4451040"/>
                <a:ext cx="82656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6280200" y="4451040"/>
              <a:ext cx="826920" cy="373680"/>
              <a:chOff x="6280200" y="4451040"/>
              <a:chExt cx="826920" cy="373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280200" y="445104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280200" y="445104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7107840" y="4451040"/>
              <a:ext cx="826920" cy="373680"/>
              <a:chOff x="7107840" y="4451040"/>
              <a:chExt cx="826920" cy="373680"/>
            </a:xfrm>
          </p:grpSpPr>
          <p:sp>
            <p:nvSpPr>
              <p:cNvPr id="929" name=""/>
              <p:cNvSpPr/>
              <p:nvPr/>
            </p:nvSpPr>
            <p:spPr>
              <a:xfrm>
                <a:off x="7107840" y="445104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,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107840" y="445104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7935120" y="4451040"/>
              <a:ext cx="826920" cy="373680"/>
              <a:chOff x="7935120" y="4451040"/>
              <a:chExt cx="826920" cy="373680"/>
            </a:xfrm>
          </p:grpSpPr>
          <p:sp>
            <p:nvSpPr>
              <p:cNvPr id="932" name=""/>
              <p:cNvSpPr/>
              <p:nvPr/>
            </p:nvSpPr>
            <p:spPr>
              <a:xfrm>
                <a:off x="7935120" y="4451040"/>
                <a:ext cx="82692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35120" y="4451040"/>
                <a:ext cx="826920" cy="37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609480" y="4825080"/>
              <a:ext cx="1201320" cy="374040"/>
              <a:chOff x="609480" y="4825080"/>
              <a:chExt cx="1201320" cy="374040"/>
            </a:xfrm>
          </p:grpSpPr>
          <p:sp>
            <p:nvSpPr>
              <p:cNvPr id="935" name=""/>
              <p:cNvSpPr/>
              <p:nvPr/>
            </p:nvSpPr>
            <p:spPr>
              <a:xfrm>
                <a:off x="609480" y="4825080"/>
                <a:ext cx="1201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09480" y="4825080"/>
                <a:ext cx="1201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1811160" y="4825080"/>
              <a:ext cx="679320" cy="374040"/>
              <a:chOff x="1811160" y="4825080"/>
              <a:chExt cx="679320" cy="374040"/>
            </a:xfrm>
          </p:grpSpPr>
          <p:sp>
            <p:nvSpPr>
              <p:cNvPr id="938" name=""/>
              <p:cNvSpPr/>
              <p:nvPr/>
            </p:nvSpPr>
            <p:spPr>
              <a:xfrm>
                <a:off x="1811160" y="4825080"/>
                <a:ext cx="679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811160" y="4825080"/>
                <a:ext cx="679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2490840" y="4825080"/>
              <a:ext cx="724680" cy="374040"/>
              <a:chOff x="2490840" y="4825080"/>
              <a:chExt cx="724680" cy="374040"/>
            </a:xfrm>
          </p:grpSpPr>
          <p:sp>
            <p:nvSpPr>
              <p:cNvPr id="941" name=""/>
              <p:cNvSpPr/>
              <p:nvPr/>
            </p:nvSpPr>
            <p:spPr>
              <a:xfrm>
                <a:off x="2490840" y="4825080"/>
                <a:ext cx="72468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490840" y="4825080"/>
                <a:ext cx="72468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215880" y="4825080"/>
              <a:ext cx="581760" cy="374040"/>
              <a:chOff x="3215880" y="4825080"/>
              <a:chExt cx="581760" cy="374040"/>
            </a:xfrm>
          </p:grpSpPr>
          <p:sp>
            <p:nvSpPr>
              <p:cNvPr id="944" name=""/>
              <p:cNvSpPr/>
              <p:nvPr/>
            </p:nvSpPr>
            <p:spPr>
              <a:xfrm>
                <a:off x="3215880" y="4825080"/>
                <a:ext cx="5817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5880" y="4825080"/>
                <a:ext cx="5817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3798360" y="4825080"/>
              <a:ext cx="826920" cy="374040"/>
              <a:chOff x="3798360" y="4825080"/>
              <a:chExt cx="826920" cy="374040"/>
            </a:xfrm>
          </p:grpSpPr>
          <p:sp>
            <p:nvSpPr>
              <p:cNvPr id="947" name=""/>
              <p:cNvSpPr/>
              <p:nvPr/>
            </p:nvSpPr>
            <p:spPr>
              <a:xfrm>
                <a:off x="3798360" y="482508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798360" y="482508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4625640" y="4825080"/>
              <a:ext cx="826920" cy="374040"/>
              <a:chOff x="4625640" y="4825080"/>
              <a:chExt cx="826920" cy="374040"/>
            </a:xfrm>
          </p:grpSpPr>
          <p:sp>
            <p:nvSpPr>
              <p:cNvPr id="950" name=""/>
              <p:cNvSpPr/>
              <p:nvPr/>
            </p:nvSpPr>
            <p:spPr>
              <a:xfrm>
                <a:off x="4625640" y="482508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U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25640" y="482508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5453280" y="4825080"/>
              <a:ext cx="826560" cy="374040"/>
              <a:chOff x="5453280" y="4825080"/>
              <a:chExt cx="826560" cy="374040"/>
            </a:xfrm>
          </p:grpSpPr>
          <p:sp>
            <p:nvSpPr>
              <p:cNvPr id="953" name=""/>
              <p:cNvSpPr/>
              <p:nvPr/>
            </p:nvSpPr>
            <p:spPr>
              <a:xfrm>
                <a:off x="5453280" y="4825080"/>
                <a:ext cx="8265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453280" y="4825080"/>
                <a:ext cx="8265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6280200" y="4825080"/>
              <a:ext cx="826920" cy="374040"/>
              <a:chOff x="6280200" y="4825080"/>
              <a:chExt cx="826920" cy="374040"/>
            </a:xfrm>
          </p:grpSpPr>
          <p:sp>
            <p:nvSpPr>
              <p:cNvPr id="956" name=""/>
              <p:cNvSpPr/>
              <p:nvPr/>
            </p:nvSpPr>
            <p:spPr>
              <a:xfrm>
                <a:off x="6280200" y="482508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280200" y="482508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7107840" y="4825080"/>
              <a:ext cx="826920" cy="374040"/>
              <a:chOff x="7107840" y="4825080"/>
              <a:chExt cx="826920" cy="374040"/>
            </a:xfrm>
          </p:grpSpPr>
          <p:sp>
            <p:nvSpPr>
              <p:cNvPr id="959" name=""/>
              <p:cNvSpPr/>
              <p:nvPr/>
            </p:nvSpPr>
            <p:spPr>
              <a:xfrm>
                <a:off x="7107840" y="482508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107840" y="482508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935120" y="4825080"/>
              <a:ext cx="826920" cy="374040"/>
              <a:chOff x="7935120" y="4825080"/>
              <a:chExt cx="826920" cy="374040"/>
            </a:xfrm>
          </p:grpSpPr>
          <p:sp>
            <p:nvSpPr>
              <p:cNvPr id="962" name=""/>
              <p:cNvSpPr/>
              <p:nvPr/>
            </p:nvSpPr>
            <p:spPr>
              <a:xfrm>
                <a:off x="7935120" y="482508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35120" y="482508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609480" y="5199120"/>
              <a:ext cx="1201320" cy="301320"/>
              <a:chOff x="609480" y="5199120"/>
              <a:chExt cx="1201320" cy="301320"/>
            </a:xfrm>
          </p:grpSpPr>
          <p:sp>
            <p:nvSpPr>
              <p:cNvPr id="965" name=""/>
              <p:cNvSpPr/>
              <p:nvPr/>
            </p:nvSpPr>
            <p:spPr>
              <a:xfrm>
                <a:off x="609480" y="519912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480" y="519912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1811160" y="5199120"/>
              <a:ext cx="679320" cy="301320"/>
              <a:chOff x="1811160" y="5199120"/>
              <a:chExt cx="679320" cy="301320"/>
            </a:xfrm>
          </p:grpSpPr>
          <p:sp>
            <p:nvSpPr>
              <p:cNvPr id="968" name=""/>
              <p:cNvSpPr/>
              <p:nvPr/>
            </p:nvSpPr>
            <p:spPr>
              <a:xfrm>
                <a:off x="1811160" y="519912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811160" y="519912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2490840" y="5199120"/>
              <a:ext cx="724680" cy="301320"/>
              <a:chOff x="2490840" y="5199120"/>
              <a:chExt cx="724680" cy="301320"/>
            </a:xfrm>
          </p:grpSpPr>
          <p:sp>
            <p:nvSpPr>
              <p:cNvPr id="971" name=""/>
              <p:cNvSpPr/>
              <p:nvPr/>
            </p:nvSpPr>
            <p:spPr>
              <a:xfrm>
                <a:off x="2490840" y="519912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490840" y="519912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3215880" y="5199120"/>
              <a:ext cx="581760" cy="301320"/>
              <a:chOff x="3215880" y="5199120"/>
              <a:chExt cx="581760" cy="301320"/>
            </a:xfrm>
          </p:grpSpPr>
          <p:sp>
            <p:nvSpPr>
              <p:cNvPr id="974" name=""/>
              <p:cNvSpPr/>
              <p:nvPr/>
            </p:nvSpPr>
            <p:spPr>
              <a:xfrm>
                <a:off x="3215880" y="519912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215880" y="519912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798360" y="5199120"/>
              <a:ext cx="826920" cy="301320"/>
              <a:chOff x="3798360" y="5199120"/>
              <a:chExt cx="826920" cy="301320"/>
            </a:xfrm>
          </p:grpSpPr>
          <p:sp>
            <p:nvSpPr>
              <p:cNvPr id="977" name=""/>
              <p:cNvSpPr/>
              <p:nvPr/>
            </p:nvSpPr>
            <p:spPr>
              <a:xfrm>
                <a:off x="3798360" y="519912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98360" y="519912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4625640" y="5199120"/>
              <a:ext cx="826920" cy="301320"/>
              <a:chOff x="4625640" y="5199120"/>
              <a:chExt cx="826920" cy="301320"/>
            </a:xfrm>
          </p:grpSpPr>
          <p:sp>
            <p:nvSpPr>
              <p:cNvPr id="980" name=""/>
              <p:cNvSpPr/>
              <p:nvPr/>
            </p:nvSpPr>
            <p:spPr>
              <a:xfrm>
                <a:off x="4625640" y="519912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625640" y="519912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453280" y="5199120"/>
              <a:ext cx="826560" cy="301320"/>
              <a:chOff x="5453280" y="5199120"/>
              <a:chExt cx="826560" cy="301320"/>
            </a:xfrm>
          </p:grpSpPr>
          <p:sp>
            <p:nvSpPr>
              <p:cNvPr id="983" name=""/>
              <p:cNvSpPr/>
              <p:nvPr/>
            </p:nvSpPr>
            <p:spPr>
              <a:xfrm>
                <a:off x="5453280" y="519912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,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53280" y="519912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6280200" y="5199120"/>
              <a:ext cx="826920" cy="301320"/>
              <a:chOff x="6280200" y="5199120"/>
              <a:chExt cx="826920" cy="301320"/>
            </a:xfrm>
          </p:grpSpPr>
          <p:sp>
            <p:nvSpPr>
              <p:cNvPr id="986" name=""/>
              <p:cNvSpPr/>
              <p:nvPr/>
            </p:nvSpPr>
            <p:spPr>
              <a:xfrm>
                <a:off x="6280200" y="519912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80200" y="519912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7107840" y="5199120"/>
              <a:ext cx="826920" cy="301320"/>
              <a:chOff x="7107840" y="5199120"/>
              <a:chExt cx="826920" cy="301320"/>
            </a:xfrm>
          </p:grpSpPr>
          <p:sp>
            <p:nvSpPr>
              <p:cNvPr id="989" name=""/>
              <p:cNvSpPr/>
              <p:nvPr/>
            </p:nvSpPr>
            <p:spPr>
              <a:xfrm>
                <a:off x="7107840" y="519912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07840" y="519912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7935120" y="5199120"/>
              <a:ext cx="826920" cy="301320"/>
              <a:chOff x="7935120" y="5199120"/>
              <a:chExt cx="826920" cy="301320"/>
            </a:xfrm>
          </p:grpSpPr>
          <p:sp>
            <p:nvSpPr>
              <p:cNvPr id="992" name=""/>
              <p:cNvSpPr/>
              <p:nvPr/>
            </p:nvSpPr>
            <p:spPr>
              <a:xfrm>
                <a:off x="7935120" y="519912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935120" y="519912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09480" y="5500440"/>
              <a:ext cx="1201320" cy="301320"/>
              <a:chOff x="609480" y="5500440"/>
              <a:chExt cx="1201320" cy="301320"/>
            </a:xfrm>
          </p:grpSpPr>
          <p:sp>
            <p:nvSpPr>
              <p:cNvPr id="995" name=""/>
              <p:cNvSpPr/>
              <p:nvPr/>
            </p:nvSpPr>
            <p:spPr>
              <a:xfrm>
                <a:off x="609480" y="5500440"/>
                <a:ext cx="12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09480" y="5500440"/>
                <a:ext cx="1201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1811160" y="5500440"/>
              <a:ext cx="679320" cy="301320"/>
              <a:chOff x="1811160" y="5500440"/>
              <a:chExt cx="679320" cy="301320"/>
            </a:xfrm>
          </p:grpSpPr>
          <p:sp>
            <p:nvSpPr>
              <p:cNvPr id="998" name=""/>
              <p:cNvSpPr/>
              <p:nvPr/>
            </p:nvSpPr>
            <p:spPr>
              <a:xfrm>
                <a:off x="1811160" y="5500440"/>
                <a:ext cx="67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11160" y="5500440"/>
                <a:ext cx="6793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490840" y="5500440"/>
              <a:ext cx="724680" cy="301320"/>
              <a:chOff x="2490840" y="5500440"/>
              <a:chExt cx="724680" cy="301320"/>
            </a:xfrm>
          </p:grpSpPr>
          <p:sp>
            <p:nvSpPr>
              <p:cNvPr id="1001" name=""/>
              <p:cNvSpPr/>
              <p:nvPr/>
            </p:nvSpPr>
            <p:spPr>
              <a:xfrm>
                <a:off x="2490840" y="5500440"/>
                <a:ext cx="7246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90840" y="5500440"/>
                <a:ext cx="72468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215880" y="5500440"/>
              <a:ext cx="581760" cy="301320"/>
              <a:chOff x="3215880" y="5500440"/>
              <a:chExt cx="581760" cy="301320"/>
            </a:xfrm>
          </p:grpSpPr>
          <p:sp>
            <p:nvSpPr>
              <p:cNvPr id="1004" name=""/>
              <p:cNvSpPr/>
              <p:nvPr/>
            </p:nvSpPr>
            <p:spPr>
              <a:xfrm>
                <a:off x="3215880" y="5500440"/>
                <a:ext cx="581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.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215880" y="5500440"/>
                <a:ext cx="5817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798360" y="5500440"/>
              <a:ext cx="826920" cy="301320"/>
              <a:chOff x="3798360" y="5500440"/>
              <a:chExt cx="826920" cy="301320"/>
            </a:xfrm>
          </p:grpSpPr>
          <p:sp>
            <p:nvSpPr>
              <p:cNvPr id="1007" name=""/>
              <p:cNvSpPr/>
              <p:nvPr/>
            </p:nvSpPr>
            <p:spPr>
              <a:xfrm>
                <a:off x="3798360" y="55004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798360" y="55004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4625640" y="5500440"/>
              <a:ext cx="826920" cy="301320"/>
              <a:chOff x="4625640" y="5500440"/>
              <a:chExt cx="826920" cy="301320"/>
            </a:xfrm>
          </p:grpSpPr>
          <p:sp>
            <p:nvSpPr>
              <p:cNvPr id="1010" name=""/>
              <p:cNvSpPr/>
              <p:nvPr/>
            </p:nvSpPr>
            <p:spPr>
              <a:xfrm>
                <a:off x="4625640" y="55004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AW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625640" y="55004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453280" y="5500440"/>
              <a:ext cx="826560" cy="301320"/>
              <a:chOff x="5453280" y="5500440"/>
              <a:chExt cx="826560" cy="301320"/>
            </a:xfrm>
          </p:grpSpPr>
          <p:sp>
            <p:nvSpPr>
              <p:cNvPr id="1013" name=""/>
              <p:cNvSpPr/>
              <p:nvPr/>
            </p:nvSpPr>
            <p:spPr>
              <a:xfrm>
                <a:off x="5453280" y="5500440"/>
                <a:ext cx="8265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,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453280" y="5500440"/>
                <a:ext cx="82656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6280200" y="5500440"/>
              <a:ext cx="826920" cy="301320"/>
              <a:chOff x="6280200" y="5500440"/>
              <a:chExt cx="826920" cy="301320"/>
            </a:xfrm>
          </p:grpSpPr>
          <p:sp>
            <p:nvSpPr>
              <p:cNvPr id="1016" name=""/>
              <p:cNvSpPr/>
              <p:nvPr/>
            </p:nvSpPr>
            <p:spPr>
              <a:xfrm>
                <a:off x="6280200" y="55004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280200" y="55004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7107840" y="5500440"/>
              <a:ext cx="826920" cy="301320"/>
              <a:chOff x="7107840" y="5500440"/>
              <a:chExt cx="826920" cy="301320"/>
            </a:xfrm>
          </p:grpSpPr>
          <p:sp>
            <p:nvSpPr>
              <p:cNvPr id="1019" name=""/>
              <p:cNvSpPr/>
              <p:nvPr/>
            </p:nvSpPr>
            <p:spPr>
              <a:xfrm>
                <a:off x="7107840" y="55004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6,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07840" y="55004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7935120" y="5500440"/>
              <a:ext cx="826920" cy="301320"/>
              <a:chOff x="7935120" y="5500440"/>
              <a:chExt cx="826920" cy="301320"/>
            </a:xfrm>
          </p:grpSpPr>
          <p:sp>
            <p:nvSpPr>
              <p:cNvPr id="1022" name=""/>
              <p:cNvSpPr/>
              <p:nvPr/>
            </p:nvSpPr>
            <p:spPr>
              <a:xfrm>
                <a:off x="7935120" y="5500440"/>
                <a:ext cx="82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935120" y="5500440"/>
                <a:ext cx="826920" cy="30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09480" y="5801760"/>
              <a:ext cx="1201320" cy="374040"/>
              <a:chOff x="609480" y="5801760"/>
              <a:chExt cx="1201320" cy="374040"/>
            </a:xfrm>
          </p:grpSpPr>
          <p:sp>
            <p:nvSpPr>
              <p:cNvPr id="1025" name=""/>
              <p:cNvSpPr/>
              <p:nvPr/>
            </p:nvSpPr>
            <p:spPr>
              <a:xfrm>
                <a:off x="609480" y="5801760"/>
                <a:ext cx="1201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09480" y="5801760"/>
                <a:ext cx="1201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1811160" y="5801760"/>
              <a:ext cx="679320" cy="374040"/>
              <a:chOff x="1811160" y="5801760"/>
              <a:chExt cx="679320" cy="374040"/>
            </a:xfrm>
          </p:grpSpPr>
          <p:sp>
            <p:nvSpPr>
              <p:cNvPr id="1028" name=""/>
              <p:cNvSpPr/>
              <p:nvPr/>
            </p:nvSpPr>
            <p:spPr>
              <a:xfrm>
                <a:off x="1811160" y="5801760"/>
                <a:ext cx="6793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811160" y="5801760"/>
                <a:ext cx="6793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490840" y="5801760"/>
              <a:ext cx="724680" cy="374040"/>
              <a:chOff x="2490840" y="5801760"/>
              <a:chExt cx="724680" cy="374040"/>
            </a:xfrm>
          </p:grpSpPr>
          <p:sp>
            <p:nvSpPr>
              <p:cNvPr id="1031" name=""/>
              <p:cNvSpPr/>
              <p:nvPr/>
            </p:nvSpPr>
            <p:spPr>
              <a:xfrm>
                <a:off x="2490840" y="5801760"/>
                <a:ext cx="72468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90840" y="5801760"/>
                <a:ext cx="72468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215880" y="5801760"/>
              <a:ext cx="581760" cy="374040"/>
              <a:chOff x="3215880" y="5801760"/>
              <a:chExt cx="581760" cy="374040"/>
            </a:xfrm>
          </p:grpSpPr>
          <p:sp>
            <p:nvSpPr>
              <p:cNvPr id="1034" name=""/>
              <p:cNvSpPr/>
              <p:nvPr/>
            </p:nvSpPr>
            <p:spPr>
              <a:xfrm>
                <a:off x="3215880" y="5801760"/>
                <a:ext cx="5817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215880" y="5801760"/>
                <a:ext cx="5817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3798360" y="5801760"/>
              <a:ext cx="826920" cy="374040"/>
              <a:chOff x="3798360" y="5801760"/>
              <a:chExt cx="826920" cy="374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3798360" y="580176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98360" y="580176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4625640" y="5801760"/>
              <a:ext cx="826920" cy="374040"/>
              <a:chOff x="4625640" y="5801760"/>
              <a:chExt cx="826920" cy="374040"/>
            </a:xfrm>
          </p:grpSpPr>
          <p:sp>
            <p:nvSpPr>
              <p:cNvPr id="1040" name=""/>
              <p:cNvSpPr/>
              <p:nvPr/>
            </p:nvSpPr>
            <p:spPr>
              <a:xfrm>
                <a:off x="4625640" y="580176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625640" y="580176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453280" y="5801760"/>
              <a:ext cx="826560" cy="374040"/>
              <a:chOff x="5453280" y="5801760"/>
              <a:chExt cx="826560" cy="374040"/>
            </a:xfrm>
          </p:grpSpPr>
          <p:sp>
            <p:nvSpPr>
              <p:cNvPr id="1043" name=""/>
              <p:cNvSpPr/>
              <p:nvPr/>
            </p:nvSpPr>
            <p:spPr>
              <a:xfrm>
                <a:off x="5453280" y="5801760"/>
                <a:ext cx="82656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,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53280" y="5801760"/>
                <a:ext cx="82656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6280200" y="5801760"/>
              <a:ext cx="826920" cy="374040"/>
              <a:chOff x="6280200" y="5801760"/>
              <a:chExt cx="826920" cy="374040"/>
            </a:xfrm>
          </p:grpSpPr>
          <p:sp>
            <p:nvSpPr>
              <p:cNvPr id="1046" name=""/>
              <p:cNvSpPr/>
              <p:nvPr/>
            </p:nvSpPr>
            <p:spPr>
              <a:xfrm>
                <a:off x="6280200" y="580176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8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80200" y="580176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7107840" y="5801760"/>
              <a:ext cx="826920" cy="374040"/>
              <a:chOff x="7107840" y="5801760"/>
              <a:chExt cx="826920" cy="374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7107840" y="580176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107840" y="580176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935120" y="5801760"/>
              <a:ext cx="826920" cy="374040"/>
              <a:chOff x="7935120" y="5801760"/>
              <a:chExt cx="826920" cy="374040"/>
            </a:xfrm>
          </p:grpSpPr>
          <p:sp>
            <p:nvSpPr>
              <p:cNvPr id="1052" name=""/>
              <p:cNvSpPr/>
              <p:nvPr/>
            </p:nvSpPr>
            <p:spPr>
              <a:xfrm>
                <a:off x="7935120" y="5801760"/>
                <a:ext cx="82692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35120" y="5801760"/>
                <a:ext cx="826920" cy="37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609480" y="6175800"/>
              <a:ext cx="1201320" cy="300960"/>
              <a:chOff x="609480" y="6175800"/>
              <a:chExt cx="1201320" cy="300960"/>
            </a:xfrm>
          </p:grpSpPr>
          <p:sp>
            <p:nvSpPr>
              <p:cNvPr id="1055" name=""/>
              <p:cNvSpPr/>
              <p:nvPr/>
            </p:nvSpPr>
            <p:spPr>
              <a:xfrm>
                <a:off x="609480" y="6175800"/>
                <a:ext cx="12013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9480" y="6175800"/>
                <a:ext cx="12013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1811160" y="6175800"/>
              <a:ext cx="679320" cy="300960"/>
              <a:chOff x="1811160" y="6175800"/>
              <a:chExt cx="679320" cy="300960"/>
            </a:xfrm>
          </p:grpSpPr>
          <p:sp>
            <p:nvSpPr>
              <p:cNvPr id="1058" name=""/>
              <p:cNvSpPr/>
              <p:nvPr/>
            </p:nvSpPr>
            <p:spPr>
              <a:xfrm>
                <a:off x="1811160" y="6175800"/>
                <a:ext cx="6793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.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811160" y="6175800"/>
                <a:ext cx="6793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490840" y="6175800"/>
              <a:ext cx="724680" cy="300960"/>
              <a:chOff x="2490840" y="6175800"/>
              <a:chExt cx="724680" cy="30096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90840" y="6175800"/>
                <a:ext cx="7246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490840" y="6175800"/>
                <a:ext cx="72468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3215880" y="6175800"/>
              <a:ext cx="581760" cy="300960"/>
              <a:chOff x="3215880" y="6175800"/>
              <a:chExt cx="581760" cy="300960"/>
            </a:xfrm>
          </p:grpSpPr>
          <p:sp>
            <p:nvSpPr>
              <p:cNvPr id="1064" name=""/>
              <p:cNvSpPr/>
              <p:nvPr/>
            </p:nvSpPr>
            <p:spPr>
              <a:xfrm>
                <a:off x="3215880" y="6175800"/>
                <a:ext cx="5817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.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215880" y="6175800"/>
                <a:ext cx="58176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3798360" y="6175800"/>
              <a:ext cx="826920" cy="300960"/>
              <a:chOff x="3798360" y="6175800"/>
              <a:chExt cx="826920" cy="300960"/>
            </a:xfrm>
          </p:grpSpPr>
          <p:sp>
            <p:nvSpPr>
              <p:cNvPr id="1067" name=""/>
              <p:cNvSpPr/>
              <p:nvPr/>
            </p:nvSpPr>
            <p:spPr>
              <a:xfrm>
                <a:off x="3798360" y="617580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798360" y="617580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4625640" y="6175800"/>
              <a:ext cx="826920" cy="300960"/>
              <a:chOff x="4625640" y="6175800"/>
              <a:chExt cx="826920" cy="300960"/>
            </a:xfrm>
          </p:grpSpPr>
          <p:sp>
            <p:nvSpPr>
              <p:cNvPr id="1070" name=""/>
              <p:cNvSpPr/>
              <p:nvPr/>
            </p:nvSpPr>
            <p:spPr>
              <a:xfrm>
                <a:off x="4625640" y="617580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25640" y="617580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5453280" y="6175800"/>
              <a:ext cx="826560" cy="300960"/>
              <a:chOff x="5453280" y="6175800"/>
              <a:chExt cx="826560" cy="300960"/>
            </a:xfrm>
          </p:grpSpPr>
          <p:sp>
            <p:nvSpPr>
              <p:cNvPr id="1073" name=""/>
              <p:cNvSpPr/>
              <p:nvPr/>
            </p:nvSpPr>
            <p:spPr>
              <a:xfrm>
                <a:off x="5453280" y="6175800"/>
                <a:ext cx="8265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,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53280" y="6175800"/>
                <a:ext cx="82656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280200" y="6175800"/>
              <a:ext cx="826920" cy="300960"/>
              <a:chOff x="6280200" y="6175800"/>
              <a:chExt cx="826920" cy="300960"/>
            </a:xfrm>
          </p:grpSpPr>
          <p:sp>
            <p:nvSpPr>
              <p:cNvPr id="1076" name=""/>
              <p:cNvSpPr/>
              <p:nvPr/>
            </p:nvSpPr>
            <p:spPr>
              <a:xfrm>
                <a:off x="6280200" y="617580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280200" y="617580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107840" y="6175800"/>
              <a:ext cx="826920" cy="300960"/>
              <a:chOff x="7107840" y="6175800"/>
              <a:chExt cx="826920" cy="300960"/>
            </a:xfrm>
          </p:grpSpPr>
          <p:sp>
            <p:nvSpPr>
              <p:cNvPr id="1079" name=""/>
              <p:cNvSpPr/>
              <p:nvPr/>
            </p:nvSpPr>
            <p:spPr>
              <a:xfrm>
                <a:off x="7107840" y="617580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,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07840" y="617580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935120" y="6175800"/>
              <a:ext cx="826920" cy="300960"/>
              <a:chOff x="7935120" y="6175800"/>
              <a:chExt cx="826920" cy="300960"/>
            </a:xfrm>
          </p:grpSpPr>
          <p:sp>
            <p:nvSpPr>
              <p:cNvPr id="1082" name=""/>
              <p:cNvSpPr/>
              <p:nvPr/>
            </p:nvSpPr>
            <p:spPr>
              <a:xfrm>
                <a:off x="7935120" y="6175800"/>
                <a:ext cx="8269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,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35120" y="6175800"/>
                <a:ext cx="826920" cy="30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Nowa sieć niwelacji astronomiczno-geodez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1066680"/>
            <a:ext cx="579132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2057400" y="1143000"/>
          <a:ext cx="5562720" cy="539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143000"/>
                    <a:ext cx="556272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rzygotowanie równań obserw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90720" y="1219320"/>
            <a:ext cx="76960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1531800" y="1447920"/>
          <a:ext cx="6621480" cy="49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1447920"/>
                    <a:ext cx="6621480" cy="49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Wy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434240" y="1568520"/>
            <a:ext cx="61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- 165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nktów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astronomiczno – geodezyjnych archiwalnych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45760" y="1905120"/>
            <a:ext cx="62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-   23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nkt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y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astronomiczno – geodezyjnych uzupełniających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46480" y="228600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-     7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nktów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astronomiczno – geodezyjnych kontrolnych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445760" y="260496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- 364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nkt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y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astronomiczno – grawimetrycznych archiwalnych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97080" y="3138480"/>
            <a:ext cx="47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razem  559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unktów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tworzących 1557 linii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Nawiązanie w Borowej Górze N=30.76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666880" y="373392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stopień swobody sieci  998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744640" y="4114800"/>
            <a:ext cx="34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Uzyskane błędy średnie odstęp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przec.    m = 0,08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max.      m = 0,103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pa odstępów geoidy astronomiczno-geodezyjnej od elipso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1968480" y="1484280"/>
            <a:ext cx="61848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5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01120" y="14479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Wykorzystane mod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43960" y="19810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1 -  model „geoida niwelacyjna”  - prof.  E. O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434960" y="236232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2 -  model geoidy                            - prof.  R. Kad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434600" y="2757600"/>
            <a:ext cx="55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3 -  model geoidy                            - prof.  A. Łyszkowi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449000" y="32004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4 -  odstępy wyrówn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1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219320" y="1030320"/>
          <a:ext cx="6933960" cy="544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30320"/>
                    <a:ext cx="693396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2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1219320" y="1046160"/>
          <a:ext cx="7010280" cy="55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46160"/>
                    <a:ext cx="701028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4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1219320" y="1066680"/>
          <a:ext cx="6781680" cy="532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66680"/>
                    <a:ext cx="67816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 wykaz dostępnych dokum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1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T SG WP,  Katalog punktów triangulacji I rzędu Polskiej Rzeczypospolitej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udowej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205740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2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Katalog względnych odchyleń pionu w Polsce, Warszawa 1967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360" y="2438280"/>
            <a:ext cx="85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3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Opracowanie przestrzennego rozkładu względnych odchyleń pionu w Polce,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arszawa 1967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720" y="297180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4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Katalog względnych odchyleń pionu wzdłuż polskiej części bazy triangulacji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atelitarnej,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rszawa 1971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720" y="358632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5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Katalog względnych odchyleń pionu w Polsce, Warszawa 1975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160" y="385452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6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Katalog punktów astronomicznych i szerokości astronomiczne,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rszawa 1975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9080" y="4419720"/>
            <a:ext cx="82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7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Katalog względnych i grawimetrycznych odchyleń pionu wzdłuż polskiej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zęści bazy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iangulacji satelitarnej, Warszawa 1975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160" y="499752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8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Sieć punktów astronomicznych na obszarze PRL w systemie BIH1968/OCI</a:t>
            </a:r>
            <a:br>
              <a:rPr sz="1800"/>
            </a:b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układzie JSAG, Warszawa 1975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9440" y="5576760"/>
            <a:ext cx="88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9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Sieć punktów astronomicznych na obszarze PRL - Suplement, Warszawa 1981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400" y="588168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10.  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GiK,  Katalog względnych odchyleń pionu w Polsce, Warszawa 1981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480" y="6248520"/>
            <a:ext cx="64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Times New Roman"/>
              </a:rPr>
              <a:t>11.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PGiK,  Wykaz punktów astronomicznych na terenie PRL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2-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1219320" y="1055520"/>
          <a:ext cx="6705360" cy="526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55520"/>
                    <a:ext cx="6705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8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1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1257480" y="1066680"/>
          <a:ext cx="6819840" cy="53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1066680"/>
                    <a:ext cx="681984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orównanie z istniejącymi modelami (2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219320" y="1066680"/>
          <a:ext cx="6858000" cy="538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066680"/>
                    <a:ext cx="6858000" cy="53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Wnio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 wyznaczenie długości geografi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2135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71600" y="1371600"/>
            <a:ext cx="6705360" cy="5257800"/>
            <a:chOff x="1371600" y="1371600"/>
            <a:chExt cx="6705360" cy="5257800"/>
          </a:xfrm>
        </p:grpSpPr>
        <p:grpSp>
          <p:nvGrpSpPr>
            <p:cNvPr id="67" name=""/>
            <p:cNvGrpSpPr/>
            <p:nvPr/>
          </p:nvGrpSpPr>
          <p:grpSpPr>
            <a:xfrm>
              <a:off x="1377720" y="1373400"/>
              <a:ext cx="6692400" cy="5253840"/>
              <a:chOff x="1377720" y="1373400"/>
              <a:chExt cx="6692400" cy="52538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377720" y="1373400"/>
                <a:ext cx="5180400" cy="408240"/>
                <a:chOff x="1377720" y="1373400"/>
                <a:chExt cx="5180400" cy="4082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377720" y="1373400"/>
                  <a:ext cx="5180400" cy="408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1377720" y="1373400"/>
                  <a:ext cx="5180040" cy="408240"/>
                  <a:chOff x="1377720" y="1373400"/>
                  <a:chExt cx="5180040" cy="4082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436400" y="1373400"/>
                    <a:ext cx="5061600" cy="408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pok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377720" y="1373400"/>
                    <a:ext cx="5180040" cy="408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"/>
              <p:cNvGrpSpPr/>
              <p:nvPr/>
            </p:nvGrpSpPr>
            <p:grpSpPr>
              <a:xfrm>
                <a:off x="6558480" y="1373400"/>
                <a:ext cx="1511640" cy="408240"/>
                <a:chOff x="6558480" y="1373400"/>
                <a:chExt cx="1511640" cy="4082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58480" y="1373400"/>
                  <a:ext cx="1511640" cy="408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6558480" y="1373400"/>
                  <a:ext cx="1511280" cy="408240"/>
                  <a:chOff x="6558480" y="1373400"/>
                  <a:chExt cx="1511280" cy="4082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6617160" y="1373400"/>
                    <a:ext cx="1392840" cy="408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lość </a:t>
                    </a: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k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558480" y="1373400"/>
                    <a:ext cx="1511280" cy="408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1377720" y="1781640"/>
                <a:ext cx="5180400" cy="302760"/>
                <a:chOff x="1377720" y="1781640"/>
                <a:chExt cx="5180400" cy="3027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436400" y="178164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zed wojn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377720" y="178164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558480" y="1781640"/>
                <a:ext cx="1511640" cy="302760"/>
                <a:chOff x="6558480" y="1781640"/>
                <a:chExt cx="1511640" cy="30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617160" y="178164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558480" y="178164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377720" y="2084400"/>
                <a:ext cx="5180400" cy="302760"/>
                <a:chOff x="1377720" y="2084400"/>
                <a:chExt cx="5180400" cy="3027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436400" y="208440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 wojn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377720" y="208440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558480" y="2084400"/>
                <a:ext cx="1511640" cy="302760"/>
                <a:chOff x="6558480" y="2084400"/>
                <a:chExt cx="1511640" cy="30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617160" y="208440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58480" y="208440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377720" y="2387160"/>
                <a:ext cx="6692400" cy="302760"/>
                <a:chOff x="1377720" y="2387160"/>
                <a:chExt cx="6692400" cy="302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377720" y="2387160"/>
                  <a:ext cx="6692400" cy="3027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1377720" y="2387160"/>
                  <a:ext cx="6692040" cy="302760"/>
                  <a:chOff x="1377720" y="2387160"/>
                  <a:chExt cx="6692040" cy="3027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1436400" y="2387160"/>
                    <a:ext cx="6573600" cy="302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strum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377720" y="2387160"/>
                    <a:ext cx="669204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" name=""/>
              <p:cNvGrpSpPr/>
              <p:nvPr/>
            </p:nvGrpSpPr>
            <p:grpSpPr>
              <a:xfrm>
                <a:off x="1377720" y="2689920"/>
                <a:ext cx="5180400" cy="302760"/>
                <a:chOff x="1377720" y="2689920"/>
                <a:chExt cx="5180400" cy="302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436400" y="268992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skania Werk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77720" y="268992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558480" y="2689920"/>
                <a:ext cx="1511640" cy="302760"/>
                <a:chOff x="6558480" y="2689920"/>
                <a:chExt cx="1511640" cy="302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617160" y="268992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558480" y="268992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377720" y="2993040"/>
                <a:ext cx="5180400" cy="302760"/>
                <a:chOff x="1377720" y="2993040"/>
                <a:chExt cx="5180400" cy="302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436400" y="299304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 2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377720" y="299304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558480" y="2993040"/>
                <a:ext cx="1511640" cy="302760"/>
                <a:chOff x="6558480" y="2993040"/>
                <a:chExt cx="1511640" cy="302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617160" y="299304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558480" y="299304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377720" y="3295800"/>
                <a:ext cx="5180400" cy="302760"/>
                <a:chOff x="1377720" y="3295800"/>
                <a:chExt cx="5180400" cy="302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436400" y="329580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vistoc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377720" y="329580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558480" y="3295800"/>
                <a:ext cx="1511640" cy="302760"/>
                <a:chOff x="6558480" y="3295800"/>
                <a:chExt cx="1511640" cy="302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617160" y="329580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58480" y="329580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377720" y="3598560"/>
                <a:ext cx="5180400" cy="302760"/>
                <a:chOff x="1377720" y="3598560"/>
                <a:chExt cx="5180400" cy="302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436400" y="359856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ld T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77720" y="359856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558480" y="3598560"/>
                <a:ext cx="1511640" cy="302760"/>
                <a:chOff x="6558480" y="3598560"/>
                <a:chExt cx="1511640" cy="302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617160" y="359856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558480" y="359856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377720" y="3901680"/>
                <a:ext cx="5180400" cy="302760"/>
                <a:chOff x="1377720" y="3901680"/>
                <a:chExt cx="5180400" cy="302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436400" y="390168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Zei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77720" y="390168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558480" y="3901680"/>
                <a:ext cx="1511640" cy="302760"/>
                <a:chOff x="6558480" y="3901680"/>
                <a:chExt cx="1511640" cy="302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617160" y="390168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558480" y="390168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377720" y="4204440"/>
                <a:ext cx="5180400" cy="302760"/>
                <a:chOff x="1377720" y="4204440"/>
                <a:chExt cx="5180400" cy="302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436400" y="420444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ak informacji o instrumenc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77720" y="420444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558480" y="4204440"/>
                <a:ext cx="1511640" cy="302760"/>
                <a:chOff x="6558480" y="4204440"/>
                <a:chExt cx="1511640" cy="302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617160" y="420444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558480" y="420444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77720" y="4507200"/>
                <a:ext cx="6692400" cy="302760"/>
                <a:chOff x="1377720" y="4507200"/>
                <a:chExt cx="6692400" cy="3027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77720" y="4507200"/>
                  <a:ext cx="6692400" cy="3027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1377720" y="4507200"/>
                  <a:ext cx="6692040" cy="302760"/>
                  <a:chOff x="1377720" y="4507200"/>
                  <a:chExt cx="6692040" cy="3027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436400" y="4507200"/>
                    <a:ext cx="6573600" cy="302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tod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377720" y="4507200"/>
                    <a:ext cx="669204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377720" y="4809960"/>
                <a:ext cx="5180400" cy="302760"/>
                <a:chOff x="1377720" y="4809960"/>
                <a:chExt cx="5180400" cy="3027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436400" y="480996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Zinge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77720" y="480996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58480" y="4809960"/>
                <a:ext cx="1511640" cy="302760"/>
                <a:chOff x="6558480" y="4809960"/>
                <a:chExt cx="1511640" cy="302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17160" y="480996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58480" y="480996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377720" y="5113080"/>
                <a:ext cx="5180400" cy="302760"/>
                <a:chOff x="1377720" y="5113080"/>
                <a:chExt cx="5180400" cy="302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436400" y="511308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ye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77720" y="511308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558480" y="5113080"/>
                <a:ext cx="1511640" cy="302760"/>
                <a:chOff x="6558480" y="5113080"/>
                <a:chExt cx="1511640" cy="3027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617160" y="511308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58480" y="511308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377720" y="5415840"/>
                <a:ext cx="6692400" cy="302760"/>
                <a:chOff x="1377720" y="5415840"/>
                <a:chExt cx="6692400" cy="302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377720" y="5415840"/>
                  <a:ext cx="6692400" cy="3027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377720" y="5415840"/>
                  <a:ext cx="6692040" cy="302760"/>
                  <a:chOff x="1377720" y="5415840"/>
                  <a:chExt cx="6692040" cy="302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436400" y="5415840"/>
                    <a:ext cx="6573600" cy="302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Katalo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377720" y="5415840"/>
                    <a:ext cx="669204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1377720" y="5718600"/>
                <a:ext cx="5180400" cy="302760"/>
                <a:chOff x="1377720" y="5718600"/>
                <a:chExt cx="5180400" cy="302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436400" y="571860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chelberg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77720" y="571860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558480" y="5718600"/>
                <a:ext cx="1511640" cy="302760"/>
                <a:chOff x="6558480" y="5718600"/>
                <a:chExt cx="1511640" cy="302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617160" y="571860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558480" y="571860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77720" y="6021720"/>
                <a:ext cx="5180400" cy="302760"/>
                <a:chOff x="1377720" y="6021720"/>
                <a:chExt cx="5180400" cy="3027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36400" y="602172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77720" y="602172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558480" y="6021720"/>
                <a:ext cx="1511640" cy="302760"/>
                <a:chOff x="6558480" y="6021720"/>
                <a:chExt cx="1511640" cy="3027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617160" y="602172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558480" y="602172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377720" y="6324480"/>
                <a:ext cx="5180400" cy="302760"/>
                <a:chOff x="1377720" y="6324480"/>
                <a:chExt cx="5180400" cy="302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436400" y="6324480"/>
                  <a:ext cx="5061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77720" y="6324480"/>
                  <a:ext cx="51804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558480" y="6324480"/>
                <a:ext cx="1511640" cy="302760"/>
                <a:chOff x="6558480" y="6324480"/>
                <a:chExt cx="1511640" cy="302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617160" y="6324480"/>
                  <a:ext cx="13932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58480" y="6324480"/>
                  <a:ext cx="15116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1371600" y="1371600"/>
              <a:ext cx="6705360" cy="525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 wyznaczenie szerokości geografi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523880"/>
            <a:ext cx="6857640" cy="5105520"/>
            <a:chOff x="1371600" y="1523880"/>
            <a:chExt cx="6857640" cy="5105520"/>
          </a:xfrm>
        </p:grpSpPr>
        <p:grpSp>
          <p:nvGrpSpPr>
            <p:cNvPr id="177" name=""/>
            <p:cNvGrpSpPr/>
            <p:nvPr/>
          </p:nvGrpSpPr>
          <p:grpSpPr>
            <a:xfrm>
              <a:off x="1377720" y="1525320"/>
              <a:ext cx="6844320" cy="5102280"/>
              <a:chOff x="1377720" y="1525320"/>
              <a:chExt cx="6844320" cy="510228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377720" y="1525320"/>
                <a:ext cx="6844320" cy="251280"/>
                <a:chOff x="1377720" y="1525320"/>
                <a:chExt cx="6844320" cy="251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377720" y="1525320"/>
                  <a:ext cx="6844320" cy="2512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377720" y="1525320"/>
                  <a:ext cx="6843960" cy="251280"/>
                  <a:chOff x="1377720" y="1525320"/>
                  <a:chExt cx="6843960" cy="2512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437120" y="1525320"/>
                    <a:ext cx="6725160" cy="25128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pok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377720" y="1525320"/>
                    <a:ext cx="6843960" cy="25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1377720" y="1776600"/>
                <a:ext cx="3524400" cy="246240"/>
                <a:chOff x="1377720" y="1776600"/>
                <a:chExt cx="3524400" cy="246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437120" y="1776600"/>
                  <a:ext cx="340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zed wojn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77720" y="1776600"/>
                  <a:ext cx="3524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902480" y="1776600"/>
                <a:ext cx="3319560" cy="246240"/>
                <a:chOff x="4902480" y="1776600"/>
                <a:chExt cx="3319560" cy="246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61880" y="1776600"/>
                  <a:ext cx="320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02480" y="1776600"/>
                  <a:ext cx="331956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377720" y="2022840"/>
                <a:ext cx="3524400" cy="246240"/>
                <a:chOff x="1377720" y="2022840"/>
                <a:chExt cx="3524400" cy="246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437120" y="2022840"/>
                  <a:ext cx="340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 wojn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377720" y="2022840"/>
                  <a:ext cx="3524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902480" y="2022840"/>
                <a:ext cx="3319560" cy="246240"/>
                <a:chOff x="4902480" y="2022840"/>
                <a:chExt cx="3319560" cy="246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61880" y="2022840"/>
                  <a:ext cx="320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902480" y="2022840"/>
                  <a:ext cx="331956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377720" y="2269080"/>
                <a:ext cx="6844320" cy="246240"/>
                <a:chOff x="1377720" y="2269080"/>
                <a:chExt cx="6844320" cy="246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377720" y="2269080"/>
                  <a:ext cx="6844320" cy="246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1377720" y="2269080"/>
                  <a:ext cx="6843960" cy="246240"/>
                  <a:chOff x="1377720" y="2269080"/>
                  <a:chExt cx="6843960" cy="2462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437120" y="2269080"/>
                    <a:ext cx="6725160" cy="246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strum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377720" y="2269080"/>
                    <a:ext cx="6843960" cy="246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1377720" y="2515320"/>
                <a:ext cx="3526200" cy="246240"/>
                <a:chOff x="1377720" y="2515320"/>
                <a:chExt cx="3526200" cy="246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437120" y="251532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skania Werk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77720" y="251532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904280" y="2515320"/>
                <a:ext cx="3317400" cy="246240"/>
                <a:chOff x="4904280" y="2515320"/>
                <a:chExt cx="3317400" cy="2462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64040" y="251532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04280" y="251532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377720" y="2761560"/>
                <a:ext cx="3526200" cy="246240"/>
                <a:chOff x="1377720" y="2761560"/>
                <a:chExt cx="3526200" cy="2462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437120" y="276156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 2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377720" y="276156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904280" y="2761560"/>
                <a:ext cx="3317400" cy="246240"/>
                <a:chOff x="4904280" y="2761560"/>
                <a:chExt cx="3317400" cy="246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964040" y="276156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04280" y="276156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377720" y="3007800"/>
                <a:ext cx="3526200" cy="246240"/>
                <a:chOff x="1377720" y="3007800"/>
                <a:chExt cx="3526200" cy="246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437120" y="300780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vistoc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77720" y="300780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904280" y="3007800"/>
                <a:ext cx="3317400" cy="246240"/>
                <a:chOff x="4904280" y="3007800"/>
                <a:chExt cx="3317400" cy="24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964040" y="300780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904280" y="300780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77720" y="3254040"/>
                <a:ext cx="3526200" cy="246240"/>
                <a:chOff x="1377720" y="3254040"/>
                <a:chExt cx="3526200" cy="246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437120" y="325404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ld T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377720" y="325404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904280" y="3254040"/>
                <a:ext cx="3317400" cy="246240"/>
                <a:chOff x="4904280" y="3254040"/>
                <a:chExt cx="3317400" cy="246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964040" y="325404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04280" y="325404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377720" y="3500280"/>
                <a:ext cx="3526200" cy="246240"/>
                <a:chOff x="1377720" y="3500280"/>
                <a:chExt cx="3526200" cy="24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437120" y="350028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chn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377720" y="350028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904280" y="3500280"/>
                <a:ext cx="3317400" cy="246240"/>
                <a:chOff x="4904280" y="3500280"/>
                <a:chExt cx="3317400" cy="2462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964040" y="350028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04280" y="350028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377720" y="3746880"/>
                <a:ext cx="3526200" cy="331920"/>
                <a:chOff x="1377720" y="3746880"/>
                <a:chExt cx="3526200" cy="33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437120" y="3746880"/>
                  <a:ext cx="340740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ak informacji o instrumenc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77720" y="3746880"/>
                  <a:ext cx="35262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904280" y="3746880"/>
                <a:ext cx="3317400" cy="331920"/>
                <a:chOff x="4904280" y="3746880"/>
                <a:chExt cx="3317400" cy="33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964040" y="3746880"/>
                  <a:ext cx="31982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04280" y="3746880"/>
                  <a:ext cx="33174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377720" y="4078800"/>
                <a:ext cx="6844320" cy="246240"/>
                <a:chOff x="1377720" y="4078800"/>
                <a:chExt cx="6844320" cy="24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77720" y="4078800"/>
                  <a:ext cx="6844320" cy="246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1377720" y="4078800"/>
                  <a:ext cx="6843960" cy="246240"/>
                  <a:chOff x="1377720" y="4078800"/>
                  <a:chExt cx="6843960" cy="2462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1437120" y="4078800"/>
                    <a:ext cx="6725160" cy="246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tod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1377720" y="4078800"/>
                    <a:ext cx="6843960" cy="246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1377720" y="4325040"/>
                <a:ext cx="3526200" cy="246240"/>
                <a:chOff x="1377720" y="4325040"/>
                <a:chExt cx="3526200" cy="246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437120" y="432504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ewcow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377720" y="432504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904280" y="4325040"/>
                <a:ext cx="3317400" cy="246240"/>
                <a:chOff x="4904280" y="4325040"/>
                <a:chExt cx="3317400" cy="246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964040" y="432504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904280" y="432504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377720" y="4571640"/>
                <a:ext cx="3526200" cy="246240"/>
                <a:chOff x="1377720" y="4571640"/>
                <a:chExt cx="3526200" cy="2462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1437120" y="457164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ernec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377720" y="457164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904280" y="4571640"/>
                <a:ext cx="3317400" cy="246240"/>
                <a:chOff x="4904280" y="4571640"/>
                <a:chExt cx="3317400" cy="246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964040" y="457164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04280" y="457164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377720" y="4817880"/>
                <a:ext cx="3526200" cy="246240"/>
                <a:chOff x="1377720" y="4817880"/>
                <a:chExt cx="3526200" cy="2462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437120" y="481788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lcot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7720" y="481788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904280" y="4817880"/>
                <a:ext cx="3317400" cy="246240"/>
                <a:chOff x="4904280" y="4817880"/>
                <a:chExt cx="3317400" cy="24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964040" y="481788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04280" y="481788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377720" y="5064120"/>
                <a:ext cx="3526200" cy="331920"/>
                <a:chOff x="1377720" y="5064120"/>
                <a:chExt cx="3526200" cy="331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437120" y="5064120"/>
                  <a:ext cx="340740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ak informacji o metodz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377720" y="5064120"/>
                  <a:ext cx="35262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4280" y="5064120"/>
                <a:ext cx="3317400" cy="331920"/>
                <a:chOff x="4904280" y="5064120"/>
                <a:chExt cx="3317400" cy="331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64040" y="5064120"/>
                  <a:ext cx="31982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4280" y="5064120"/>
                  <a:ext cx="33174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377720" y="5396040"/>
                <a:ext cx="6844320" cy="246240"/>
                <a:chOff x="1377720" y="5396040"/>
                <a:chExt cx="6844320" cy="246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377720" y="5396040"/>
                  <a:ext cx="6844320" cy="24624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377720" y="5396040"/>
                  <a:ext cx="6843960" cy="246240"/>
                  <a:chOff x="1377720" y="5396040"/>
                  <a:chExt cx="6843960" cy="2462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437120" y="5396040"/>
                    <a:ext cx="6725160" cy="24624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Katalo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377720" y="5396040"/>
                    <a:ext cx="6843960" cy="246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1377720" y="5642280"/>
                <a:ext cx="3526200" cy="246240"/>
                <a:chOff x="1377720" y="5642280"/>
                <a:chExt cx="3526200" cy="246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437120" y="564228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G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377720" y="564228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04280" y="5642280"/>
                <a:ext cx="3317400" cy="246240"/>
                <a:chOff x="4904280" y="5642280"/>
                <a:chExt cx="3317400" cy="246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964040" y="564228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04280" y="564228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377720" y="5888880"/>
                <a:ext cx="3526200" cy="246240"/>
                <a:chOff x="1377720" y="5888880"/>
                <a:chExt cx="3526200" cy="246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437120" y="588888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377720" y="588888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04280" y="5888880"/>
                <a:ext cx="3317400" cy="246240"/>
                <a:chOff x="4904280" y="5888880"/>
                <a:chExt cx="3317400" cy="246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64040" y="588888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04280" y="588888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377720" y="6135120"/>
                <a:ext cx="3526200" cy="246240"/>
                <a:chOff x="1377720" y="6135120"/>
                <a:chExt cx="3526200" cy="246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37120" y="613512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377720" y="613512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04280" y="6135120"/>
                <a:ext cx="3317400" cy="246240"/>
                <a:chOff x="4904280" y="6135120"/>
                <a:chExt cx="3317400" cy="246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964040" y="613512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04280" y="613512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377720" y="6381360"/>
                <a:ext cx="3526200" cy="246240"/>
                <a:chOff x="1377720" y="6381360"/>
                <a:chExt cx="3526200" cy="2462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437120" y="6381360"/>
                  <a:ext cx="340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ak informacji o katalog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377720" y="6381360"/>
                  <a:ext cx="35262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04280" y="6381360"/>
                <a:ext cx="3317400" cy="246240"/>
                <a:chOff x="4904280" y="6381360"/>
                <a:chExt cx="3317400" cy="24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964040" y="6381360"/>
                  <a:ext cx="31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04280" y="6381360"/>
                  <a:ext cx="3317400" cy="24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1371600" y="1523880"/>
              <a:ext cx="6857640" cy="510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 wyznaczenie azym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523880" y="1371600"/>
            <a:ext cx="6705360" cy="4343400"/>
            <a:chOff x="1523880" y="1371600"/>
            <a:chExt cx="6705360" cy="4343400"/>
          </a:xfrm>
        </p:grpSpPr>
        <p:grpSp>
          <p:nvGrpSpPr>
            <p:cNvPr id="300" name=""/>
            <p:cNvGrpSpPr/>
            <p:nvPr/>
          </p:nvGrpSpPr>
          <p:grpSpPr>
            <a:xfrm>
              <a:off x="1530000" y="1374120"/>
              <a:ext cx="6692040" cy="4337640"/>
              <a:chOff x="1530000" y="1374120"/>
              <a:chExt cx="6692040" cy="4337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530000" y="1374120"/>
                <a:ext cx="6692040" cy="394200"/>
                <a:chOff x="1530000" y="1374120"/>
                <a:chExt cx="6692040" cy="394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30000" y="1374120"/>
                  <a:ext cx="6692040" cy="3942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1530000" y="1374120"/>
                  <a:ext cx="6691680" cy="394200"/>
                  <a:chOff x="1530000" y="1374120"/>
                  <a:chExt cx="6691680" cy="3942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589760" y="1374120"/>
                    <a:ext cx="6571800" cy="3942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pok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530000" y="1374120"/>
                    <a:ext cx="6691680" cy="39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1530000" y="1768320"/>
                <a:ext cx="2611440" cy="394200"/>
                <a:chOff x="1530000" y="1768320"/>
                <a:chExt cx="2611440" cy="3942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589760" y="176832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zed wojn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530000" y="176832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141800" y="1768320"/>
                <a:ext cx="4080240" cy="394200"/>
                <a:chOff x="4141800" y="1768320"/>
                <a:chExt cx="4080240" cy="3942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201920" y="176832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141800" y="176832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530000" y="2162520"/>
                <a:ext cx="2611440" cy="394200"/>
                <a:chOff x="1530000" y="2162520"/>
                <a:chExt cx="2611440" cy="394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589760" y="216252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 wojn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30000" y="216252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141800" y="2162520"/>
                <a:ext cx="4080240" cy="394200"/>
                <a:chOff x="4141800" y="2162520"/>
                <a:chExt cx="4080240" cy="3942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201920" y="216252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141800" y="216252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530000" y="2557080"/>
                <a:ext cx="6692040" cy="394200"/>
                <a:chOff x="1530000" y="2557080"/>
                <a:chExt cx="6692040" cy="3942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530000" y="2557080"/>
                  <a:ext cx="6692040" cy="3942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1530000" y="2557080"/>
                  <a:ext cx="6691680" cy="394200"/>
                  <a:chOff x="1530000" y="2557080"/>
                  <a:chExt cx="6691680" cy="3942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1589760" y="2557080"/>
                    <a:ext cx="6571800" cy="3942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strum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530000" y="2557080"/>
                    <a:ext cx="6691680" cy="39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" name=""/>
              <p:cNvGrpSpPr/>
              <p:nvPr/>
            </p:nvGrpSpPr>
            <p:grpSpPr>
              <a:xfrm>
                <a:off x="1530000" y="2951280"/>
                <a:ext cx="2611440" cy="394200"/>
                <a:chOff x="1530000" y="2951280"/>
                <a:chExt cx="2611440" cy="3942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589760" y="295128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 2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30000" y="295128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141800" y="2951280"/>
                <a:ext cx="4080240" cy="394200"/>
                <a:chOff x="4141800" y="2951280"/>
                <a:chExt cx="4080240" cy="394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201920" y="295128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141800" y="295128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530000" y="3345840"/>
                <a:ext cx="2611440" cy="394560"/>
                <a:chOff x="1530000" y="3345840"/>
                <a:chExt cx="2611440" cy="394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589760" y="3345840"/>
                  <a:ext cx="24919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ld T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530000" y="3345840"/>
                  <a:ext cx="2611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141800" y="3345840"/>
                <a:ext cx="4080240" cy="394560"/>
                <a:chOff x="4141800" y="3345840"/>
                <a:chExt cx="4080240" cy="3945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201920" y="3345840"/>
                  <a:ext cx="39596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141800" y="3345840"/>
                  <a:ext cx="40802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530000" y="3740400"/>
                <a:ext cx="6692040" cy="394200"/>
                <a:chOff x="1530000" y="3740400"/>
                <a:chExt cx="6692040" cy="394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530000" y="3740400"/>
                  <a:ext cx="6692040" cy="3942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1530000" y="3740400"/>
                  <a:ext cx="6691680" cy="394200"/>
                  <a:chOff x="1530000" y="3740400"/>
                  <a:chExt cx="6691680" cy="3942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1589760" y="3740400"/>
                    <a:ext cx="6571800" cy="3942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tod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530000" y="3740400"/>
                    <a:ext cx="6691680" cy="39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1530000" y="4134600"/>
                <a:ext cx="2611440" cy="394200"/>
                <a:chOff x="1530000" y="4134600"/>
                <a:chExt cx="2611440" cy="3942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589760" y="413460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a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530000" y="413460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41800" y="4134600"/>
                <a:ext cx="4080240" cy="394200"/>
                <a:chOff x="4141800" y="4134600"/>
                <a:chExt cx="4080240" cy="3942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201920" y="413460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41800" y="413460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530000" y="4529160"/>
                <a:ext cx="6692040" cy="394200"/>
                <a:chOff x="1530000" y="4529160"/>
                <a:chExt cx="6692040" cy="3942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530000" y="4529160"/>
                  <a:ext cx="6692040" cy="3942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1530000" y="4529160"/>
                  <a:ext cx="6691680" cy="394200"/>
                  <a:chOff x="1530000" y="4529160"/>
                  <a:chExt cx="6691680" cy="3942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1589760" y="4529160"/>
                    <a:ext cx="6571800" cy="3942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Katalo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530000" y="4529160"/>
                    <a:ext cx="6691680" cy="39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1530000" y="4923360"/>
                <a:ext cx="2611440" cy="394200"/>
                <a:chOff x="1530000" y="4923360"/>
                <a:chExt cx="2611440" cy="3942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589760" y="492336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530000" y="492336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141800" y="4923360"/>
                <a:ext cx="4080240" cy="394200"/>
                <a:chOff x="4141800" y="4923360"/>
                <a:chExt cx="4080240" cy="3942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201920" y="492336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141800" y="492336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530000" y="5317560"/>
                <a:ext cx="2611440" cy="394200"/>
                <a:chOff x="1530000" y="5317560"/>
                <a:chExt cx="2611440" cy="3942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589760" y="5317560"/>
                  <a:ext cx="24919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K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30000" y="5317560"/>
                  <a:ext cx="2611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141800" y="5317560"/>
                <a:ext cx="4080240" cy="394200"/>
                <a:chOff x="4141800" y="5317560"/>
                <a:chExt cx="4080240" cy="394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201920" y="5317560"/>
                  <a:ext cx="3959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141800" y="5317560"/>
                  <a:ext cx="40802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1523880" y="1371600"/>
              <a:ext cx="6705360" cy="434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 punkty astronomiczno-geodez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288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unty astronomiczne do sprawozdania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257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8112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Wszystkie punkty (541) bez numerów" descr=""/>
          <p:cNvPicPr/>
          <p:nvPr/>
        </p:nvPicPr>
        <p:blipFill>
          <a:blip r:embed="rId2"/>
          <a:stretch/>
        </p:blipFill>
        <p:spPr>
          <a:xfrm>
            <a:off x="2362320" y="1820880"/>
            <a:ext cx="4952880" cy="4884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Materiały archiwalne –sieć punktów niwelacji astronomiczno-geodezyjnej i astronomiczno-grawimetry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rojekt obserwacji uzupełniających – punkty obarczone błędami gruby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4920" y="1447920"/>
            <a:ext cx="8610120" cy="5105160"/>
            <a:chOff x="304920" y="1447920"/>
            <a:chExt cx="8610120" cy="5105160"/>
          </a:xfrm>
        </p:grpSpPr>
        <p:grpSp>
          <p:nvGrpSpPr>
            <p:cNvPr id="381" name=""/>
            <p:cNvGrpSpPr/>
            <p:nvPr/>
          </p:nvGrpSpPr>
          <p:grpSpPr>
            <a:xfrm>
              <a:off x="311400" y="1451160"/>
              <a:ext cx="8596440" cy="5098320"/>
              <a:chOff x="311400" y="1451160"/>
              <a:chExt cx="8596440" cy="50983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11400" y="1451160"/>
                <a:ext cx="776520" cy="828360"/>
                <a:chOff x="311400" y="1451160"/>
                <a:chExt cx="776520" cy="828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11400" y="1451160"/>
                  <a:ext cx="77652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311400" y="1451160"/>
                  <a:ext cx="776160" cy="828360"/>
                  <a:chOff x="311400" y="1451160"/>
                  <a:chExt cx="776160" cy="828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47040" y="1451160"/>
                    <a:ext cx="70452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d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11400" y="1451160"/>
                    <a:ext cx="77616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1088280" y="1451160"/>
                <a:ext cx="2315160" cy="828360"/>
                <a:chOff x="1088280" y="1451160"/>
                <a:chExt cx="2315160" cy="8283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088280" y="1451160"/>
                  <a:ext cx="231516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1088280" y="1451160"/>
                  <a:ext cx="2314800" cy="828360"/>
                  <a:chOff x="1088280" y="1451160"/>
                  <a:chExt cx="2314800" cy="82836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123920" y="1451160"/>
                    <a:ext cx="224352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zwa punkt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088280" y="1451160"/>
                    <a:ext cx="231480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3403800" y="1451160"/>
                <a:ext cx="1482480" cy="828360"/>
                <a:chOff x="3403800" y="1451160"/>
                <a:chExt cx="1482480" cy="8283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403800" y="1451160"/>
                  <a:ext cx="148248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3403800" y="1451160"/>
                  <a:ext cx="1482120" cy="828360"/>
                  <a:chOff x="3403800" y="1451160"/>
                  <a:chExt cx="1482120" cy="8283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3439440" y="1451160"/>
                    <a:ext cx="141048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l-P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r arkusza map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403800" y="1451160"/>
                    <a:ext cx="148212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4887000" y="1451160"/>
                <a:ext cx="921600" cy="828360"/>
                <a:chOff x="4887000" y="1451160"/>
                <a:chExt cx="921600" cy="828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887000" y="1451160"/>
                  <a:ext cx="92160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4887000" y="1451160"/>
                  <a:ext cx="921240" cy="828360"/>
                  <a:chOff x="4887000" y="1451160"/>
                  <a:chExt cx="921240" cy="8283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4922640" y="1451160"/>
                    <a:ext cx="84960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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887000" y="1451160"/>
                    <a:ext cx="92124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808960" y="1451160"/>
                <a:ext cx="961200" cy="828360"/>
                <a:chOff x="5808960" y="1451160"/>
                <a:chExt cx="961200" cy="8283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808960" y="1451160"/>
                  <a:ext cx="96120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5808960" y="1451160"/>
                  <a:ext cx="960840" cy="828360"/>
                  <a:chOff x="5808960" y="1451160"/>
                  <a:chExt cx="960840" cy="8283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5844240" y="1451160"/>
                    <a:ext cx="88992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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i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808960" y="1451160"/>
                    <a:ext cx="96084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6770880" y="1451160"/>
                <a:ext cx="871920" cy="828360"/>
                <a:chOff x="6770880" y="1451160"/>
                <a:chExt cx="871920" cy="8283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770880" y="1451160"/>
                  <a:ext cx="87192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6770880" y="1451160"/>
                  <a:ext cx="871560" cy="828360"/>
                  <a:chOff x="6770880" y="1451160"/>
                  <a:chExt cx="871560" cy="8283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6806160" y="1451160"/>
                    <a:ext cx="80100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770880" y="1451160"/>
                    <a:ext cx="87156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7643520" y="1451160"/>
                <a:ext cx="1264320" cy="828360"/>
                <a:chOff x="7643520" y="1451160"/>
                <a:chExt cx="1264320" cy="8283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43520" y="1451160"/>
                  <a:ext cx="1264320" cy="82836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7643520" y="1451160"/>
                  <a:ext cx="1263960" cy="828360"/>
                  <a:chOff x="7643520" y="1451160"/>
                  <a:chExt cx="1263960" cy="82836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7679160" y="1451160"/>
                    <a:ext cx="1192320" cy="8283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i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643520" y="1451160"/>
                    <a:ext cx="1263960" cy="828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" name=""/>
              <p:cNvGrpSpPr/>
              <p:nvPr/>
            </p:nvGrpSpPr>
            <p:grpSpPr>
              <a:xfrm>
                <a:off x="311400" y="2279520"/>
                <a:ext cx="776520" cy="488160"/>
                <a:chOff x="311400" y="2279520"/>
                <a:chExt cx="776520" cy="4881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47040" y="2279520"/>
                  <a:ext cx="7048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11400" y="2279520"/>
                  <a:ext cx="7765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088280" y="2279520"/>
                <a:ext cx="2315160" cy="488160"/>
                <a:chOff x="1088280" y="2279520"/>
                <a:chExt cx="2315160" cy="488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123920" y="2279520"/>
                  <a:ext cx="22438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eszy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088280" y="2279520"/>
                  <a:ext cx="231516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403800" y="2279520"/>
                <a:ext cx="1482480" cy="488160"/>
                <a:chOff x="3403800" y="2279520"/>
                <a:chExt cx="1482480" cy="4881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439440" y="2279520"/>
                  <a:ext cx="141084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-33-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2279520"/>
                  <a:ext cx="148248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887000" y="2279520"/>
                <a:ext cx="921600" cy="488160"/>
                <a:chOff x="4887000" y="2279520"/>
                <a:chExt cx="921600" cy="488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922640" y="2279520"/>
                  <a:ext cx="84996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887000" y="2279520"/>
                  <a:ext cx="92160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5808960" y="2279520"/>
                <a:ext cx="961200" cy="488160"/>
                <a:chOff x="5808960" y="2279520"/>
                <a:chExt cx="961200" cy="4881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844240" y="2279520"/>
                  <a:ext cx="88992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08960" y="2279520"/>
                  <a:ext cx="96120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770880" y="2279520"/>
                <a:ext cx="871920" cy="488160"/>
                <a:chOff x="6770880" y="2279520"/>
                <a:chExt cx="871920" cy="4881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806160" y="2279520"/>
                  <a:ext cx="80136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770880" y="2279520"/>
                  <a:ext cx="8719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7643520" y="2279520"/>
                <a:ext cx="1264320" cy="488160"/>
                <a:chOff x="7643520" y="2279520"/>
                <a:chExt cx="1264320" cy="4881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679160" y="2279520"/>
                  <a:ext cx="11926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43520" y="2279520"/>
                  <a:ext cx="12643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11400" y="2768040"/>
                <a:ext cx="776520" cy="488160"/>
                <a:chOff x="311400" y="2768040"/>
                <a:chExt cx="776520" cy="4881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47040" y="2768040"/>
                  <a:ext cx="7048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1400" y="2768040"/>
                  <a:ext cx="7765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088280" y="2768040"/>
                <a:ext cx="2315160" cy="488160"/>
                <a:chOff x="1088280" y="2768040"/>
                <a:chExt cx="2315160" cy="4881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123920" y="2768040"/>
                  <a:ext cx="22438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óra Do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88280" y="2768040"/>
                  <a:ext cx="231516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403800" y="2768040"/>
                <a:ext cx="1482480" cy="488160"/>
                <a:chOff x="3403800" y="2768040"/>
                <a:chExt cx="1482480" cy="4881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9440" y="2768040"/>
                  <a:ext cx="141084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-34-4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403800" y="2768040"/>
                  <a:ext cx="148248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887000" y="2768040"/>
                <a:ext cx="921600" cy="488160"/>
                <a:chOff x="4887000" y="2768040"/>
                <a:chExt cx="921600" cy="488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922640" y="2768040"/>
                  <a:ext cx="84996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87000" y="2768040"/>
                  <a:ext cx="92160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808960" y="2768040"/>
                <a:ext cx="961200" cy="488160"/>
                <a:chOff x="5808960" y="2768040"/>
                <a:chExt cx="961200" cy="4881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5844240" y="2768040"/>
                  <a:ext cx="88992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08960" y="2768040"/>
                  <a:ext cx="96120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770880" y="2768040"/>
                <a:ext cx="871920" cy="488160"/>
                <a:chOff x="6770880" y="2768040"/>
                <a:chExt cx="871920" cy="4881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806160" y="2768040"/>
                  <a:ext cx="80136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770880" y="2768040"/>
                  <a:ext cx="8719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7643520" y="2768040"/>
                <a:ext cx="1264320" cy="488160"/>
                <a:chOff x="7643520" y="2768040"/>
                <a:chExt cx="1264320" cy="488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679160" y="2768040"/>
                  <a:ext cx="1192680" cy="4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43520" y="2768040"/>
                  <a:ext cx="1264320" cy="48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11400" y="3256560"/>
                <a:ext cx="776520" cy="488520"/>
                <a:chOff x="311400" y="3256560"/>
                <a:chExt cx="776520" cy="4885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7040" y="3256560"/>
                  <a:ext cx="70488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11400" y="3256560"/>
                  <a:ext cx="77652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088280" y="3256560"/>
                <a:ext cx="2315160" cy="488520"/>
                <a:chOff x="1088280" y="3256560"/>
                <a:chExt cx="2315160" cy="488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123920" y="3256560"/>
                  <a:ext cx="224388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088280" y="3256560"/>
                  <a:ext cx="231516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403800" y="3256560"/>
                <a:ext cx="1482480" cy="488520"/>
                <a:chOff x="3403800" y="3256560"/>
                <a:chExt cx="1482480" cy="488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439440" y="3256560"/>
                  <a:ext cx="141084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-34-4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403800" y="3256560"/>
                  <a:ext cx="148248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887000" y="3256560"/>
                <a:ext cx="921600" cy="488520"/>
                <a:chOff x="4887000" y="3256560"/>
                <a:chExt cx="921600" cy="4885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922640" y="3256560"/>
                  <a:ext cx="84996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887000" y="3256560"/>
                  <a:ext cx="92160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808960" y="3256560"/>
                <a:ext cx="961200" cy="488520"/>
                <a:chOff x="5808960" y="3256560"/>
                <a:chExt cx="961200" cy="488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844240" y="3256560"/>
                  <a:ext cx="88992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808960" y="3256560"/>
                  <a:ext cx="96120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770880" y="3256560"/>
                <a:ext cx="871920" cy="488520"/>
                <a:chOff x="6770880" y="3256560"/>
                <a:chExt cx="871920" cy="488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806160" y="3256560"/>
                  <a:ext cx="80136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770880" y="3256560"/>
                  <a:ext cx="87192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643520" y="3256560"/>
                <a:ext cx="1264320" cy="488520"/>
                <a:chOff x="7643520" y="3256560"/>
                <a:chExt cx="1264320" cy="488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679160" y="3256560"/>
                  <a:ext cx="119268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43520" y="3256560"/>
                  <a:ext cx="1264320" cy="48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11400" y="3745080"/>
                <a:ext cx="776520" cy="658440"/>
                <a:chOff x="311400" y="3745080"/>
                <a:chExt cx="776520" cy="6584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47040" y="3745080"/>
                  <a:ext cx="704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1400" y="3745080"/>
                  <a:ext cx="7765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088280" y="3745080"/>
                <a:ext cx="2315160" cy="658440"/>
                <a:chOff x="1088280" y="3745080"/>
                <a:chExt cx="2315160" cy="6584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123920" y="3745080"/>
                  <a:ext cx="2243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łapow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088280" y="3745080"/>
                  <a:ext cx="23151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403800" y="3745080"/>
                <a:ext cx="1482480" cy="658440"/>
                <a:chOff x="3403800" y="3745080"/>
                <a:chExt cx="1482480" cy="658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439440" y="3745080"/>
                  <a:ext cx="14108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-33-14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403800" y="3745080"/>
                  <a:ext cx="14824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887000" y="3745080"/>
                <a:ext cx="921600" cy="658440"/>
                <a:chOff x="4887000" y="3745080"/>
                <a:chExt cx="921600" cy="658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922640" y="3745080"/>
                  <a:ext cx="849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887000" y="3745080"/>
                  <a:ext cx="9216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5808960" y="3745080"/>
                <a:ext cx="961200" cy="658440"/>
                <a:chOff x="5808960" y="3745080"/>
                <a:chExt cx="961200" cy="658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844240" y="3745080"/>
                  <a:ext cx="8899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808960" y="3745080"/>
                  <a:ext cx="9612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770880" y="3745080"/>
                <a:ext cx="871920" cy="658440"/>
                <a:chOff x="6770880" y="3745080"/>
                <a:chExt cx="871920" cy="658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806160" y="3745080"/>
                  <a:ext cx="8013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770880" y="3745080"/>
                  <a:ext cx="871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643520" y="3745080"/>
                <a:ext cx="1264320" cy="658440"/>
                <a:chOff x="7643520" y="3745080"/>
                <a:chExt cx="1264320" cy="6584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679160" y="3745080"/>
                  <a:ext cx="11926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643520" y="3745080"/>
                  <a:ext cx="12643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11400" y="4403520"/>
                <a:ext cx="776520" cy="658440"/>
                <a:chOff x="311400" y="4403520"/>
                <a:chExt cx="776520" cy="6584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47040" y="4403520"/>
                  <a:ext cx="704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1400" y="4403520"/>
                  <a:ext cx="7765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088280" y="4403520"/>
                <a:ext cx="2315160" cy="658440"/>
                <a:chOff x="1088280" y="4403520"/>
                <a:chExt cx="2315160" cy="6584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1123920" y="4403520"/>
                  <a:ext cx="2243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bót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088280" y="4403520"/>
                  <a:ext cx="23151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3403800" y="4403520"/>
                <a:ext cx="1482480" cy="658440"/>
                <a:chOff x="3403800" y="4403520"/>
                <a:chExt cx="1482480" cy="6584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439440" y="4403520"/>
                  <a:ext cx="14108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-33-4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403800" y="4403520"/>
                  <a:ext cx="14824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887000" y="4403520"/>
                <a:ext cx="921600" cy="658440"/>
                <a:chOff x="4887000" y="4403520"/>
                <a:chExt cx="921600" cy="6584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22640" y="4403520"/>
                  <a:ext cx="849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887000" y="4403520"/>
                  <a:ext cx="9216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808960" y="4403520"/>
                <a:ext cx="961200" cy="658440"/>
                <a:chOff x="5808960" y="4403520"/>
                <a:chExt cx="961200" cy="6584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844240" y="4403520"/>
                  <a:ext cx="8899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808960" y="4403520"/>
                  <a:ext cx="9612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770880" y="4403520"/>
                <a:ext cx="871920" cy="658440"/>
                <a:chOff x="6770880" y="4403520"/>
                <a:chExt cx="871920" cy="6584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806160" y="4403520"/>
                  <a:ext cx="8013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70880" y="4403520"/>
                  <a:ext cx="871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7643520" y="4403520"/>
                <a:ext cx="1264320" cy="658440"/>
                <a:chOff x="7643520" y="4403520"/>
                <a:chExt cx="1264320" cy="6584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7679160" y="4403520"/>
                  <a:ext cx="11926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643520" y="4403520"/>
                  <a:ext cx="12643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11400" y="5062320"/>
                <a:ext cx="776520" cy="828360"/>
                <a:chOff x="311400" y="5062320"/>
                <a:chExt cx="776520" cy="8283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47040" y="5062320"/>
                  <a:ext cx="70488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11400" y="5062320"/>
                  <a:ext cx="77652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088280" y="5062320"/>
                <a:ext cx="2315160" cy="828360"/>
                <a:chOff x="1088280" y="5062320"/>
                <a:chExt cx="2315160" cy="8283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23920" y="5062320"/>
                  <a:ext cx="224388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skupska Kupa, centr polsk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088280" y="5062320"/>
                  <a:ext cx="231516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3403800" y="5062320"/>
                <a:ext cx="1482480" cy="828360"/>
                <a:chOff x="3403800" y="5062320"/>
                <a:chExt cx="1482480" cy="828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439440" y="5062320"/>
                  <a:ext cx="141084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-33-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03800" y="5062320"/>
                  <a:ext cx="148248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887000" y="5062320"/>
                <a:ext cx="921600" cy="828360"/>
                <a:chOff x="4887000" y="5062320"/>
                <a:chExt cx="921600" cy="8283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922640" y="5062320"/>
                  <a:ext cx="84996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887000" y="5062320"/>
                  <a:ext cx="92160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5808960" y="5062320"/>
                <a:ext cx="961200" cy="828360"/>
                <a:chOff x="5808960" y="5062320"/>
                <a:chExt cx="961200" cy="8283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844240" y="5062320"/>
                  <a:ext cx="88992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808960" y="5062320"/>
                  <a:ext cx="96120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770880" y="5062320"/>
                <a:ext cx="871920" cy="828360"/>
                <a:chOff x="6770880" y="5062320"/>
                <a:chExt cx="871920" cy="828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806160" y="5062320"/>
                  <a:ext cx="80136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770880" y="5062320"/>
                  <a:ext cx="87192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643520" y="5062320"/>
                <a:ext cx="1264320" cy="828360"/>
                <a:chOff x="7643520" y="5062320"/>
                <a:chExt cx="1264320" cy="828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679160" y="5062320"/>
                  <a:ext cx="119268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643520" y="5062320"/>
                  <a:ext cx="1264320" cy="82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311400" y="5891040"/>
                <a:ext cx="776520" cy="658440"/>
                <a:chOff x="311400" y="5891040"/>
                <a:chExt cx="776520" cy="6584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47040" y="5891040"/>
                  <a:ext cx="704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11400" y="5891040"/>
                  <a:ext cx="7765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088280" y="5891040"/>
                <a:ext cx="2315160" cy="658440"/>
                <a:chOff x="1088280" y="5891040"/>
                <a:chExt cx="2315160" cy="6584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123920" y="5891040"/>
                  <a:ext cx="22438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otrkó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88280" y="5891040"/>
                  <a:ext cx="23151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403800" y="5891040"/>
                <a:ext cx="1482480" cy="658440"/>
                <a:chOff x="3403800" y="5891040"/>
                <a:chExt cx="1482480" cy="658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439440" y="5891040"/>
                  <a:ext cx="14108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-34-3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403800" y="5891040"/>
                  <a:ext cx="14824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887000" y="5891040"/>
                <a:ext cx="921600" cy="658440"/>
                <a:chOff x="4887000" y="5891040"/>
                <a:chExt cx="921600" cy="6584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922640" y="5891040"/>
                  <a:ext cx="849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887000" y="5891040"/>
                  <a:ext cx="9216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808960" y="5891040"/>
                <a:ext cx="961200" cy="658440"/>
                <a:chOff x="5808960" y="5891040"/>
                <a:chExt cx="961200" cy="6584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844240" y="5891040"/>
                  <a:ext cx="8899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808960" y="5891040"/>
                  <a:ext cx="9612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770880" y="5891040"/>
                <a:ext cx="871920" cy="658440"/>
                <a:chOff x="6770880" y="5891040"/>
                <a:chExt cx="871920" cy="6584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806160" y="5891040"/>
                  <a:ext cx="8013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770880" y="5891040"/>
                  <a:ext cx="871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643520" y="5891040"/>
                <a:ext cx="1264320" cy="658440"/>
                <a:chOff x="7643520" y="5891040"/>
                <a:chExt cx="1264320" cy="658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7679160" y="5891040"/>
                  <a:ext cx="119268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43520" y="5891040"/>
                  <a:ext cx="12643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304920" y="1447920"/>
              <a:ext cx="8610120" cy="5105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3880" y="60948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w1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0320" cy="76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828800" y="22860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ff00"/>
                </a:solidFill>
                <a:latin typeface="Arial"/>
              </a:rPr>
              <a:t>NOWA GEOIDA ASTRONOMICZNO–GEODEZYJNA - wstępne wnio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ffcc"/>
                </a:solidFill>
                <a:latin typeface="Arial"/>
              </a:rPr>
              <a:t>Projekt obserwacji uzupełniających – nowe pomierzone pun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05120" y="1371600"/>
            <a:ext cx="54100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24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4:10:27Z</dcterms:created>
  <dc:creator>Instytut Geodezji</dc:creator>
  <dc:description/>
  <dc:language>en-US</dc:language>
  <cp:lastModifiedBy>Lech Kujawa</cp:lastModifiedBy>
  <dcterms:modified xsi:type="dcterms:W3CDTF">2005-06-19T22:17:08Z</dcterms:modified>
  <cp:revision>280</cp:revision>
  <dc:subject/>
  <dc:title>XXIII ZGROMADZENIE GENERALNE MIĘDZYNARODOWEJ UNII GEODEZJI I GEOFIZYKI  Sapporo, 30 czerwca – 11 lipca 2003  Jan Kryński Instytut Geodezji i Kartografii Modzelewskiego 27, 02-679 Warszawa krynski@igik.edu.pl   Komitet Geodezji PAN 14 października 2003 Warszawa </dc:title>
</cp:coreProperties>
</file>