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1260-0BFD-4172-AD6E-6761C8AC3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1ACB-5E1D-4F2E-8E63-4B75A4BA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C617-66AF-42B7-94D1-F55B62B8D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FB70-C978-4826-A98C-1315EA2E2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8BA4-C53D-4531-BEC1-055DF7381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2ABB-686F-4AD2-960A-8C58060B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DE7A-E9AE-4826-9AEC-8360EE04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4E20-4C98-49FA-9B42-3FB221C5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1648-DAD4-4C18-9717-BD413A3E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609C-A2C2-4CE0-B225-924AC0E1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C9912-7B90-4769-9F5F-566AB023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4987-653C-4413-A0DD-1C5F996C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10CF-43ED-48F5-A0A3-03F82054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7570-B06E-481A-BE06-8A5A24FC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2B84-6D0E-4F46-AA5E-E89E6080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4939-2E9C-4C85-A0F2-291275DB9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88E9E-E288-4B09-AA41-64FB698CB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3BDD-7D45-4D40-9C21-54CDF60A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A730-6710-433B-A7A8-76D6005F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FC10-DEFA-4E56-ACA1-F06FA76D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305A-F10E-4973-AB6A-61F5EF62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9CC6-BACF-4624-AF16-D7CF2A1A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705F-3DB1-446C-B34D-7FDC74CB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4CA0-3E4D-4FCE-AAD5-CDCBB8DE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29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9EDC-6358-4AFD-A9E5-70BB7CD4D6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203A-7DF7-495B-8011-C41753DB77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761760"/>
            <a:ext cx="71550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Wykorzystanie protokołu NTRIP w pomiarach geodezyjnych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GP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4218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Jacek Blezień, Jacek Kudrys*, Piotr Zawadzki*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*  Zakład Geodezji i Kartografii, Wydział Geodezji Górniczej i Inżynierii Środowiska AGH Krakó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**4cel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ATELITARNE METODY WYZNACZANIA POZYCJI WE WSPÓŁCZESNEJ GEODEZJI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WIGACJI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3-24 czerwiec 2005 roku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, Poznań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TRIP w Pols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rozmieszczenie2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TRIP w Pols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Opracowanie oprogramowań na telefony komórkowe firmy Motorola do pracy z protokołem NTRIP (4cell System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mobileNtrip – praca z pojedynczymi stacjami referencyjnymi w trybie 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mobileNtripPro – praca z systemami stacji referencyjnych w trybie V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mobileNtripServer – mobilny serwer danych GN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TRIP w Pols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2068560" cy="2286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438280" y="1905120"/>
            <a:ext cx="2087640" cy="2286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648320" y="1905120"/>
            <a:ext cx="2095560" cy="2286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6858000" y="1905120"/>
            <a:ext cx="2076480" cy="2286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228600" y="4267080"/>
            <a:ext cx="2133720" cy="2428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2514600" y="4267080"/>
            <a:ext cx="2106720" cy="24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4724280" y="4267080"/>
            <a:ext cx="2068560" cy="2438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6858000" y="4257720"/>
            <a:ext cx="20685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TRIP za i przeciw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Z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gólna dostępność poprzez Internet przy użyciu połączeń stałych, wdzwanianych, GPRS, EDGE, UM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Możliwość pracy wielu klientów z pojedynczą stacją lub systemem stacji referencyjn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iskie koszty użytkowan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iększy zasięg pomiarowy RT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rzeci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późnienia kore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Brak dostępu do sieci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TRIP za i przeciw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opoznienia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819144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esty pomiarów RT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Testy przeprowadzono na punkcie Polref Zagórze k. Chrzanowa. Wykorzystano korekty ze stacji KRAW0 oraz systemu stacji referencyjnych VRS sieci ASG-P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Czas obserwacji na punkcie wynosił około 1200 epok pomiarowych, czyli około 20 minu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Rysunki prezentują wartości błędów wyznaczenia pozycji oraz gęstość rozkładu przyrostów pozycji w stosunku do prawdziwych współrzędnych wyznaczanego punktu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esty pomiarów RT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olref Zagórze, odbiornik Z-Surveyor, korekty 18/19 ze stacji KRAW0, Caster AGH Kraków, oprogramowanie GNSS Ntrip Radio, laptop z kartą PCMCIA/GPRS, sieć komórkowa IDEA, odległość do stacji około 37 kilometrów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295280" y="2971800"/>
            <a:ext cx="704376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esty pomiarów RT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olref Zagórze, odbiornik Z-Surveyor, korekty 20/21 ze stacji KATORTK, Caster iGate ASG-PL, oprogramowanie GNSS Ntrip Radio, laptop z kartą PCMCIA/GPRS,sieć komórkowa IDEA, odległość do stacji około 34 kilometrów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177156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050406_008" descr=""/>
          <p:cNvPicPr/>
          <p:nvPr/>
        </p:nvPicPr>
        <p:blipFill>
          <a:blip r:embed="rId1"/>
          <a:stretch/>
        </p:blipFill>
        <p:spPr>
          <a:xfrm>
            <a:off x="990720" y="3048120"/>
            <a:ext cx="731520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est pomiarów RT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olref Zag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ó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ze, odbiornik Leica 1200 (firmvare v.2) , korekty 18/19 ze stacji KRAW0, Caster AGH Kraków, oprogramowanie Leica Ntrip, sieć komórkowa  Plus GSM, odległość do stacji około 3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7 kilometró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60488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050413_001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761976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esty pomiarów RT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olref Zagórze, odbiornik Z-Surveyor, korekty 18/19 ze stacji RTCMVRS, Caster iGate ASG-PL, oprogramowanie mobileNtripPro, telefon komórkowy Motorola E398, sieć komórkowa ERA Tak Tak, odległość do stacji około 0.5 metra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177624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050406_010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746784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NTRIP (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Networked Transport of RTCM via Internet Protocol</a:t>
            </a: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rotokół dystrybucji danych GN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Opracowany przez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ndesamt für Kartographie und Geodäsie (BKG)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we Frankfurci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Bazuje na protokołach sieciowych HTTP/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Oparty na oprogramowaniu Icecast (GNU) do rozpowszechniania muzyki w formacie MP3 i Ogg Vorb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Transport strumienia danych od 0.5 do 5 kbit/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esty pomiarów RT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olref Zagórze, odbiornik Leica 530, korekty 18/19 ze stacji RTCMVRS, Caster iGate ASG-PL oprogramowanie mobileNtripPro, telefon Motorola V600, sieć komórkowa PlusGSM. Odległość od stacji około 0.5 metr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16574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050413_004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754380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esty pomiarów DGP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Testy przeprowadzono w oparciu o stacje referencyjne KRAW0, EGNOS08 (stacja wirtualna dla ustalonej pozycji, tworzona przez system MultiNav - konwersja RTCA2RTCM) oraz wirtualne stacje ZYWIDGPS, SIEDDGPS sieci ASG-PL utworzone dla ustalonych pozycji stacji. W tym przypadku najpierw wyznaczono współrzędne w oparciu o korekty RTK ze stacji KRAW0, które później stanowiły odniesienie do pomiarów DGP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Czas obserwacji wynosił około 600 epok pomiarowych, czyli około 10 min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Rysunki  przedstawiają wartości odchyleń wyznaczanych współrzędnych (B,L,h) od ich prawdziwych wartości oraz liczbę obserwowanych satelitów podczas pomiaru</a:t>
            </a:r>
            <a:r>
              <a:rPr b="0" lang="pl-PL" sz="1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esty pomiarów DGP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Odbiornik Z-Surveyor w trybie DGPS, korekty 1,3,18,19,22 ze stacji KRAW0, Caster AGH Kraków oprogramowanie mobileNtripPro, telefon Motorola E398, sieć komórkowa ERA Tak Tak, odległość od stacji około 20 km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173340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050415_kraw0" descr=""/>
          <p:cNvPicPr/>
          <p:nvPr/>
        </p:nvPicPr>
        <p:blipFill>
          <a:blip r:embed="rId1"/>
          <a:stretch/>
        </p:blipFill>
        <p:spPr>
          <a:xfrm>
            <a:off x="1143000" y="2895480"/>
            <a:ext cx="7238880" cy="30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esty pomiarów DGP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dbiornik Z-Surveyor w trybie DGPS, korekty 1,3 ze stacji ZYWIDGPS, Caster iGate ASG-PL, oprogramowanie mobileNtripPro, telefon Motorola E398, sieć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komórkowa ERA Tak Tak, odległość od stacji około 60 k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173340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050415_zywidgps" descr=""/>
          <p:cNvPicPr/>
          <p:nvPr/>
        </p:nvPicPr>
        <p:blipFill>
          <a:blip r:embed="rId1"/>
          <a:stretch/>
        </p:blipFill>
        <p:spPr>
          <a:xfrm>
            <a:off x="1295280" y="2971800"/>
            <a:ext cx="70866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esty pomiarów DGP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dbiornik Z-Surveyor w trybie DGPS, korekty 1,3 ze stacji SIEDDGPS, Caster iGate ASG-PL, oprogramowanie mobileNtripPro, telefon Motorola E398, sieć komórkowa ERA Tak Tak, odległość od stacji około 290 kilometrów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172872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050415_sieddgps" descr=""/>
          <p:cNvPicPr/>
          <p:nvPr/>
        </p:nvPicPr>
        <p:blipFill>
          <a:blip r:embed="rId1"/>
          <a:stretch/>
        </p:blipFill>
        <p:spPr>
          <a:xfrm>
            <a:off x="1143000" y="2971800"/>
            <a:ext cx="7238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esty pomiarów DGP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dbiornik Z-Surveyor w trybie DGPS, korekty 1,3 ze stacji EGNOS08 (Warszawa), Caster Frankfurt IFAG, oprogramowanie mobileNtripPro, telefon Motorola E398, sieć komórkowa ERA Tak Tak, odległość od stacji około 260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kilometró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173844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050415_egnos08" descr=""/>
          <p:cNvPicPr/>
          <p:nvPr/>
        </p:nvPicPr>
        <p:blipFill>
          <a:blip r:embed="rId1"/>
          <a:stretch/>
        </p:blipFill>
        <p:spPr>
          <a:xfrm>
            <a:off x="1219320" y="3048120"/>
            <a:ext cx="72388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owy sposób wykonywania pomiarów RT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Nowy sposób prowadzenia pomiarów RTK związany jest możliwością stawiania tzw. mobilnych stacji referencyjnych wyposażonych w oprogramowanie mobileNtripServer. Schemat pomiaru oraz transmisji danych prezentuje poniższy rysunek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160020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nowyRTK2" descr=""/>
          <p:cNvPicPr/>
          <p:nvPr/>
        </p:nvPicPr>
        <p:blipFill>
          <a:blip r:embed="rId1"/>
          <a:stretch/>
        </p:blipFill>
        <p:spPr>
          <a:xfrm>
            <a:off x="1676520" y="3276720"/>
            <a:ext cx="59436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odsumowani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szechność wykorzystan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większenie zasięgu pomiaru RTK w klasycznym ujęci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astosowanie w systemach stacji referencyjnych V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niżenie kosztów sprzętowych wyposażenia systemów V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żliwość adaptowania do innych zastosowań (np. nawigacja czy śledzenie pojazdów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RI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ziękuje za uwag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TRI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4" name="system" descr=""/>
          <p:cNvPicPr/>
          <p:nvPr/>
        </p:nvPicPr>
        <p:blipFill>
          <a:blip r:embed="rId1"/>
          <a:stretch/>
        </p:blipFill>
        <p:spPr>
          <a:xfrm>
            <a:off x="2792520" y="1828800"/>
            <a:ext cx="31874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TRI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przeplyw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53452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echnologie dystrybucj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Internet łącza sztyw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Mobilny Internet G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ołączenia wdzwaniane CSD, HSCS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GP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M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TRIP a systemy stacji referencyjny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rotokół zaimplementowany w systemie VRS Trimble (RTK i DG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rotokół zaimplementowany w systemie GNSMART firmy GEO++ (RTK i DG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rotokół wykorzystywany w przez oprogramowanie MultiNav firmy EuroNav  (DG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TRIP w Pols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Stacje KRAW i JOZ2 biorą udział w projekcie pilotażowym EUREF-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JOZ20  (1, 3, 16, 18, 19, 22, 3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KRAW0 (1, 3, 16, 18, 19 , 2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Caster na Wydziale Geodezji Górniczej i Inżynierii Środowiska AGH Krakó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KRAW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PGK0 – stacja OPGK Gdańsk (praca podczas pomiarów – różne formaty danych korekcyjnyc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TRIP w Pols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TYCH0 – stacja firmy Nadowski (praca podczas testów –różne formaty danych korekcyjnyc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System VRS sieci ASG-P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tacje wirtualne z korektami RTCM RTK, RTCM DGPS, CMR+ oraz FK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tacje wirtualne dla ustalonych pozycji stacji (RTK ze stacji KATORTK, DGPS ze stacji WODZDGPS, ZYWIDGPS, KLOBDGPS, SIEDDG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TRIP w Pols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Stacje testowe w programie EUREF-IP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LAMA0 – (1, 3, 18, 19, 2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BOGI0 – (3, 18, 19, 2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Stacje programu EGNOS-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EGNOS08 – Warszawa dane korekcyjne z systemu MultiNav RTCA2RTC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09:58:54Z</dcterms:created>
  <dc:creator>Jacek</dc:creator>
  <dc:description/>
  <dc:language>en-US</dc:language>
  <cp:lastModifiedBy>Jacek</cp:lastModifiedBy>
  <dcterms:modified xsi:type="dcterms:W3CDTF">2005-06-22T11:40:41Z</dcterms:modified>
  <cp:revision>15</cp:revision>
  <dc:subject/>
  <dc:title>Wykorzystanie protokołu NTRIP w pomiarach geodezyjnych GPS </dc:title>
</cp:coreProperties>
</file>