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5A4-24B1-47DA-85D1-D6DB239D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B42-05CF-4CBA-850E-C31A03AE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D93-7969-4315-B2CF-0692E92B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630-CEB6-4A8D-BE66-2758A758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4E8-0D14-4255-B318-6A8A5E98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797-87BD-4FB3-8A58-408FFAE7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0D6-F1E3-4305-8E93-AD014262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F11-C13D-4FF6-89B4-97C60B8A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7CB-8F90-4DF5-B3DB-4E4F0C65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7AD-CA1D-47D6-ACD4-AB919DA5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95B-D150-41CA-9CBC-73E08243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C5B-7E1B-4AE3-A5CE-6E741776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5780-8990-40F5-9791-875D9B775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cja permanentna KRAW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aliza wyników z okresu 2003-2004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28951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. Góral, J. Kudr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ademia Górniczo-Hutnicza w Krakow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dział Geodezji Górniczej i Inżynierii Środowi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kład Geodezji i Kartograf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5791320"/>
            <a:ext cx="883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minar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elitarne metody wyznaczania pozycji we współczesnej geodezji i nawigacji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nań, 23 - 24 czerwca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3276720" cy="30290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76920" y="2895480"/>
            <a:ext cx="3276360" cy="3024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asg_plus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486400" cy="4392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łup zainstalowany w czerwcu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tacja uruchomiona w grudniu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łączenie do EPN 27-01-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łączenie do ASG-PL 5-02-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rojekt EUREF-IP 21-05-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SG-PL RTK 31-07-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AC: WUT, GOP, OLG, SUT (EPN), Padua (CERGOP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ktualne produkty st. K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serwacje godzinne, dt = 30 s (EPN) – łączone w pliki dobowe w Centrum Danych (B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serwacje godzinne, dt = 1 s (ASG-PL) – łączone w pliki dobowe w Centrum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prawki RTCM (1,3,16,18,19,22) – transmisja ciągła przez Internet (protokół Ntr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programowanie NtripCaster zainstalowane na stacji KRAW (gps1.geod.agh.edu.pl:21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kraw6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30477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38680" y="2209680"/>
            <a:ext cx="2524320" cy="20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09480" y="5791320"/>
            <a:ext cx="4195800" cy="488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400800" y="5791320"/>
            <a:ext cx="722160" cy="498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543800" y="5791320"/>
            <a:ext cx="830160" cy="498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5105520" y="5791320"/>
            <a:ext cx="90000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2743200"/>
            <a:ext cx="4224240" cy="3813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52480" y="2286000"/>
            <a:ext cx="2371680" cy="1581120"/>
          </a:xfrm>
          <a:prstGeom prst="rect">
            <a:avLst/>
          </a:prstGeom>
          <a:ln w="0">
            <a:noFill/>
          </a:ln>
        </p:spPr>
      </p:pic>
      <p:pic>
        <p:nvPicPr>
          <p:cNvPr id="58" name="ASH701945Ca" descr=""/>
          <p:cNvPicPr/>
          <p:nvPr/>
        </p:nvPicPr>
        <p:blipFill>
          <a:blip r:embed="rId3"/>
          <a:stretch/>
        </p:blipFill>
        <p:spPr>
          <a:xfrm>
            <a:off x="380880" y="3962520"/>
            <a:ext cx="42958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6781680" cy="3051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KRAW_12218M001_OBS_2004b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3057480" cy="254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19720" y="4114800"/>
            <a:ext cx="4076640" cy="212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KRAW_ITRS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2862360" cy="4038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6" name="KRAW_ETRS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2862360" cy="4038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705360" cy="333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20:16:58Z</dcterms:created>
  <dc:creator>wzg</dc:creator>
  <dc:description/>
  <dc:language>en-US</dc:language>
  <cp:lastModifiedBy>Jacek</cp:lastModifiedBy>
  <dcterms:modified xsi:type="dcterms:W3CDTF">2005-06-22T07:43:35Z</dcterms:modified>
  <cp:revision>11</cp:revision>
  <dc:subject/>
  <dc:title>Stacja permanentna KRAW – analiza wyników okresu 2003-2004 </dc:title>
</cp:coreProperties>
</file>