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9B5-A54B-4557-9260-93651D361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9F2-6E72-41B2-90B7-808F2782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0B7-FA64-436D-B4CC-81D96A89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EC7-04E8-442B-A8C6-251C7666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008-8A5B-4F70-88F4-0475A044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4AD-B78A-4D02-99A2-09693F64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41A-569B-4FAE-88E9-B1269DF7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366-6C4E-49C7-8A25-8E28E620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4B5B-2C4F-418C-A196-A19DD88C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537-C160-4960-9A38-2B89102E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6E2-8790-4C3C-BDD2-EA309E53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254-7FD2-4BBF-8077-E2A5EDB4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16B4-662B-49A2-B84B-12015C3A21C5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67320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kty praktyczne i naukowe szeregów czasowych rozwiązań wektoró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P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sieci ASG-P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2349360"/>
            <a:ext cx="52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ładysław Góral, Daniel Jasiurkow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ład Geodezji i Kartograf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dział Geodezji Górniczej i Inżynierii Środowiska A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RAK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73360" y="4559400"/>
            <a:ext cx="5790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INA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TELITARNE METODY WYZNACZANIA POZYCJI  WE WSPÓŁCZESNEJ GEODEZJI I NAWIG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ZNAŃ 23-24.06.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3581280" y="152280"/>
          <a:ext cx="538164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522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581280" y="1752480"/>
          <a:ext cx="5381640" cy="163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7524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581280" y="3352680"/>
          <a:ext cx="5381640" cy="1638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3526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581280" y="4952880"/>
          <a:ext cx="5381640" cy="1638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49528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80880" y="380880"/>
            <a:ext cx="1600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02.04.2005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DOY 092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=3h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=30min.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25909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RAW-ZYWI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KATO-L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80880" y="3565440"/>
            <a:ext cx="2667240" cy="2684880"/>
            <a:chOff x="380880" y="3565440"/>
            <a:chExt cx="2667240" cy="2684880"/>
          </a:xfrm>
        </p:grpSpPr>
        <p:sp>
          <p:nvSpPr>
            <p:cNvPr id="247" name=""/>
            <p:cNvSpPr/>
            <p:nvPr/>
          </p:nvSpPr>
          <p:spPr>
            <a:xfrm>
              <a:off x="914400" y="356544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LO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09680" y="411480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EL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0880" y="5486400"/>
              <a:ext cx="61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O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76520" y="6004080"/>
              <a:ext cx="56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ZYW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38280" y="548640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RA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93840" y="4319640"/>
              <a:ext cx="1080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14680" y="5952960"/>
              <a:ext cx="106200" cy="101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4600" y="5391000"/>
              <a:ext cx="106200" cy="10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47920" y="3733920"/>
              <a:ext cx="106200" cy="10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68400" y="5494320"/>
              <a:ext cx="1062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92280" y="487692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A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08040" y="4878360"/>
              <a:ext cx="1080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8080" y="441972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R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55760" y="4573440"/>
              <a:ext cx="108000" cy="101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752120" y="5410080"/>
              <a:ext cx="838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523880" y="4343040"/>
              <a:ext cx="7621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581280" y="152280"/>
          <a:ext cx="538164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522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581280" y="1752480"/>
          <a:ext cx="5381640" cy="163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7524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581280" y="3352680"/>
          <a:ext cx="5381640" cy="1638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3526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581280" y="4952880"/>
          <a:ext cx="5381640" cy="1638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49528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380880" y="25909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TO-ZYWI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KRAW-L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80880" y="3565440"/>
            <a:ext cx="2667240" cy="2684880"/>
            <a:chOff x="380880" y="3565440"/>
            <a:chExt cx="2667240" cy="2684880"/>
          </a:xfrm>
        </p:grpSpPr>
        <p:sp>
          <p:nvSpPr>
            <p:cNvPr id="277" name=""/>
            <p:cNvSpPr/>
            <p:nvPr/>
          </p:nvSpPr>
          <p:spPr>
            <a:xfrm>
              <a:off x="914400" y="356544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LO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09680" y="411480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EL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0880" y="5486400"/>
              <a:ext cx="61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O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76520" y="6004080"/>
              <a:ext cx="56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ZYW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38280" y="548640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RA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93840" y="4319640"/>
              <a:ext cx="1080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14680" y="5952960"/>
              <a:ext cx="106200" cy="101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14600" y="5391000"/>
              <a:ext cx="106200" cy="10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47920" y="3733920"/>
              <a:ext cx="106200" cy="10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68400" y="5494320"/>
              <a:ext cx="1062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92280" y="487692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A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08040" y="4878360"/>
              <a:ext cx="1080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38080" y="441972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R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355760" y="4573440"/>
              <a:ext cx="108000" cy="101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2285640" y="4419360"/>
              <a:ext cx="304920" cy="99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23880" y="4952880"/>
              <a:ext cx="2286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1752480"/>
            <a:ext cx="883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astosowana metoda poprawiania współrzędnych punktów wyznaczanych na obszarze ograniczonym AS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446800" y="3581280"/>
                <a:ext cx="271152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δP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αΔ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Δ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δP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αΔ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Δ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8001000" y="380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1219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866920" y="1219320"/>
            <a:ext cx="2133720" cy="838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867280" y="380520"/>
            <a:ext cx="205740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117144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228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zypadek pojedynczego wek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981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rzypadek trójkąta wektor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10080" y="10666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924680" y="30492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1320" y="1116000"/>
            <a:ext cx="106200" cy="103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924680" y="111456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81480" y="1828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1z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91320" y="1981080"/>
            <a:ext cx="108000" cy="10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001000" y="2286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2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01000" y="990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00600" y="14479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-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24680" y="60948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-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9144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00800" y="1117440"/>
            <a:ext cx="108000" cy="10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0800" y="1143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00800" y="8380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13716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3886200"/>
            <a:ext cx="990360" cy="2057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352680" y="34290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142640" y="3886200"/>
            <a:ext cx="2133720" cy="838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3809880"/>
            <a:ext cx="3124080" cy="16002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30481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8862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143000" y="3048120"/>
            <a:ext cx="2057400" cy="7617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3838680"/>
            <a:ext cx="2057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2120" y="3657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00400" y="297180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3782880"/>
            <a:ext cx="106560" cy="103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00400" y="378144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4724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1z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464832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8120" y="2666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2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19520" y="3505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40384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19520" y="3200400"/>
            <a:ext cx="53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267080" y="5333760"/>
            <a:ext cx="0" cy="53316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1120" y="5867280"/>
            <a:ext cx="108000" cy="10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14600" y="4267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91120" y="533412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76720" y="3886200"/>
            <a:ext cx="914400" cy="14479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5334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19320" y="3886200"/>
            <a:ext cx="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43000" y="4952880"/>
            <a:ext cx="108000" cy="10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5029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1z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67080" y="4267080"/>
            <a:ext cx="0" cy="10670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419112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91120" y="3962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3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3809880"/>
            <a:ext cx="3124080" cy="457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1219320" y="5029200"/>
            <a:ext cx="3047760" cy="3808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3352680" y="3352320"/>
            <a:ext cx="914400" cy="2057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419112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76720" y="327672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403848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76720" y="3505320"/>
            <a:ext cx="53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556272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464832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91120" y="5867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3z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3124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2z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43000" y="3809880"/>
            <a:ext cx="1752480" cy="381240"/>
          </a:xfrm>
          <a:prstGeom prst="line">
            <a:avLst/>
          </a:prstGeom>
          <a:ln w="63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971440" y="3886200"/>
            <a:ext cx="304920" cy="304920"/>
          </a:xfrm>
          <a:prstGeom prst="line">
            <a:avLst/>
          </a:prstGeom>
          <a:ln w="63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2971440" y="4267080"/>
            <a:ext cx="1219320" cy="1067040"/>
          </a:xfrm>
          <a:prstGeom prst="line">
            <a:avLst/>
          </a:prstGeom>
          <a:ln w="63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280" y="685800"/>
                <a:ext cx="2179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(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δ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2490840" y="838080"/>
                <a:ext cx="2843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(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P</m:t>
                    </m:r>
                    <m:r>
                      <m:t xml:space="preserve">(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δP</m:t>
                    </m:r>
                    <m:r>
                      <m:t xml:space="preserve">(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914400" y="1447920"/>
                <a:ext cx="2797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K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δP</m:t>
                    </m:r>
                    <m:r>
                      <m:t xml:space="preserve">(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8001000" y="380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67280" y="12193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866920" y="1219320"/>
            <a:ext cx="2133720" cy="838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867280" y="380520"/>
            <a:ext cx="205740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67280" y="117144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228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zypadek pojedynczego wekto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1981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Przypadek trójkąta wektor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10666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24680" y="30492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91320" y="1116000"/>
            <a:ext cx="106200" cy="103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24680" y="111456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81480" y="18288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1z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91320" y="1981080"/>
            <a:ext cx="108000" cy="10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01000" y="2286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2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001000" y="990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00600" y="144792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-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924680" y="60948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-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77120" y="9144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1117440"/>
            <a:ext cx="108000" cy="10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00800" y="1143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52280" y="685800"/>
                <a:ext cx="2179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(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δ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490840" y="838080"/>
                <a:ext cx="2843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(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P</m:t>
                    </m:r>
                    <m:r>
                      <m:t xml:space="preserve">(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δP</m:t>
                    </m:r>
                    <m:r>
                      <m:t xml:space="preserve">(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6400800" y="8380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943600" y="13716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5267160" y="3100320"/>
                <a:ext cx="32673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1,2,3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578560" y="4495680"/>
                <a:ext cx="26254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K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bar>
                    <m:r>
                      <m:t xml:space="preserve">+</m:t>
                    </m:r>
                    <m:r>
                      <m:t xml:space="preserve">δP</m:t>
                    </m:r>
                    <m:r>
                      <m:t xml:space="preserve">(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514840" y="3743280"/>
                <a:ext cx="2752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(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α</m:t>
                        </m:r>
                      </m:e>
                    </m:ba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β</m:t>
                        </m:r>
                      </m:e>
                    </m:ba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914400" y="1447920"/>
                <a:ext cx="2797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K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δP</m:t>
                    </m:r>
                    <m:r>
                      <m:t xml:space="preserve">(</m:t>
                    </m:r>
                    <m:r>
                      <m:t xml:space="preserve">h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838080" y="4800600"/>
            <a:ext cx="3124440" cy="457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914040" y="6019920"/>
            <a:ext cx="3048120" cy="3808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09880" y="3505320"/>
            <a:ext cx="990720" cy="2057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54520" y="30481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80520" y="3581280"/>
            <a:ext cx="2133720" cy="838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4800600"/>
            <a:ext cx="3048120" cy="16002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14600" y="27432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880" y="358128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80880" y="2742840"/>
            <a:ext cx="205740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3533760"/>
            <a:ext cx="20574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920" y="3124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2666880"/>
            <a:ext cx="108000" cy="10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3478320"/>
            <a:ext cx="106200" cy="1029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38280" y="3476520"/>
            <a:ext cx="108000" cy="10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44197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1z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441972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05120" y="2438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2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09680" y="3581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81080" y="28954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768920" y="4952880"/>
            <a:ext cx="0" cy="5335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92600" y="548640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6200" y="6324480"/>
            <a:ext cx="108000" cy="10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09880" y="3505320"/>
            <a:ext cx="914400" cy="14475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5268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4876920"/>
            <a:ext cx="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8080" y="594360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60199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1z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5257800"/>
            <a:ext cx="0" cy="106668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5181480"/>
            <a:ext cx="108000" cy="10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3z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3886200" y="2971440"/>
            <a:ext cx="838080" cy="19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778200" y="2895480"/>
            <a:ext cx="108000" cy="10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18148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30481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48320" y="510552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9880" y="556272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14800" y="5410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3z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00400" y="2743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2z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92600" y="492768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78200" y="347976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38080" y="4724280"/>
            <a:ext cx="108000" cy="101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1480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6200" y="6172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95480" y="419112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4267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52280" y="175248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fektywność zastosowanej metody na przykład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 flipV="1">
            <a:off x="152280" y="5333760"/>
            <a:ext cx="2362320" cy="10666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28600" y="3657600"/>
            <a:ext cx="2666880" cy="2666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2514600" y="3657600"/>
            <a:ext cx="380880" cy="1676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28600" y="4952880"/>
            <a:ext cx="2133720" cy="1371600"/>
          </a:xfrm>
          <a:prstGeom prst="line">
            <a:avLst/>
          </a:prstGeom>
          <a:ln w="63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361960" y="3657600"/>
            <a:ext cx="533160" cy="1219320"/>
          </a:xfrm>
          <a:prstGeom prst="line">
            <a:avLst/>
          </a:prstGeom>
          <a:ln w="63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flipV="1">
            <a:off x="2361960" y="4952520"/>
            <a:ext cx="152280" cy="381240"/>
          </a:xfrm>
          <a:prstGeom prst="line">
            <a:avLst/>
          </a:prstGeom>
          <a:ln w="63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63244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D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280" y="6324480"/>
            <a:ext cx="106560" cy="103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63800" y="355608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0" y="5638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525780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828800" y="34290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L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76520" y="46483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0" y="487692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9560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9560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0880" y="304920"/>
            <a:ext cx="1600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02.04.2005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DOY 092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=3h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=30min.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12560" y="128520"/>
            <a:ext cx="68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dchyłki modelowe i prawdziwe dla h w [mm] wyznaczane z KATO, KLOB i WODZ dla stacji T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67080" y="4648320"/>
            <a:ext cx="54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dchyłki po uwzględnieniu poprawek obliczonych dla h w [mm] dla stacji T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7156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3352680" y="380880"/>
          <a:ext cx="5600880" cy="141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80880"/>
                    <a:ext cx="56008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3352680" y="1752480"/>
          <a:ext cx="5600880" cy="1443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752480"/>
                    <a:ext cx="5600880" cy="14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3352680" y="3151080"/>
          <a:ext cx="5600880" cy="1497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3151080"/>
                    <a:ext cx="5600880" cy="14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3352680" y="4952880"/>
          <a:ext cx="5600880" cy="1524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4952880"/>
                    <a:ext cx="56008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 flipV="1">
            <a:off x="152280" y="5333760"/>
            <a:ext cx="2362320" cy="10666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28600" y="3657600"/>
            <a:ext cx="2666880" cy="2666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2514600" y="3657600"/>
            <a:ext cx="380880" cy="1676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28600" y="4952880"/>
            <a:ext cx="2133720" cy="1371600"/>
          </a:xfrm>
          <a:prstGeom prst="line">
            <a:avLst/>
          </a:prstGeom>
          <a:ln w="63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361960" y="3657600"/>
            <a:ext cx="533160" cy="1219320"/>
          </a:xfrm>
          <a:prstGeom prst="line">
            <a:avLst/>
          </a:prstGeom>
          <a:ln w="63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361960" y="4952520"/>
            <a:ext cx="152280" cy="381240"/>
          </a:xfrm>
          <a:prstGeom prst="line">
            <a:avLst/>
          </a:prstGeom>
          <a:ln w="63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04920" y="63244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D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280" y="6324480"/>
            <a:ext cx="106560" cy="103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63800" y="355608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86000" y="5638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438280" y="525780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34290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L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76520" y="46483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0" y="487692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304920"/>
            <a:ext cx="1600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03.04.2005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DOY 092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=3h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=30min.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08440" y="4572000"/>
            <a:ext cx="490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Średnie odchyłki po uwzględnieniu poprawek obliczonych dla h w [mm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 wyznaczeń z KATO, KLOB i WODZ z 02-03.04.2005 dla stacji T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1468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71468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71468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352680" y="382680"/>
          <a:ext cx="5562720" cy="136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82680"/>
                    <a:ext cx="5562720" cy="13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3352680" y="1724040"/>
          <a:ext cx="5562720" cy="140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724040"/>
                    <a:ext cx="556272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3352680" y="3124080"/>
          <a:ext cx="5562720" cy="1371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3124080"/>
                    <a:ext cx="55627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3352680" y="5029200"/>
          <a:ext cx="5562720" cy="16002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5029200"/>
                    <a:ext cx="55627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2212560" y="128520"/>
            <a:ext cx="68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dchyłki modelowe i prawdziwe dla h w [mm] wyznaczane z KATO, KLOB i WODZ dla stacji T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 flipV="1">
            <a:off x="152280" y="5333760"/>
            <a:ext cx="2362320" cy="10666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28600" y="3657600"/>
            <a:ext cx="2666880" cy="2666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2514600" y="3657600"/>
            <a:ext cx="380880" cy="1676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28600" y="4952880"/>
            <a:ext cx="2133720" cy="1371600"/>
          </a:xfrm>
          <a:prstGeom prst="line">
            <a:avLst/>
          </a:prstGeom>
          <a:ln w="63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2361960" y="3657600"/>
            <a:ext cx="533160" cy="1219320"/>
          </a:xfrm>
          <a:prstGeom prst="line">
            <a:avLst/>
          </a:prstGeom>
          <a:ln w="63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2361960" y="4952520"/>
            <a:ext cx="152280" cy="381240"/>
          </a:xfrm>
          <a:prstGeom prst="line">
            <a:avLst/>
          </a:prstGeom>
          <a:ln w="63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920" y="63244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D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2280" y="6324480"/>
            <a:ext cx="106560" cy="103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63800" y="355608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86000" y="5638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38280" y="525780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34290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LO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6483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0" y="4876920"/>
            <a:ext cx="108000" cy="101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0880" y="304920"/>
            <a:ext cx="160020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2.10.2004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DOY 296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=3h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=30min.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(06:00-18: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22400" y="258840"/>
            <a:ext cx="473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dchyłki modelowe i prawdziwe z wyznaczeń wektorów dla h w [m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666880" y="3276720"/>
            <a:ext cx="653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dchyłki prawdziwe z wyznaczeń i odchyłki po uwzględnieniu poprawek modelowych dla h [m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956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162240" y="666720"/>
          <a:ext cx="5753160" cy="253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2240" y="666720"/>
                    <a:ext cx="575316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3162240" y="3657600"/>
          <a:ext cx="5753160" cy="2381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2240" y="3657600"/>
                    <a:ext cx="575316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991440" y="2209680"/>
            <a:ext cx="73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dsumowanie, wnioski i litera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533520"/>
            <a:ext cx="8153280" cy="57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lan prezentacj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brane dobowe ciągi rozwiązań wektorów GPS w sieci ASG, ich analiza na przykłada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04.10.200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DOY 278)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=3h,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=10min. h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05.11.2003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DOY 309)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=3h,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=30min. h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02.04.2005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DOY 092)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=3h,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=30min. h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stosowana metoda poprawiania współrzędnych punktów wyznaczanych na obszarze ograniczonym A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Efektywność zastosowanej metody na przykład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02.04.2005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DOY 092)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=3h,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=30min. h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03.04.2005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DOY 092)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=3h,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=30min. h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22.10.2004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DOY 296)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=3h, </a:t>
            </a: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=30min. h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06:00-18: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sumowanie, wnioski i lit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457200" y="3962520"/>
            <a:ext cx="815328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[1]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ryński J., Cisak J. 2000, Preliminary analysis of the GPS derived vector Borowa Góra – Józefosław, Procedings of the Institute of Geodesy and Cartography, Warsaw, Poland, Vol. XLVII, N100, pp. 35-5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[2]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ryński J., Zanimonskiy Y. M., 2003, Analiza zmienności w ciągach rozwiązań GPS i ciągach obserwacji grawimetrycznych, Seria monogr. Nr 8, IGiK, Warszaw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304920"/>
            <a:ext cx="8153280" cy="36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sumowanie i wniosk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ybrane dobowe ciągi rozwiązań wektorów GPS wykazują wygładzający charakter rozwiązań przy użyciu efemerydy precyzyjnej w stosunku do efemerydy pokładowe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uważono podobieństwa trendów rozwiązań wektorów o podobnych azymut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analiz szeregów czasowych rozwiązań wektorów wynika prawidłowość w rozkładzie odchyłek wyznaczeń punktów na obszarze ograniczonym ASG, którą można modelować w zaproponowany sposó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stosowana metoda poprawia do 70% dokładność wyznaczenia składowych wektorów na obszarze ograniczonym siecią A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75248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ybrane dobowe ciągi rozwiązań wektorów GPS w sieci ASG, ich analiza na przykład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25909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TO-K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80880"/>
            <a:ext cx="1600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04.10.2004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DOY 278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=3h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=10min.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581280" y="1752480"/>
          <a:ext cx="538164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7524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581280" y="3352680"/>
          <a:ext cx="5381640" cy="163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3526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581280" y="4952880"/>
          <a:ext cx="5381640" cy="1638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49528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581280" y="152280"/>
          <a:ext cx="5381640" cy="1638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1522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" name=""/>
          <p:cNvGrpSpPr/>
          <p:nvPr/>
        </p:nvGrpSpPr>
        <p:grpSpPr>
          <a:xfrm>
            <a:off x="380880" y="3565440"/>
            <a:ext cx="2667240" cy="2684880"/>
            <a:chOff x="380880" y="3565440"/>
            <a:chExt cx="2667240" cy="2684880"/>
          </a:xfrm>
        </p:grpSpPr>
        <p:sp>
          <p:nvSpPr>
            <p:cNvPr id="72" name=""/>
            <p:cNvSpPr/>
            <p:nvPr/>
          </p:nvSpPr>
          <p:spPr>
            <a:xfrm>
              <a:off x="914400" y="356544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LO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09680" y="411480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EL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0880" y="5486400"/>
              <a:ext cx="61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O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76520" y="6004080"/>
              <a:ext cx="56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ZYW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38280" y="548640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RA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93840" y="4319640"/>
              <a:ext cx="1080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14680" y="5952960"/>
              <a:ext cx="106200" cy="101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5391000"/>
              <a:ext cx="106200" cy="10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47920" y="3733920"/>
              <a:ext cx="106200" cy="10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68400" y="5494320"/>
              <a:ext cx="1062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0200" y="472428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A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08040" y="4878360"/>
              <a:ext cx="1080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8080" y="441972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R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55760" y="4573440"/>
              <a:ext cx="108000" cy="101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23880" y="4952880"/>
              <a:ext cx="10670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581280" y="152280"/>
          <a:ext cx="538164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522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581280" y="1752480"/>
          <a:ext cx="5381640" cy="163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7524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581280" y="3352680"/>
          <a:ext cx="5381640" cy="1638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3526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581280" y="4952880"/>
          <a:ext cx="5381640" cy="1638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49528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80880" y="25909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TO-L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0880" y="3565440"/>
            <a:ext cx="2667240" cy="2684880"/>
            <a:chOff x="380880" y="3565440"/>
            <a:chExt cx="2667240" cy="2684880"/>
          </a:xfrm>
        </p:grpSpPr>
        <p:sp>
          <p:nvSpPr>
            <p:cNvPr id="100" name=""/>
            <p:cNvSpPr/>
            <p:nvPr/>
          </p:nvSpPr>
          <p:spPr>
            <a:xfrm>
              <a:off x="914400" y="356544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LO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09680" y="411480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EL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880" y="5486400"/>
              <a:ext cx="61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O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76520" y="6004080"/>
              <a:ext cx="56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ZYW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548640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RA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93840" y="4319640"/>
              <a:ext cx="1080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14680" y="5952960"/>
              <a:ext cx="106200" cy="101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5391000"/>
              <a:ext cx="106200" cy="10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7920" y="3733920"/>
              <a:ext cx="106200" cy="10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68400" y="5494320"/>
              <a:ext cx="1062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92280" y="487692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A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08040" y="4878360"/>
              <a:ext cx="1080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080" y="441972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R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55760" y="4573440"/>
              <a:ext cx="108000" cy="101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523880" y="434304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581280" y="152280"/>
          <a:ext cx="538164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522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581280" y="1752480"/>
          <a:ext cx="5381640" cy="163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7524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581280" y="3352680"/>
          <a:ext cx="5381640" cy="1638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3526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581280" y="4952880"/>
          <a:ext cx="5381640" cy="1638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49528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80880" y="25909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LO-KR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80880" y="3565440"/>
            <a:ext cx="2667240" cy="2684880"/>
            <a:chOff x="380880" y="3565440"/>
            <a:chExt cx="2667240" cy="2684880"/>
          </a:xfrm>
        </p:grpSpPr>
        <p:sp>
          <p:nvSpPr>
            <p:cNvPr id="129" name=""/>
            <p:cNvSpPr/>
            <p:nvPr/>
          </p:nvSpPr>
          <p:spPr>
            <a:xfrm>
              <a:off x="914400" y="356544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LO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09680" y="411480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EL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5486400"/>
              <a:ext cx="61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O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76520" y="6004080"/>
              <a:ext cx="56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ZYW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8280" y="548640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RA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93840" y="4319640"/>
              <a:ext cx="1080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4680" y="5952960"/>
              <a:ext cx="106200" cy="101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5391000"/>
              <a:ext cx="106200" cy="10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47920" y="3733920"/>
              <a:ext cx="106200" cy="10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68400" y="5494320"/>
              <a:ext cx="1062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92280" y="487692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A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08040" y="4878360"/>
              <a:ext cx="1080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8080" y="441972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R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55760" y="4573440"/>
              <a:ext cx="108000" cy="101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86000" y="4419720"/>
              <a:ext cx="30492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581280" y="152280"/>
          <a:ext cx="538164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522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581280" y="1752480"/>
          <a:ext cx="5381640" cy="163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7524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581280" y="3352680"/>
          <a:ext cx="5381640" cy="1638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3526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581280" y="4952880"/>
          <a:ext cx="5381640" cy="1638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49528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80880" y="25909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RAW-K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380880"/>
            <a:ext cx="1600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05.11.2003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DOY 309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=3h,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=30min.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2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3565440"/>
            <a:ext cx="2667240" cy="2684880"/>
            <a:chOff x="380880" y="3565440"/>
            <a:chExt cx="2667240" cy="2684880"/>
          </a:xfrm>
        </p:grpSpPr>
        <p:sp>
          <p:nvSpPr>
            <p:cNvPr id="159" name=""/>
            <p:cNvSpPr/>
            <p:nvPr/>
          </p:nvSpPr>
          <p:spPr>
            <a:xfrm>
              <a:off x="914400" y="356544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LO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09680" y="411480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EL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0880" y="5486400"/>
              <a:ext cx="61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O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76520" y="6004080"/>
              <a:ext cx="56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ZYW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38280" y="548640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RA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93840" y="4319640"/>
              <a:ext cx="1080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4680" y="5952960"/>
              <a:ext cx="106200" cy="101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14600" y="5391000"/>
              <a:ext cx="106200" cy="10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47920" y="3733920"/>
              <a:ext cx="106200" cy="10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68400" y="5494320"/>
              <a:ext cx="1062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0200" y="472428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A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08040" y="4878360"/>
              <a:ext cx="1080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8080" y="441972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R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55760" y="4573440"/>
              <a:ext cx="108000" cy="101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1600200" y="4952880"/>
              <a:ext cx="9907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3581280" y="152280"/>
          <a:ext cx="538164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522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581280" y="1752480"/>
          <a:ext cx="5381640" cy="163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7524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581280" y="3352680"/>
          <a:ext cx="5381640" cy="1638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3526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581280" y="4952880"/>
          <a:ext cx="5381640" cy="1638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49528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380880" y="25909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TO-ZYW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880" y="3565440"/>
            <a:ext cx="2667240" cy="2684880"/>
            <a:chOff x="380880" y="3565440"/>
            <a:chExt cx="2667240" cy="2684880"/>
          </a:xfrm>
        </p:grpSpPr>
        <p:sp>
          <p:nvSpPr>
            <p:cNvPr id="188" name=""/>
            <p:cNvSpPr/>
            <p:nvPr/>
          </p:nvSpPr>
          <p:spPr>
            <a:xfrm>
              <a:off x="914400" y="356544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LO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09680" y="411480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EL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5486400"/>
              <a:ext cx="61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O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76520" y="6004080"/>
              <a:ext cx="56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ZYW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8280" y="548640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RA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93840" y="4319640"/>
              <a:ext cx="1080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14680" y="5952960"/>
              <a:ext cx="106200" cy="101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14600" y="5391000"/>
              <a:ext cx="106200" cy="10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47920" y="3733920"/>
              <a:ext cx="106200" cy="10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68400" y="5494320"/>
              <a:ext cx="1062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92280" y="487692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A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08040" y="4878360"/>
              <a:ext cx="1080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8080" y="441972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R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55760" y="4573440"/>
              <a:ext cx="108000" cy="101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0200" y="4952880"/>
              <a:ext cx="15228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3581280" y="152280"/>
          <a:ext cx="538164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522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581280" y="1752480"/>
          <a:ext cx="5381640" cy="1638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7524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581280" y="3352680"/>
          <a:ext cx="5381640" cy="1638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3526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581280" y="4952880"/>
          <a:ext cx="5381640" cy="1638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4952880"/>
                    <a:ext cx="538164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380880" y="25909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RAW-ZYW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81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80880" y="3565440"/>
            <a:ext cx="2667240" cy="2684880"/>
            <a:chOff x="380880" y="3565440"/>
            <a:chExt cx="2667240" cy="2684880"/>
          </a:xfrm>
        </p:grpSpPr>
        <p:sp>
          <p:nvSpPr>
            <p:cNvPr id="217" name=""/>
            <p:cNvSpPr/>
            <p:nvPr/>
          </p:nvSpPr>
          <p:spPr>
            <a:xfrm>
              <a:off x="914400" y="356544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LO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09680" y="411480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EL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0880" y="5486400"/>
              <a:ext cx="61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OD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6520" y="6004080"/>
              <a:ext cx="56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ZYW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38280" y="548640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RA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93840" y="4319640"/>
              <a:ext cx="1080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14680" y="5952960"/>
              <a:ext cx="106200" cy="101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14600" y="5391000"/>
              <a:ext cx="106200" cy="10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7920" y="3733920"/>
              <a:ext cx="106200" cy="10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68400" y="5494320"/>
              <a:ext cx="1062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92280" y="487692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KA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08040" y="4878360"/>
              <a:ext cx="108000" cy="101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8080" y="4419720"/>
              <a:ext cx="54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R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55760" y="4573440"/>
              <a:ext cx="108000" cy="101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752120" y="5410080"/>
              <a:ext cx="83844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08:45:59Z</dcterms:created>
  <dc:creator>AGH</dc:creator>
  <dc:description/>
  <dc:language>en-US</dc:language>
  <cp:lastModifiedBy>AGH</cp:lastModifiedBy>
  <dcterms:modified xsi:type="dcterms:W3CDTF">2005-06-21T09:51:33Z</dcterms:modified>
  <cp:revision>64</cp:revision>
  <dc:subject/>
  <dc:title>Prezentacja programu PowerPoint</dc:title>
</cp:coreProperties>
</file>