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6BC-A9A6-40EF-BC89-1A75CBE7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1EC-BB2A-4562-AD50-4EF00F43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61D-5E10-4ECD-9DEC-01E1E8FA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98E-2A4D-4C28-966E-5188A76A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25C-3CD4-4A6F-96B2-8B707D1F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CEA-D22E-42EF-A755-03F643F0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96F-3FF1-46F2-BAC5-29A7118D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A30-AC4E-4106-AA9C-5D4579EE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FAD-77D8-4A8C-B9F1-A0EE12CF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995-6D7B-424A-BE0B-99B28202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F2D-955F-49C2-82DB-A3DE529C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BAA-F433-4F22-B83D-8D9128D0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37ED-7FF1-4A38-B65D-ABEAFB6D2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4280" y="-1684440"/>
            <a:ext cx="9407520" cy="9506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0" y="4941720"/>
            <a:ext cx="928800" cy="115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3680" y="1125360"/>
            <a:ext cx="821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kreślanie wektorów prędkośc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 przyspieszenia statk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 systemie GPS/DG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6840" y="4292640"/>
            <a:ext cx="4309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drzej BANACHOWI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atedra Nawig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kademia Morska w Gdy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59320" y="364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672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63640" y="4365720"/>
            <a:ext cx="300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ównani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+ żyrokomp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 + żyrokom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8000" y="549360"/>
            <a:ext cx="3483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59320" y="364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7240" y="294876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9760" y="692280"/>
            <a:ext cx="8904240" cy="5405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364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7240" y="294876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63960" y="333360"/>
            <a:ext cx="61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równanie V: DGPS vs. wielomian(DG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3280" y="907920"/>
            <a:ext cx="86407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00092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6280" y="571680"/>
            <a:ext cx="819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44280" y="-1684440"/>
            <a:ext cx="9407520" cy="9506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3640" y="105264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rzedział </a:t>
            </a:r>
            <a:r>
              <a:rPr b="0" i="1" lang="pl-PL" sz="3600" spc="-1" strike="noStrike">
                <a:solidFill>
                  <a:srgbClr val="ffff00"/>
                </a:solidFill>
                <a:latin typeface="Arial"/>
              </a:rPr>
              <a:t>dt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dyskretyzacji pomiaró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GPS/DGPS wpływa istotnie 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dokładność obliczanych prędkoś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i przyspieszeń (odtwarzan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kładowych wolnozmiennych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i="1" lang="pl-PL" sz="3600" spc="-1" strike="noStrike">
                <a:solidFill>
                  <a:srgbClr val="ffff00"/>
                </a:solidFill>
                <a:latin typeface="Arial"/>
              </a:rPr>
              <a:t>tw. Shann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odobny wpływ ma dokładnoś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i precyzja samych pomiaró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spółrzędny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44280" y="-1684440"/>
            <a:ext cx="9407520" cy="9506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16000" y="907920"/>
            <a:ext cx="748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- Zbyt długi okres wygładz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również prowadzi do zafałszo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wyników, np. na cyrkulacj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W układach integrujących pomi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GPS/DGPS oraz DR/INS osiąga si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bardzo dobre rezultaty estymacj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parametrów trajektorii oraz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prędkości i przyspiesze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0517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80912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163520" cy="143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66200" y="1773360"/>
            <a:ext cx="62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ZIĘKUJĘ  ZA  UWAG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8320" y="1268280"/>
            <a:ext cx="73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rem (trajektorią) punktu materialne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przedzial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azywamy obraz zbioru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rz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dwzorowan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824120" y="2924280"/>
                <a:ext cx="51354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∋</m:t>
                    </m:r>
                    <m:r>
                      <m:t xml:space="preserve">t</m:t>
                    </m:r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03640" y="4653000"/>
                <a:ext cx="2592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9440" y="429264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j. zbió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92720" y="4175280"/>
            <a:ext cx="3851280" cy="268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907920"/>
            <a:ext cx="82202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Aby wyznaczyć ruch punktu materialne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musimy  znać  postać  odwzoro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opisującego tor (dwukrotnie różniczkowalneg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Może to być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równanie wektorowe krzywej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równanie parametryczne krzywej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równanie krzywej w układzie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ortokartezjańsk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225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98520" y="1052640"/>
            <a:ext cx="3597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ktorem prędkoś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unktu materialne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 chwili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nazyw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chodn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276720" y="3213000"/>
                <a:ext cx="27352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260000" y="4869000"/>
            <a:ext cx="681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est to wektor styczny do krzywej (toru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64240" y="0"/>
            <a:ext cx="3479760" cy="242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19280" y="765000"/>
            <a:ext cx="3600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zyspieszeni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azywamy pochodn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ędkości wzglę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zasu, czyli drug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chodną promi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odząceg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987640" y="4076640"/>
                <a:ext cx="35276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8880" y="1773360"/>
            <a:ext cx="7619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zy pomiarach w systemach pozycyjn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GPS/DGPS) z czasem dyskretnym nie zn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staci funkcji opisującej tor, a tylko punk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a tym torze obarczone błędami pomiar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 zakłóceniami ruch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7280" y="1916280"/>
            <a:ext cx="69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ędkość (chwilowa) mierzona jest 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cą logów i kompasó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 pomiarach tych oprócz błędów losowych występują istotne błędy systematycz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42600" y="1628640"/>
            <a:ext cx="632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yspieszenie mierzone jest 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ykorzystaniem akceleromet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z kompasó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 tym przypadku najistotniejsz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źródłem błędów jest dry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celerometró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59320" y="364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zdkol1" descr=""/>
          <p:cNvPicPr/>
          <p:nvPr/>
        </p:nvPicPr>
        <p:blipFill>
          <a:blip r:embed="rId1"/>
          <a:stretch/>
        </p:blipFill>
        <p:spPr>
          <a:xfrm>
            <a:off x="6273720" y="333360"/>
            <a:ext cx="220680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81080" y="4149720"/>
            <a:ext cx="285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ównanie 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+ żyrokom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38973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20:51:14Z</dcterms:created>
  <dc:creator>Banachowicz</dc:creator>
  <dc:description/>
  <dc:language>en-US</dc:language>
  <cp:lastModifiedBy>Banachowicz</cp:lastModifiedBy>
  <dcterms:modified xsi:type="dcterms:W3CDTF">2005-06-22T11:46:37Z</dcterms:modified>
  <cp:revision>50</cp:revision>
  <dc:subject/>
  <dc:title>Slajd 1</dc:title>
</cp:coreProperties>
</file>