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A272-4875-4DF1-906C-27BC06D5C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652B-AA2E-4098-ABF7-10FC56652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EE1F-7FC1-42CC-8A00-FB9B1E4B6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EFF8-C853-4113-895E-A4828BFCB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8FF29-57A2-4BFD-B152-511B462E3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93390-16E1-4114-943F-EDAA825CB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BA6E0-51C0-4DE2-A038-6E64420E1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6D829-BC39-462E-BEF8-3CD96185F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FDCD8-07FF-4954-80ED-5E5EDE16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8AB80-F0BD-4865-A07E-5A5B8DCED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8D693-AEA8-458A-A37E-5DA8490D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C3EF-EDFB-48DF-90E1-C7D8FF603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65465-6089-4B23-95F4-3552DA71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B8327-4EB6-4131-B05B-932C21FC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22B83-1003-474A-974B-D8E8F527C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7E37C-6649-49D4-9AB2-4F8893F86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6F901-0713-4BDB-8C40-24FA44914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0580-AB4D-48F1-B46B-D54A5D223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FE63-F75F-4DCD-9390-753445BD1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5A58-93C8-4745-8D2D-7B552197F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E7DE-665C-4F92-9CC4-9A5AD37ED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FCAB-BED0-4B54-8078-076F37AE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2745-13F6-4BC1-BEFC-E4DBEE48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F76E-D081-4573-B3D4-E0CF50A8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D2FCB-1D28-44B2-9D65-7F198BE6742E}" type="slidenum">
              <a:rPr b="0" lang="pl-P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7A45E-92F7-4450-B751-773ABD6C8D9A}" type="slidenum">
              <a:rPr b="0" lang="pl-P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ccecff"/>
                </a:solidFill>
                <a:latin typeface="Arial"/>
              </a:rPr>
              <a:t>SEMINARIUM</a:t>
            </a:r>
            <a:br>
              <a:rPr sz="1400"/>
            </a:br>
            <a:r>
              <a:rPr b="1" lang="pl-PL" sz="1400" spc="-1" strike="noStrike">
                <a:solidFill>
                  <a:srgbClr val="ccecff"/>
                </a:solidFill>
                <a:latin typeface="Arial"/>
              </a:rPr>
              <a:t>Komisji Geodezji Satelitarnej Komitetu Badań Kosmicznych PAN</a:t>
            </a:r>
            <a:br>
              <a:rPr sz="1400"/>
            </a:br>
            <a:r>
              <a:rPr b="1" lang="pl-PL" sz="1400" spc="-1" strike="noStrike">
                <a:solidFill>
                  <a:srgbClr val="ccecff"/>
                </a:solidFill>
                <a:latin typeface="Arial"/>
              </a:rPr>
              <a:t>oraz</a:t>
            </a:r>
            <a:br>
              <a:rPr sz="1400"/>
            </a:br>
            <a:r>
              <a:rPr b="1" lang="pl-PL" sz="1400" spc="-1" strike="noStrike">
                <a:solidFill>
                  <a:srgbClr val="ccecff"/>
                </a:solidFill>
                <a:latin typeface="Arial"/>
              </a:rPr>
              <a:t>Sekcji Sieci Geodezyjnych Komitetu Geodezji PAN</a:t>
            </a:r>
            <a:br>
              <a:rPr sz="1400"/>
            </a:br>
            <a:br>
              <a:rPr sz="1400"/>
            </a:br>
            <a:r>
              <a:rPr b="1" lang="pl-PL" sz="1400" spc="-1" strike="noStrike">
                <a:solidFill>
                  <a:srgbClr val="ccecff"/>
                </a:solidFill>
                <a:latin typeface="Arial"/>
              </a:rPr>
              <a:t>SATELITARNE METODY WYZNACZANIA POZYCJI WE WSPÓŁCZESNEJ GEODEZJI </a:t>
            </a:r>
            <a:br>
              <a:rPr sz="1400"/>
            </a:br>
            <a:r>
              <a:rPr b="1" lang="pl-PL" sz="1400" spc="-1" strike="noStrike">
                <a:solidFill>
                  <a:srgbClr val="ccecff"/>
                </a:solidFill>
                <a:latin typeface="Arial"/>
              </a:rPr>
              <a:t>I NAWIGACJI</a:t>
            </a:r>
            <a:br>
              <a:rPr sz="1400"/>
            </a:br>
            <a:br>
              <a:rPr sz="4800"/>
            </a:br>
            <a:r>
              <a:rPr b="1" i="1" lang="pl-PL" sz="1400" spc="-1" strike="noStrike">
                <a:solidFill>
                  <a:srgbClr val="ccecff"/>
                </a:solidFill>
                <a:latin typeface="Arial"/>
              </a:rPr>
              <a:t>Jacek Lamparski</a:t>
            </a:r>
            <a:br>
              <a:rPr sz="1400"/>
            </a:br>
            <a:r>
              <a:rPr b="0" lang="pl-PL" sz="1400" spc="-1" strike="noStrike">
                <a:solidFill>
                  <a:srgbClr val="ccecff"/>
                </a:solidFill>
                <a:latin typeface="Arial"/>
              </a:rPr>
              <a:t>Instytut Geodezji UWM Olsztyn</a:t>
            </a:r>
            <a:br>
              <a:rPr sz="1400"/>
            </a:br>
            <a:br>
              <a:rPr sz="1400"/>
            </a:br>
            <a:r>
              <a:rPr b="1" lang="pl-PL" sz="1800" spc="-1" strike="noStrike">
                <a:solidFill>
                  <a:srgbClr val="ccecff"/>
                </a:solidFill>
                <a:latin typeface="Arial"/>
              </a:rPr>
              <a:t>Nawiązywanie sieci satelitarnych do państwowych układów </a:t>
            </a:r>
            <a:br>
              <a:rPr sz="1800"/>
            </a:br>
            <a:r>
              <a:rPr b="1" lang="pl-PL" sz="1800" spc="-1" strike="noStrike">
                <a:solidFill>
                  <a:srgbClr val="ccecff"/>
                </a:solidFill>
                <a:latin typeface="Arial"/>
              </a:rPr>
              <a:t>poziomych i pionowych</a:t>
            </a:r>
            <a:br>
              <a:rPr sz="1800"/>
            </a:br>
            <a:br>
              <a:rPr sz="18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pl-PL" sz="1200" spc="-1" strike="noStrike">
                <a:solidFill>
                  <a:srgbClr val="ccecff"/>
                </a:solidFill>
                <a:latin typeface="Arial"/>
              </a:rPr>
              <a:t>23-24 czerwiec 2005</a:t>
            </a:r>
            <a:br>
              <a:rPr sz="1200"/>
            </a:br>
            <a:r>
              <a:rPr b="1" lang="pl-PL" sz="1200" spc="-1" strike="noStrike">
                <a:solidFill>
                  <a:srgbClr val="ccecff"/>
                </a:solidFill>
                <a:latin typeface="Arial"/>
              </a:rPr>
              <a:t> Poznań</a:t>
            </a:r>
            <a:br>
              <a:rPr sz="1200"/>
            </a:br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468360" y="1332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emat obliczeń wysokości normalnych bez zastosowania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lu geoi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250920" y="2244600"/>
            <a:ext cx="8568720" cy="2857680"/>
            <a:chOff x="250920" y="2244600"/>
            <a:chExt cx="8568720" cy="2857680"/>
          </a:xfrm>
        </p:grpSpPr>
        <p:sp>
          <p:nvSpPr>
            <p:cNvPr id="279" name=""/>
            <p:cNvSpPr/>
            <p:nvPr/>
          </p:nvSpPr>
          <p:spPr>
            <a:xfrm>
              <a:off x="250920" y="2587320"/>
              <a:ext cx="3770280" cy="685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22280" y="2701800"/>
              <a:ext cx="34275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3 wyrównanie sieci satelitarnej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B</a:t>
              </a: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220720" y="2244600"/>
              <a:ext cx="3598920" cy="1485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92080" y="2358720"/>
              <a:ext cx="3256200" cy="1257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Zasady wyrównania: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oparte o punkty nawiązania wysokościowego, posiadające dokładne wysokości normalne, np. repery niwelacji precyzyjnej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363920" y="2701800"/>
              <a:ext cx="685440" cy="457200"/>
            </a:xfrm>
            <a:prstGeom prst="leftArrow">
              <a:avLst>
                <a:gd name="adj1" fmla="val 50000"/>
                <a:gd name="adj2" fmla="val 3748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50920" y="4187880"/>
              <a:ext cx="3770280" cy="91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793160" y="3501720"/>
              <a:ext cx="514080" cy="571320"/>
            </a:xfrm>
            <a:prstGeom prst="downArrow">
              <a:avLst>
                <a:gd name="adj1" fmla="val 50000"/>
                <a:gd name="adj2" fmla="val 2778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22280" y="4302000"/>
              <a:ext cx="342756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Np. </a:t>
              </a:r>
              <a:r>
                <a:rPr b="1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GPSTRANS</a:t>
              </a: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 lub</a:t>
              </a:r>
              <a:r>
                <a:rPr b="0" lang="pl-PL" sz="1600" spc="-1" strike="noStrike">
                  <a:solidFill>
                    <a:srgbClr val="003b76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TRANSH</a:t>
              </a: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z pakietu GEONET-UNITRAN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220720" y="4187880"/>
              <a:ext cx="359892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392080" y="4302000"/>
              <a:ext cx="32562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Realizują wpasowani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wysokości elipsoidalnych </a:t>
              </a:r>
              <a:r>
                <a:rPr b="0" i="1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w wysokości normalne </a:t>
              </a:r>
              <a:r>
                <a:rPr b="0" i="1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363920" y="4302000"/>
              <a:ext cx="685440" cy="457200"/>
            </a:xfrm>
            <a:prstGeom prst="leftArrow">
              <a:avLst>
                <a:gd name="adj1" fmla="val 50000"/>
                <a:gd name="adj2" fmla="val 3748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922680" y="5285520"/>
            <a:ext cx="691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ys. 10. „Wpasowanie” wysokości bez stosowania modelu geoi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109880" y="-1440"/>
            <a:ext cx="69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liczenie wysokości z zastosowaniem modelu geoi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534600" y="849240"/>
            <a:ext cx="8257680" cy="5143680"/>
            <a:chOff x="534600" y="849240"/>
            <a:chExt cx="8257680" cy="5143680"/>
          </a:xfrm>
        </p:grpSpPr>
        <p:sp>
          <p:nvSpPr>
            <p:cNvPr id="293" name=""/>
            <p:cNvSpPr/>
            <p:nvPr/>
          </p:nvSpPr>
          <p:spPr>
            <a:xfrm>
              <a:off x="534600" y="849240"/>
              <a:ext cx="3162600" cy="799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85960" y="963360"/>
              <a:ext cx="2459520" cy="57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1 wyrównanie sieci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satelitarnej </a:t>
              </a:r>
              <a:r>
                <a:rPr b="0" i="1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B</a:t>
              </a: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399920" y="849240"/>
              <a:ext cx="4392360" cy="125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575600" y="963360"/>
              <a:ext cx="4041000" cy="10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Zasady wyrównania: oparte o jeden punkt o znanych współrzędnych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B</a:t>
              </a: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 i dokładnie określonej wysokości elipsoidalnej </a:t>
              </a:r>
              <a:r>
                <a:rPr b="0" i="1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h</a:t>
              </a: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(np. punkt POLREF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72880" y="1191960"/>
              <a:ext cx="351360" cy="342720"/>
            </a:xfrm>
            <a:prstGeom prst="leftArrow">
              <a:avLst>
                <a:gd name="adj1" fmla="val 50000"/>
                <a:gd name="adj2" fmla="val 2563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5400000">
              <a:off x="1666800" y="2150640"/>
              <a:ext cx="1600200" cy="105408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0 h 1054080"/>
                <a:gd name="textAreaBottom" fmla="*/ 1054440 h 105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15100" y="4334"/>
                  </a:lnTo>
                  <a:lnTo>
                    <a:pt x="13000" y="4334"/>
                  </a:lnTo>
                  <a:lnTo>
                    <a:pt x="13000" y="8600"/>
                  </a:lnTo>
                  <a:lnTo>
                    <a:pt x="17266" y="8600"/>
                  </a:lnTo>
                  <a:lnTo>
                    <a:pt x="17266" y="6500"/>
                  </a:lnTo>
                  <a:lnTo>
                    <a:pt x="21600" y="10800"/>
                  </a:lnTo>
                  <a:lnTo>
                    <a:pt x="17266" y="15100"/>
                  </a:lnTo>
                  <a:lnTo>
                    <a:pt x="17266" y="13000"/>
                  </a:lnTo>
                  <a:lnTo>
                    <a:pt x="4334" y="13000"/>
                  </a:lnTo>
                  <a:lnTo>
                    <a:pt x="4334" y="15100"/>
                  </a:lnTo>
                  <a:lnTo>
                    <a:pt x="0" y="10800"/>
                  </a:lnTo>
                  <a:lnTo>
                    <a:pt x="4334" y="6500"/>
                  </a:lnTo>
                  <a:lnTo>
                    <a:pt x="4334" y="8600"/>
                  </a:lnTo>
                  <a:lnTo>
                    <a:pt x="8600" y="8600"/>
                  </a:lnTo>
                  <a:lnTo>
                    <a:pt x="8600" y="4334"/>
                  </a:lnTo>
                  <a:lnTo>
                    <a:pt x="6500" y="433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345840" y="2449440"/>
              <a:ext cx="2986920" cy="571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521520" y="2563560"/>
              <a:ext cx="263520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Kontrola wyrównan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413000" y="3706920"/>
              <a:ext cx="6500880" cy="799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764360" y="3821040"/>
              <a:ext cx="5798160" cy="57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Obliczenie na podstawie modelu geoidy odstępów </a:t>
              </a:r>
              <a:r>
                <a:rPr b="0" i="1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N</a:t>
              </a: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 we wszystkich punktach siec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521520" y="4621320"/>
              <a:ext cx="281124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413000" y="5307120"/>
              <a:ext cx="6676560" cy="685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588680" y="5421240"/>
              <a:ext cx="63252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Obliczenie wysokości normalnych </a:t>
              </a:r>
              <a:r>
                <a:rPr b="0" i="1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H</a:t>
              </a: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 wszystkich punktów: </a:t>
              </a:r>
              <a:r>
                <a:rPr b="0" i="1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H</a:t>
              </a: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 = </a:t>
              </a:r>
              <a:r>
                <a:rPr b="0" i="1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h</a:t>
              </a: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 - </a:t>
              </a:r>
              <a:r>
                <a:rPr b="0" i="1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1275840" y="6167880"/>
            <a:ext cx="659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ys. 11. Najprostszy sposób obliczenia wysokości normalnych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 zastosowaniem modelu geoi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0" y="-43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136440" y="93600"/>
            <a:ext cx="8942400" cy="5811480"/>
            <a:chOff x="136440" y="93600"/>
            <a:chExt cx="8942400" cy="5811480"/>
          </a:xfrm>
        </p:grpSpPr>
        <p:sp>
          <p:nvSpPr>
            <p:cNvPr id="309" name=""/>
            <p:cNvSpPr/>
            <p:nvPr/>
          </p:nvSpPr>
          <p:spPr>
            <a:xfrm>
              <a:off x="136440" y="93600"/>
              <a:ext cx="3888000" cy="562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30840" y="187200"/>
              <a:ext cx="3499200" cy="37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1 wyrównanie sieci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satelitarnej </a:t>
              </a:r>
              <a:r>
                <a:rPr b="0" i="1" lang="en-US" sz="14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B, L, 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774040" y="93600"/>
              <a:ext cx="3304800" cy="74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968440" y="187200"/>
              <a:ext cx="2916000" cy="56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Zasady: wyrównani</a:t>
              </a:r>
              <a:r>
                <a:rPr b="0" lang="pl-PL" sz="1400" spc="-1" strike="noStrike">
                  <a:solidFill>
                    <a:srgbClr val="003b76"/>
                  </a:solidFill>
                  <a:latin typeface="Times New Roman"/>
                </a:rPr>
                <a:t>a: </a:t>
              </a:r>
              <a:r>
                <a:rPr b="0" lang="en-US" sz="14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jednopunktow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(pseudoswobodne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413240" y="281160"/>
              <a:ext cx="1166400" cy="187200"/>
            </a:xfrm>
            <a:prstGeom prst="leftArrow">
              <a:avLst>
                <a:gd name="adj1" fmla="val 50000"/>
                <a:gd name="adj2" fmla="val 15576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497240" y="843480"/>
              <a:ext cx="972000" cy="2718360"/>
            </a:xfrm>
            <a:prstGeom prst="downArrow">
              <a:avLst>
                <a:gd name="adj1" fmla="val 50000"/>
                <a:gd name="adj2" fmla="val 6991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635640" y="1031040"/>
              <a:ext cx="3304800" cy="562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635640" y="1780920"/>
              <a:ext cx="3304800" cy="655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635640" y="2624760"/>
              <a:ext cx="5248800" cy="749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30040" y="1124640"/>
              <a:ext cx="2916000" cy="37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Kontrola jakości</a:t>
              </a:r>
              <a:r>
                <a:rPr b="0" lang="pl-PL" sz="1400" spc="-1" strike="noStrike">
                  <a:solidFill>
                    <a:srgbClr val="003b76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wyrównani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30040" y="1874520"/>
              <a:ext cx="291600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Obliczenie odstępów </a:t>
              </a:r>
              <a:r>
                <a:rPr b="0" i="1" lang="en-US" sz="14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N</a:t>
              </a:r>
              <a:r>
                <a:rPr b="0" lang="en-US" sz="14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 z modelu geoid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830040" y="2718360"/>
              <a:ext cx="4860000" cy="56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Obliczenie </a:t>
              </a:r>
              <a:r>
                <a:rPr b="0" i="1" lang="en-US" sz="14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h</a:t>
              </a:r>
              <a:r>
                <a:rPr b="0" lang="en-US" sz="14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 = </a:t>
              </a:r>
              <a:r>
                <a:rPr b="0" i="1" lang="en-US" sz="14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H</a:t>
              </a:r>
              <a:r>
                <a:rPr b="0" lang="en-US" sz="14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 + </a:t>
              </a:r>
              <a:r>
                <a:rPr b="0" i="1" lang="en-US" sz="14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N</a:t>
              </a:r>
              <a:r>
                <a:rPr b="0" lang="en-US" sz="14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 na punktach sieci o dokładnych wysokościach normalnych (reperach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30840" y="3749400"/>
              <a:ext cx="3304800" cy="655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25240" y="3843360"/>
              <a:ext cx="291600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2 wyrównanie sieci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satelitarnej </a:t>
              </a:r>
              <a:r>
                <a:rPr b="0" i="1" lang="en-US" sz="14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B, L, 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996440" y="3561840"/>
              <a:ext cx="3888000" cy="93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90840" y="3655800"/>
              <a:ext cx="3499200" cy="74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Zasady: wyrównanie z narzuconą stałością wysokości </a:t>
              </a:r>
              <a:r>
                <a:rPr b="0" i="1" lang="en-US" sz="14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h</a:t>
              </a:r>
              <a:r>
                <a:rPr b="0" lang="en-US" sz="14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 reperów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(kilka punktów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024440" y="3936960"/>
              <a:ext cx="777600" cy="281160"/>
            </a:xfrm>
            <a:prstGeom prst="leftArrow">
              <a:avLst>
                <a:gd name="adj1" fmla="val 50000"/>
                <a:gd name="adj2" fmla="val 6914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691640" y="4593240"/>
              <a:ext cx="388800" cy="749880"/>
            </a:xfrm>
            <a:prstGeom prst="downArrow">
              <a:avLst>
                <a:gd name="adj1" fmla="val 50000"/>
                <a:gd name="adj2" fmla="val 4821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30040" y="4780800"/>
              <a:ext cx="4082400" cy="468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024440" y="4874400"/>
              <a:ext cx="3693600" cy="28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Kontrola jakości wyrównani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274840" y="4874400"/>
              <a:ext cx="1166400" cy="187200"/>
            </a:xfrm>
            <a:prstGeom prst="leftArrow">
              <a:avLst>
                <a:gd name="adj1" fmla="val 50000"/>
                <a:gd name="adj2" fmla="val 15576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19640" y="5436720"/>
              <a:ext cx="5637600" cy="468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914040" y="5530680"/>
              <a:ext cx="5248800" cy="28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Obliczenie </a:t>
              </a:r>
              <a:r>
                <a:rPr b="1" i="1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H</a:t>
              </a:r>
              <a:r>
                <a:rPr b="1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 = </a:t>
              </a:r>
              <a:r>
                <a:rPr b="1" i="1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h</a:t>
              </a:r>
              <a:r>
                <a:rPr b="1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 – </a:t>
              </a:r>
              <a:r>
                <a:rPr b="1" i="1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N</a:t>
              </a:r>
              <a:r>
                <a:rPr b="1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 wszystkich punktó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-38880" y="6990120"/>
            <a:ext cx="920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Rys. 12. Schemat dokładnego obliczenia wysokości normalnych z wykorzystaniem modelu geoidy (Instrukcja G-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50920" y="618552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Rys. 12. Schemat dokładnego obliczenia wysokości normalnych z wykorzystaniem modelu geoidy (Instrukcja G-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0" y="125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324000" y="260280"/>
          <a:ext cx="8064360" cy="5700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60280"/>
                    <a:ext cx="8064360" cy="570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"/>
          <p:cNvSpPr/>
          <p:nvPr/>
        </p:nvSpPr>
        <p:spPr>
          <a:xfrm>
            <a:off x="366840" y="6119640"/>
            <a:ext cx="8780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Rys. 13. Różnice wysokości normalnych pomiędzy obliczeniem wykorzystującym model geoidy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niwelacyjnej 2001 v. 3 a wpasowaniem wysokości przy pomocy programu GPSTRA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Konkluzj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Na podstawie przeprowadzonych rozważań zarówno teoretycznych jak i praktycznych można wysnuć następujące konkluzje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      –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w obliczeniach współrzędnych geodezyjnych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należy kierować się zasadą uwzględniania w obliczeniach nawiązań do wszystkich możliwych do pomiaru punktów I klasy i punktów POLREF, leżących w najbliższym sąsiedztwie założonej sieci satelitarnej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      –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w przeliczeniach współrzędnych geodezyjnych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na współrzędne w odwzorowaniu „1965” należy uwzględniać dystorsję tego układu i stosować w obliczeniach finalnych korektę Hausbrandta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      –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w obliczeniach wysokości normalnych najpewniejszy wynik uzyskamy stosując wpasowanie wysokości i korektę Hausbrandta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      –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model geoidy do obliczania wysokości należy stosować w przypadkach, w których nie mamy bliskiego dostępu do reperów niwelacji precyzyjnej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2124000" y="364500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Dziękuję za uwag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03800" y="6334920"/>
            <a:ext cx="770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ys. 1. Schemat podstawowy obliczenia współrzędnych w układzie B, L,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826920" y="358560"/>
            <a:ext cx="7129440" cy="5770440"/>
            <a:chOff x="826920" y="358560"/>
            <a:chExt cx="7129440" cy="5770440"/>
          </a:xfrm>
        </p:grpSpPr>
        <p:sp>
          <p:nvSpPr>
            <p:cNvPr id="161" name=""/>
            <p:cNvSpPr/>
            <p:nvPr/>
          </p:nvSpPr>
          <p:spPr>
            <a:xfrm>
              <a:off x="826920" y="698400"/>
              <a:ext cx="3055680" cy="1526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996120" y="867600"/>
              <a:ext cx="2716200" cy="118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1 wyrównanie sieci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(kontrolne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wszystkich pomierzonych wektoró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10800" y="528480"/>
              <a:ext cx="2376360" cy="186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26920" y="4432320"/>
              <a:ext cx="3055680" cy="1359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996120" y="4602240"/>
              <a:ext cx="2716200" cy="10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2 wyrównanie sieci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wszystkich pomierzonych wektoró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5400000">
              <a:off x="1675800" y="2904480"/>
              <a:ext cx="1526760" cy="848520"/>
            </a:xfrm>
            <a:custGeom>
              <a:avLst/>
              <a:gdLst>
                <a:gd name="textAreaLeft" fmla="*/ 238320 w 1526760"/>
                <a:gd name="textAreaRight" fmla="*/ 1335960 w 1526760"/>
                <a:gd name="textAreaTop" fmla="*/ 212040 h 848520"/>
                <a:gd name="textAreaBottom" fmla="*/ 636480 h 84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882600" y="2565360"/>
              <a:ext cx="3564720" cy="1527840"/>
            </a:xfrm>
            <a:prstGeom prst="leftArrow">
              <a:avLst>
                <a:gd name="adj1" fmla="val 50000"/>
                <a:gd name="adj2" fmla="val 5832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31480" y="3074040"/>
              <a:ext cx="2545560" cy="508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1 kontrola </a:t>
              </a:r>
              <a:r>
                <a:rPr b="0" lang="pl-PL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jakości</a:t>
              </a: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 siec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051800" y="358560"/>
              <a:ext cx="3904560" cy="2206440"/>
            </a:xfrm>
            <a:prstGeom prst="leftArrowCallout">
              <a:avLst>
                <a:gd name="adj1" fmla="val 25002"/>
                <a:gd name="adj2" fmla="val 25000"/>
                <a:gd name="adj3" fmla="val 29494"/>
                <a:gd name="adj4" fmla="val 6667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82600" y="4092480"/>
              <a:ext cx="3904560" cy="2036520"/>
            </a:xfrm>
            <a:prstGeom prst="leftArrowCallout">
              <a:avLst>
                <a:gd name="adj1" fmla="val 25002"/>
                <a:gd name="adj2" fmla="val 25000"/>
                <a:gd name="adj3" fmla="val 31955"/>
                <a:gd name="adj4" fmla="val 6667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10800" y="4262400"/>
              <a:ext cx="2376360" cy="169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Zasady wyrównania</a:t>
              </a: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wyrównanie oparte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o wszystkie punkty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o </a:t>
              </a: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znanych współrzędnych </a:t>
              </a:r>
              <a:r>
                <a:rPr b="0" i="1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B, L, h</a:t>
              </a: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w układzie ETRF’89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410800" y="528480"/>
              <a:ext cx="2376360" cy="186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Zasady wyrównania</a:t>
              </a: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wyrównanie oparte o jeden punkt o znanych współrzędnych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B, L, 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w układzie ETRF’89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ccecff"/>
                </a:solidFill>
                <a:latin typeface="Arial"/>
              </a:rPr>
              <a:t>Określenie współrzędnych </a:t>
            </a:r>
            <a:br>
              <a:rPr sz="4000"/>
            </a:br>
            <a:r>
              <a:rPr b="0" lang="pl-PL" sz="4000" spc="-1" strike="noStrike">
                <a:solidFill>
                  <a:srgbClr val="ccecff"/>
                </a:solidFill>
                <a:latin typeface="Arial"/>
              </a:rPr>
              <a:t>w układzie „1965”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82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99760" y="6247440"/>
            <a:ext cx="598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ys. 3. Odwzorowanie matematyczne lub„wpasowanie”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wóch układów płaski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08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68360" y="1785960"/>
            <a:ext cx="8135640" cy="4342680"/>
            <a:chOff x="468360" y="1785960"/>
            <a:chExt cx="8135640" cy="4342680"/>
          </a:xfrm>
        </p:grpSpPr>
        <p:sp>
          <p:nvSpPr>
            <p:cNvPr id="178" name=""/>
            <p:cNvSpPr/>
            <p:nvPr/>
          </p:nvSpPr>
          <p:spPr>
            <a:xfrm>
              <a:off x="2258280" y="1785960"/>
              <a:ext cx="4881240" cy="914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5400000">
              <a:off x="1564560" y="1946880"/>
              <a:ext cx="1714320" cy="3906720"/>
            </a:xfrm>
            <a:custGeom>
              <a:avLst/>
              <a:gdLst>
                <a:gd name="textAreaLeft" fmla="*/ 267840 w 1714320"/>
                <a:gd name="textAreaRight" fmla="*/ 1500120 w 1714320"/>
                <a:gd name="textAreaTop" fmla="*/ 976680 h 3906720"/>
                <a:gd name="textAreaBottom" fmla="*/ 2930040 h 390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699440" y="4986000"/>
              <a:ext cx="2927160" cy="1142640"/>
            </a:xfrm>
            <a:prstGeom prst="verticalScroll">
              <a:avLst>
                <a:gd name="adj" fmla="val 12500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584080" y="1900080"/>
              <a:ext cx="4230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Końcowe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wyrównanie sieci wektoró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B</a:t>
              </a: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h</a:t>
              </a: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87600" y="5214960"/>
              <a:ext cx="1951920" cy="79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Wykaz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współrzędnyc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14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x, 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„</a:t>
              </a:r>
              <a:r>
                <a:rPr b="0" lang="en-US" sz="14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1965”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607040" y="3386160"/>
              <a:ext cx="1626480" cy="80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Przeliczenie n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x, y </a:t>
              </a: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„1965”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(może być błędne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5400000">
              <a:off x="5631480" y="1784520"/>
              <a:ext cx="1714320" cy="4230360"/>
            </a:xfrm>
            <a:custGeom>
              <a:avLst/>
              <a:gdLst>
                <a:gd name="textAreaLeft" fmla="*/ 267840 w 1714320"/>
                <a:gd name="textAreaRight" fmla="*/ 1500120 w 1714320"/>
                <a:gd name="textAreaTop" fmla="*/ 1057680 h 4230360"/>
                <a:gd name="textAreaBottom" fmla="*/ 3173040 h 423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675040" y="3386160"/>
              <a:ext cx="1626480" cy="114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Transformacj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np. GPSTRA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(wpasowanie w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punkty łączne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(prawidłowe</a:t>
              </a: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ccecff"/>
                </a:solidFill>
                <a:latin typeface="Arial"/>
              </a:rPr>
              <a:t>Określenie dystorsji narożników arkusza mapy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88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365200" y="1900080"/>
            <a:ext cx="4686120" cy="4000320"/>
            <a:chOff x="2365200" y="1900080"/>
            <a:chExt cx="4686120" cy="4000320"/>
          </a:xfrm>
        </p:grpSpPr>
        <p:sp>
          <p:nvSpPr>
            <p:cNvPr id="189" name=""/>
            <p:cNvSpPr/>
            <p:nvPr/>
          </p:nvSpPr>
          <p:spPr>
            <a:xfrm>
              <a:off x="3393720" y="2700360"/>
              <a:ext cx="2514600" cy="1714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79320" y="1900080"/>
              <a:ext cx="114120" cy="1141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422600" y="2243160"/>
              <a:ext cx="114120" cy="1141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937200" y="1900080"/>
              <a:ext cx="114120" cy="1141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222520" y="3157560"/>
              <a:ext cx="114120" cy="1141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079520" y="3728880"/>
              <a:ext cx="114120" cy="1141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365200" y="3500280"/>
              <a:ext cx="114120" cy="1141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707920" y="5443560"/>
              <a:ext cx="114120" cy="1141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65320" y="5786280"/>
              <a:ext cx="114120" cy="1141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594120" y="4871880"/>
              <a:ext cx="114120" cy="1141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165120" y="2357280"/>
              <a:ext cx="2286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3b76"/>
                  </a:solidFill>
                  <a:latin typeface="Arial"/>
                  <a:ea typeface="Times New Roman"/>
                </a:rPr>
                <a:t>1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794200" y="2357280"/>
              <a:ext cx="22860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3b76"/>
                  </a:solidFill>
                  <a:latin typeface="Arial"/>
                  <a:ea typeface="Times New Roman"/>
                </a:rPr>
                <a:t>2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165120" y="4414680"/>
              <a:ext cx="22860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3b76"/>
                  </a:solidFill>
                  <a:latin typeface="Arial"/>
                  <a:ea typeface="Times New Roman"/>
                </a:rPr>
                <a:t>3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794200" y="4414680"/>
              <a:ext cx="2286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3b76"/>
                  </a:solidFill>
                  <a:latin typeface="Arial"/>
                  <a:ea typeface="Times New Roman"/>
                </a:rPr>
                <a:t>4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194000" y="4643280"/>
              <a:ext cx="102852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b76"/>
                  </a:solidFill>
                  <a:latin typeface="Arial"/>
                  <a:ea typeface="Times New Roman"/>
                </a:rPr>
                <a:t>1 : 50 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360" y="5455080"/>
            <a:ext cx="27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15720" y="6150600"/>
            <a:ext cx="456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Rys. 4. Sekcja mapy i punkty I klasy wokół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-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099440" y="141120"/>
            <a:ext cx="7159680" cy="6629400"/>
            <a:chOff x="1099440" y="141120"/>
            <a:chExt cx="7159680" cy="6629400"/>
          </a:xfrm>
        </p:grpSpPr>
        <p:sp>
          <p:nvSpPr>
            <p:cNvPr id="208" name=""/>
            <p:cNvSpPr/>
            <p:nvPr/>
          </p:nvSpPr>
          <p:spPr>
            <a:xfrm>
              <a:off x="1099440" y="941040"/>
              <a:ext cx="3091680" cy="91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262160" y="1055520"/>
              <a:ext cx="276624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Współrzędne (</a:t>
              </a:r>
              <a:r>
                <a:rPr b="0" i="1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,</a:t>
              </a:r>
              <a:r>
                <a:rPr b="0" i="1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y</a:t>
              </a: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1600" spc="-1" strike="noStrike" baseline="-30000">
                  <a:solidFill>
                    <a:srgbClr val="003b76"/>
                  </a:solidFill>
                  <a:latin typeface="Times New Roman"/>
                  <a:ea typeface="Times New Roman"/>
                </a:rPr>
                <a:t>1965</a:t>
              </a: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 punktów I klasy oraz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narożników - katalogow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167440" y="941040"/>
              <a:ext cx="2928960" cy="799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330160" y="1055520"/>
              <a:ext cx="2603520" cy="57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Współrzędne (</a:t>
              </a:r>
              <a:r>
                <a:rPr b="0" i="1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,</a:t>
              </a:r>
              <a:r>
                <a:rPr b="0" i="1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y</a:t>
              </a: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1600" spc="-1" strike="noStrike" baseline="-30000">
                  <a:solidFill>
                    <a:srgbClr val="003b76"/>
                  </a:solidFill>
                  <a:latin typeface="Times New Roman"/>
                  <a:ea typeface="Times New Roman"/>
                </a:rPr>
                <a:t>2000</a:t>
              </a: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 punktów I klasy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5400000">
              <a:off x="2359440" y="-956160"/>
              <a:ext cx="571320" cy="2766240"/>
            </a:xfrm>
            <a:custGeom>
              <a:avLst/>
              <a:gdLst>
                <a:gd name="textAreaLeft" fmla="*/ 89280 w 571320"/>
                <a:gd name="textAreaRight" fmla="*/ 500040 w 571320"/>
                <a:gd name="textAreaTop" fmla="*/ 691560 h 2766240"/>
                <a:gd name="textAreaBottom" fmla="*/ 2074680 h 2766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5400000">
              <a:off x="6427440" y="-956160"/>
              <a:ext cx="571320" cy="2766240"/>
            </a:xfrm>
            <a:custGeom>
              <a:avLst/>
              <a:gdLst>
                <a:gd name="textAreaLeft" fmla="*/ 89280 w 571320"/>
                <a:gd name="textAreaRight" fmla="*/ 500040 w 571320"/>
                <a:gd name="textAreaTop" fmla="*/ 691560 h 2766240"/>
                <a:gd name="textAreaBottom" fmla="*/ 2074680 h 2766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075760" y="255240"/>
              <a:ext cx="113904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„</a:t>
              </a:r>
              <a:r>
                <a:rPr b="1" i="1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1965”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143760" y="255240"/>
              <a:ext cx="113904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„</a:t>
              </a:r>
              <a:r>
                <a:rPr b="1" i="1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2000”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306480" y="1855440"/>
              <a:ext cx="97632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492880" y="2427120"/>
              <a:ext cx="276624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655600" y="2541240"/>
              <a:ext cx="244080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Przeliczenie matematyczne (bezbłędne) (</a:t>
              </a:r>
              <a:r>
                <a:rPr b="0" i="1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,</a:t>
              </a:r>
              <a:r>
                <a:rPr b="0" i="1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y</a:t>
              </a: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1600" spc="-1" strike="noStrike" baseline="-30000">
                  <a:solidFill>
                    <a:srgbClr val="003b76"/>
                  </a:solidFill>
                  <a:latin typeface="Times New Roman"/>
                  <a:ea typeface="Times New Roman"/>
                </a:rPr>
                <a:t>2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na (</a:t>
              </a:r>
              <a:r>
                <a:rPr b="0" i="1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,</a:t>
              </a:r>
              <a:r>
                <a:rPr b="0" i="1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y</a:t>
              </a: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1600" spc="-1" strike="noStrike" baseline="-30000">
                  <a:solidFill>
                    <a:srgbClr val="003b76"/>
                  </a:solidFill>
                  <a:latin typeface="Times New Roman"/>
                  <a:ea typeface="Times New Roman"/>
                </a:rPr>
                <a:t>1965</a:t>
              </a:r>
              <a:r>
                <a:rPr b="0" lang="en-US" sz="1600" spc="-1" strike="noStrike" baseline="30000">
                  <a:solidFill>
                    <a:srgbClr val="003b76"/>
                  </a:solidFill>
                  <a:latin typeface="Times New Roman"/>
                  <a:ea typeface="Times New Roman"/>
                </a:rPr>
                <a:t>ma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91120" y="2541240"/>
              <a:ext cx="1139040" cy="685800"/>
            </a:xfrm>
            <a:prstGeom prst="leftRightArrow">
              <a:avLst>
                <a:gd name="adj1" fmla="val 50000"/>
                <a:gd name="adj2" fmla="val 3306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62160" y="2427120"/>
              <a:ext cx="2766240" cy="102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075760" y="1969920"/>
              <a:ext cx="976320" cy="3427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424880" y="2541240"/>
              <a:ext cx="2440800" cy="799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Transformacja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,</a:t>
              </a:r>
              <a:r>
                <a:rPr b="0" i="1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y</a:t>
              </a: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1600" spc="-1" strike="noStrike" baseline="-30000">
                  <a:solidFill>
                    <a:srgbClr val="003b76"/>
                  </a:solidFill>
                  <a:latin typeface="Times New Roman"/>
                  <a:ea typeface="Times New Roman"/>
                </a:rPr>
                <a:t>1965</a:t>
              </a:r>
              <a:r>
                <a:rPr b="0" lang="en-US" sz="1600" spc="-1" strike="noStrike" baseline="30000">
                  <a:solidFill>
                    <a:srgbClr val="003b76"/>
                  </a:solidFill>
                  <a:latin typeface="Times New Roman"/>
                  <a:ea typeface="Times New Roman"/>
                </a:rPr>
                <a:t>kat</a:t>
              </a: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 do (</a:t>
              </a:r>
              <a:r>
                <a:rPr b="0" i="1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,</a:t>
              </a:r>
              <a:r>
                <a:rPr b="0" i="1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y</a:t>
              </a: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1600" spc="-1" strike="noStrike" baseline="-30000">
                  <a:solidFill>
                    <a:srgbClr val="003b76"/>
                  </a:solidFill>
                  <a:latin typeface="Times New Roman"/>
                  <a:ea typeface="Times New Roman"/>
                </a:rPr>
                <a:t>1965</a:t>
              </a:r>
              <a:r>
                <a:rPr b="0" lang="en-US" sz="1600" spc="-1" strike="noStrike" baseline="30000">
                  <a:solidFill>
                    <a:srgbClr val="003b76"/>
                  </a:solidFill>
                  <a:latin typeface="Times New Roman"/>
                  <a:ea typeface="Times New Roman"/>
                </a:rPr>
                <a:t>ma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262160" y="3798720"/>
              <a:ext cx="26035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424880" y="3912840"/>
              <a:ext cx="227808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Korekta Hausbrandt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075760" y="3570120"/>
              <a:ext cx="976320" cy="1141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889360" y="4484520"/>
              <a:ext cx="4068000" cy="799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052080" y="4598640"/>
              <a:ext cx="3742560" cy="57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Współrzędne narożników arkusza w „bezbłędnym” układzie „1965”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5400000">
              <a:off x="2001240" y="4444560"/>
              <a:ext cx="799920" cy="650880"/>
            </a:xfrm>
            <a:custGeom>
              <a:avLst/>
              <a:gdLst>
                <a:gd name="textAreaLeft" fmla="*/ 266760 w 799920"/>
                <a:gd name="textAreaRight" fmla="*/ 685080 w 799920"/>
                <a:gd name="textAreaTop" fmla="*/ 374760 h 650880"/>
                <a:gd name="textAreaBottom" fmla="*/ 557640 h 65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075760" y="5856120"/>
              <a:ext cx="5532480" cy="91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238480" y="5970240"/>
              <a:ext cx="520704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Porównanie (</a:t>
              </a:r>
              <a:r>
                <a:rPr b="0" i="1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,</a:t>
              </a:r>
              <a:r>
                <a:rPr b="0" i="1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y</a:t>
              </a: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1600" spc="-1" strike="noStrike" baseline="-30000">
                  <a:solidFill>
                    <a:srgbClr val="003b76"/>
                  </a:solidFill>
                  <a:latin typeface="Times New Roman"/>
                  <a:ea typeface="Times New Roman"/>
                </a:rPr>
                <a:t>1965</a:t>
              </a:r>
              <a:r>
                <a:rPr b="0" lang="en-US" sz="1600" spc="-1" strike="noStrike" baseline="30000">
                  <a:solidFill>
                    <a:srgbClr val="003b76"/>
                  </a:solidFill>
                  <a:latin typeface="Times New Roman"/>
                  <a:ea typeface="Times New Roman"/>
                </a:rPr>
                <a:t>kat</a:t>
              </a: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 narożników arkusza mapy ze współrzędnymi (</a:t>
              </a:r>
              <a:r>
                <a:rPr b="0" i="1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,</a:t>
              </a:r>
              <a:r>
                <a:rPr b="0" i="1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y</a:t>
              </a: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1600" spc="-1" strike="noStrike" baseline="-30000">
                  <a:solidFill>
                    <a:srgbClr val="003b76"/>
                  </a:solidFill>
                  <a:latin typeface="Times New Roman"/>
                  <a:ea typeface="Times New Roman"/>
                </a:rPr>
                <a:t>1965</a:t>
              </a:r>
              <a:r>
                <a:rPr b="0" lang="en-US" sz="1600" spc="-1" strike="noStrike" baseline="30000">
                  <a:solidFill>
                    <a:srgbClr val="003b76"/>
                  </a:solidFill>
                  <a:latin typeface="Times New Roman"/>
                  <a:ea typeface="Times New Roman"/>
                </a:rPr>
                <a:t>mat</a:t>
              </a: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. Różnice te są wielkościami dystorsji w obszarze arkusza map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191120" y="5398920"/>
              <a:ext cx="1627200" cy="3427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-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999720" y="0"/>
            <a:ext cx="7795080" cy="6629400"/>
            <a:chOff x="999720" y="0"/>
            <a:chExt cx="7795080" cy="6629400"/>
          </a:xfrm>
        </p:grpSpPr>
        <p:sp>
          <p:nvSpPr>
            <p:cNvPr id="234" name=""/>
            <p:cNvSpPr/>
            <p:nvPr/>
          </p:nvSpPr>
          <p:spPr>
            <a:xfrm>
              <a:off x="999720" y="799920"/>
              <a:ext cx="3366000" cy="91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176840" y="914400"/>
              <a:ext cx="3011760" cy="799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Współrzędne (</a:t>
              </a:r>
              <a:r>
                <a:rPr b="0" i="1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,</a:t>
              </a:r>
              <a:r>
                <a:rPr b="0" i="1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y</a:t>
              </a: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1600" spc="-1" strike="noStrike" baseline="-30000">
                  <a:solidFill>
                    <a:srgbClr val="003b76"/>
                  </a:solidFill>
                  <a:latin typeface="Times New Roman"/>
                  <a:ea typeface="Times New Roman"/>
                </a:rPr>
                <a:t>1965</a:t>
              </a: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 punktów I klasy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oraz punktów istniejącyc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428800" y="799920"/>
              <a:ext cx="3188880" cy="685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605920" y="914400"/>
              <a:ext cx="283428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Współrzędne (</a:t>
              </a:r>
              <a:r>
                <a:rPr b="0" i="1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,</a:t>
              </a:r>
              <a:r>
                <a:rPr b="0" i="1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y</a:t>
              </a: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1600" spc="-1" strike="noStrike" baseline="-30000">
                  <a:solidFill>
                    <a:srgbClr val="003b76"/>
                  </a:solidFill>
                  <a:latin typeface="Times New Roman"/>
                  <a:ea typeface="Times New Roman"/>
                </a:rPr>
                <a:t>2000</a:t>
              </a: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 punktów I klasy</a:t>
              </a:r>
              <a:r>
                <a:rPr b="0" lang="en-US" sz="13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5400000">
              <a:off x="2396880" y="-1220040"/>
              <a:ext cx="571320" cy="3011760"/>
            </a:xfrm>
            <a:custGeom>
              <a:avLst/>
              <a:gdLst>
                <a:gd name="textAreaLeft" fmla="*/ 89280 w 571320"/>
                <a:gd name="textAreaRight" fmla="*/ 500040 w 571320"/>
                <a:gd name="textAreaTop" fmla="*/ 752760 h 3011760"/>
                <a:gd name="textAreaBottom" fmla="*/ 2259000 h 301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5400000">
              <a:off x="6825960" y="-1220040"/>
              <a:ext cx="571320" cy="3011760"/>
            </a:xfrm>
            <a:custGeom>
              <a:avLst/>
              <a:gdLst>
                <a:gd name="textAreaLeft" fmla="*/ 89280 w 571320"/>
                <a:gd name="textAreaRight" fmla="*/ 500040 w 571320"/>
                <a:gd name="textAreaTop" fmla="*/ 752760 h 3011760"/>
                <a:gd name="textAreaBottom" fmla="*/ 2259000 h 301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062800" y="114120"/>
              <a:ext cx="123984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„</a:t>
              </a:r>
              <a:r>
                <a:rPr b="1" i="1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1965”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491880" y="114120"/>
              <a:ext cx="123984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„</a:t>
              </a:r>
              <a:r>
                <a:rPr b="1" i="1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2000”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669000" y="1714320"/>
              <a:ext cx="106272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83040" y="2286000"/>
              <a:ext cx="301176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960160" y="2400120"/>
              <a:ext cx="265716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Przeliczenie matematyczne (bezbłędne) (</a:t>
              </a:r>
              <a:r>
                <a:rPr b="0" i="1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,</a:t>
              </a:r>
              <a:r>
                <a:rPr b="0" i="1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y</a:t>
              </a: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1600" spc="-1" strike="noStrike" baseline="-30000">
                  <a:solidFill>
                    <a:srgbClr val="003b76"/>
                  </a:solidFill>
                  <a:latin typeface="Times New Roman"/>
                  <a:ea typeface="Times New Roman"/>
                </a:rPr>
                <a:t>2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na (</a:t>
              </a:r>
              <a:r>
                <a:rPr b="0" i="1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,</a:t>
              </a:r>
              <a:r>
                <a:rPr b="0" i="1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y</a:t>
              </a: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1600" spc="-1" strike="noStrike" baseline="-30000">
                  <a:solidFill>
                    <a:srgbClr val="003b76"/>
                  </a:solidFill>
                  <a:latin typeface="Times New Roman"/>
                  <a:ea typeface="Times New Roman"/>
                </a:rPr>
                <a:t>1965</a:t>
              </a:r>
              <a:r>
                <a:rPr b="0" lang="en-US" sz="1600" spc="-1" strike="noStrike" baseline="30000">
                  <a:solidFill>
                    <a:srgbClr val="003b76"/>
                  </a:solidFill>
                  <a:latin typeface="Times New Roman"/>
                  <a:ea typeface="Times New Roman"/>
                </a:rPr>
                <a:t>ma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365720" y="2400120"/>
              <a:ext cx="1239840" cy="685800"/>
            </a:xfrm>
            <a:prstGeom prst="leftRightArrow">
              <a:avLst>
                <a:gd name="adj1" fmla="val 50000"/>
                <a:gd name="adj2" fmla="val 3599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176840" y="2286000"/>
              <a:ext cx="3011760" cy="102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062800" y="1828800"/>
              <a:ext cx="1062720" cy="3427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353960" y="2400120"/>
              <a:ext cx="2657160" cy="799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Transformacja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,</a:t>
              </a:r>
              <a:r>
                <a:rPr b="0" i="1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y</a:t>
              </a: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1600" spc="-1" strike="noStrike" baseline="-30000">
                  <a:solidFill>
                    <a:srgbClr val="003b76"/>
                  </a:solidFill>
                  <a:latin typeface="Times New Roman"/>
                  <a:ea typeface="Times New Roman"/>
                </a:rPr>
                <a:t>1965</a:t>
              </a:r>
              <a:r>
                <a:rPr b="0" lang="en-US" sz="1600" spc="-1" strike="noStrike" baseline="30000">
                  <a:solidFill>
                    <a:srgbClr val="003b76"/>
                  </a:solidFill>
                  <a:latin typeface="Times New Roman"/>
                  <a:ea typeface="Times New Roman"/>
                </a:rPr>
                <a:t>kat</a:t>
              </a: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 do (</a:t>
              </a:r>
              <a:r>
                <a:rPr b="0" i="1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,</a:t>
              </a:r>
              <a:r>
                <a:rPr b="0" i="1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y</a:t>
              </a: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1600" spc="-1" strike="noStrike" baseline="-30000">
                  <a:solidFill>
                    <a:srgbClr val="003b76"/>
                  </a:solidFill>
                  <a:latin typeface="Times New Roman"/>
                  <a:ea typeface="Times New Roman"/>
                </a:rPr>
                <a:t>1965</a:t>
              </a:r>
              <a:r>
                <a:rPr b="0" lang="en-US" sz="1600" spc="-1" strike="noStrike" baseline="30000">
                  <a:solidFill>
                    <a:srgbClr val="003b76"/>
                  </a:solidFill>
                  <a:latin typeface="Times New Roman"/>
                  <a:ea typeface="Times New Roman"/>
                </a:rPr>
                <a:t>ma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176840" y="3657600"/>
              <a:ext cx="2834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353960" y="3771720"/>
              <a:ext cx="248004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Korekta Hausbrandt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062800" y="3429000"/>
              <a:ext cx="1062720" cy="1141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948400" y="4343400"/>
              <a:ext cx="4429080" cy="799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25520" y="4457520"/>
              <a:ext cx="4074480" cy="57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Współrzędne istniejących punktów w „bezbłędnym” układzie „1965”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5400000">
              <a:off x="2017080" y="4274640"/>
              <a:ext cx="799920" cy="708480"/>
            </a:xfrm>
            <a:custGeom>
              <a:avLst/>
              <a:gdLst>
                <a:gd name="textAreaLeft" fmla="*/ 266760 w 799920"/>
                <a:gd name="textAreaRight" fmla="*/ 685080 w 799920"/>
                <a:gd name="textAreaTop" fmla="*/ 407880 h 708480"/>
                <a:gd name="textAreaBottom" fmla="*/ 606960 h 70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062800" y="5715000"/>
              <a:ext cx="6377760" cy="91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39920" y="5829120"/>
              <a:ext cx="602352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Porównanie (</a:t>
              </a:r>
              <a:r>
                <a:rPr b="0" i="1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,</a:t>
              </a:r>
              <a:r>
                <a:rPr b="0" i="1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y</a:t>
              </a: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1600" spc="-1" strike="noStrike" baseline="-30000">
                  <a:solidFill>
                    <a:srgbClr val="003b76"/>
                  </a:solidFill>
                  <a:latin typeface="Times New Roman"/>
                  <a:ea typeface="Times New Roman"/>
                </a:rPr>
                <a:t>1965</a:t>
              </a:r>
              <a:r>
                <a:rPr b="0" lang="en-US" sz="1600" spc="-1" strike="noStrike" baseline="30000">
                  <a:solidFill>
                    <a:srgbClr val="003b76"/>
                  </a:solidFill>
                  <a:latin typeface="Times New Roman"/>
                  <a:ea typeface="Times New Roman"/>
                </a:rPr>
                <a:t>kat</a:t>
              </a: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 istniejących punktów ze współrzędnymi (</a:t>
              </a:r>
              <a:r>
                <a:rPr b="0" i="1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,</a:t>
              </a:r>
              <a:r>
                <a:rPr b="0" i="1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y</a:t>
              </a: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1600" spc="-1" strike="noStrike" baseline="-30000">
                  <a:solidFill>
                    <a:srgbClr val="003b76"/>
                  </a:solidFill>
                  <a:latin typeface="Times New Roman"/>
                  <a:ea typeface="Times New Roman"/>
                </a:rPr>
                <a:t>1965</a:t>
              </a:r>
              <a:r>
                <a:rPr b="0" lang="en-US" sz="1600" spc="-1" strike="noStrike" baseline="30000">
                  <a:solidFill>
                    <a:srgbClr val="003b76"/>
                  </a:solidFill>
                  <a:latin typeface="Times New Roman"/>
                  <a:ea typeface="Times New Roman"/>
                </a:rPr>
                <a:t>mat</a:t>
              </a: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. Różnice te są wielkościami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dystorsji współrzędnych istniejących punktów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365720" y="5257800"/>
              <a:ext cx="1771560" cy="3427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39640" y="414000"/>
            <a:ext cx="820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kreślenie dystorsji przy pomocy opcji empirycznej i matematycznej programu GEONET-UNITRA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591560" y="2577960"/>
            <a:ext cx="5797080" cy="2628720"/>
            <a:chOff x="1591560" y="2577960"/>
            <a:chExt cx="5797080" cy="2628720"/>
          </a:xfrm>
        </p:grpSpPr>
        <p:sp>
          <p:nvSpPr>
            <p:cNvPr id="260" name=""/>
            <p:cNvSpPr/>
            <p:nvPr/>
          </p:nvSpPr>
          <p:spPr>
            <a:xfrm>
              <a:off x="1591560" y="2806560"/>
              <a:ext cx="269604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726200" y="2920680"/>
              <a:ext cx="2426400" cy="57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Współrzędne katalogow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y</a:t>
              </a: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1600" spc="-1" strike="noStrike" baseline="-30000">
                  <a:solidFill>
                    <a:srgbClr val="003b76"/>
                  </a:solidFill>
                  <a:latin typeface="Times New Roman"/>
                  <a:ea typeface="Times New Roman"/>
                </a:rPr>
                <a:t>196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287960" y="2577960"/>
              <a:ext cx="808560" cy="114120"/>
            </a:xfrm>
            <a:custGeom>
              <a:avLst/>
              <a:gdLst>
                <a:gd name="textAreaLeft" fmla="*/ 141480 w 808560"/>
                <a:gd name="textAreaRight" fmla="*/ 586440 w 808560"/>
                <a:gd name="textAreaTop" fmla="*/ 15120 h 114120"/>
                <a:gd name="textAreaBottom" fmla="*/ 9900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287960" y="3720960"/>
              <a:ext cx="808560" cy="114120"/>
            </a:xfrm>
            <a:custGeom>
              <a:avLst/>
              <a:gdLst>
                <a:gd name="textAreaLeft" fmla="*/ 141480 w 808560"/>
                <a:gd name="textAreaRight" fmla="*/ 586440 w 808560"/>
                <a:gd name="textAreaTop" fmla="*/ 15120 h 114120"/>
                <a:gd name="textAreaBottom" fmla="*/ 9900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231520" y="2577960"/>
              <a:ext cx="1482840" cy="685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96880" y="3377880"/>
              <a:ext cx="1752480" cy="647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366520" y="2692080"/>
              <a:ext cx="12132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Opcja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empiryczn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231520" y="3492360"/>
              <a:ext cx="148284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Opcja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matematyczn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0800000">
              <a:off x="6714720" y="3377880"/>
              <a:ext cx="673920" cy="1828800"/>
            </a:xfrm>
            <a:custGeom>
              <a:avLst/>
              <a:gdLst>
                <a:gd name="textAreaLeft" fmla="*/ 0 w 673920"/>
                <a:gd name="textAreaRight" fmla="*/ 674280 w 6739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995840" y="4406760"/>
              <a:ext cx="4448880" cy="685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130840" y="4520880"/>
              <a:ext cx="404424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Różnica współrzędnych – wielkość dystorsji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b76"/>
                  </a:solidFill>
                  <a:latin typeface="Times New Roman"/>
                  <a:ea typeface="Times New Roman"/>
                </a:rPr>
                <a:t>w określonych punktac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0" y="152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85440" cy="507672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1324080" y="5482080"/>
            <a:ext cx="647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ys. 6. Schemat obliczenia wielkości dystorsji układu „1965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a konkretnych punktó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148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8172360" cy="47228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250920" y="5583600"/>
            <a:ext cx="849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ys. 7. Wielkość dystorsji współrzędnych „1965” dla narożników dwóch arkuszy mapy obejmujących obszar Olszty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0T13:45:55Z</dcterms:created>
  <dc:creator>WGiGP</dc:creator>
  <dc:description/>
  <dc:language>en-US</dc:language>
  <cp:lastModifiedBy>WGiGP</cp:lastModifiedBy>
  <dcterms:modified xsi:type="dcterms:W3CDTF">2005-06-22T11:16:45Z</dcterms:modified>
  <cp:revision>12</cp:revision>
  <dc:subject/>
  <dc:title>SEMINARIUM Komisji Geodezji Satelitarnej Komitetu Badań Kosmicznych i Satelitarnych PAN oraz Sekcji Sieci Geodezyjnych Komitetu Geodezji PAN SATELITARNE METODY WYZNACZANIA POZYCJI WE WSPÓŁCZESNEJ GEODEZJI I NAWIGACJI  Jacek Lamparski Instytut Geodezji UWM Olsztyn  Nawiązywanie sieci satelitarnych do państwowych układów  poziomych i pionowych          23-24 czerwiec 2005 roku Poznań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