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12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E258-2D36-48FB-AED7-55B0C1DF9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607E-F000-42C7-8B93-EE210453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81B8-7021-449A-98CC-20B339EA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AB6B-0FCC-4D58-A18A-CEF8F5D6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7489-F016-4939-9E41-CBBA71697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F3BC-1BDD-43BC-AE3B-85A44F87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D388-EA02-4A67-92C6-B1D04CBF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2C00-48C9-4BCD-9B74-FBBC27C1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5958-DF38-43E5-BA0B-9C22E6DD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FF1B-6B28-4B67-A533-4751DCC2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E8EF-9837-469D-B681-B7B27EDB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9025-DC13-4D08-B1BC-51BEB315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BAB5-6D45-42FC-89BF-3B5746F3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BD99-38D7-45B2-A172-420147E5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C6C5-306C-4744-A9E4-CA97D584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E532-8A14-474E-82B8-FC7C66D28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22F7-7B82-43FC-BC81-B0928792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4929-58E2-4F1B-8B34-70E68A3A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29EA-DB1A-4F9F-8460-77686217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E8F8-A8C9-4F73-B367-95B4ACAF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330A-7FDE-46E9-AB0F-BBA2EE09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DA1C-2A1F-4328-B399-89A749DC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ECA5-8EC3-48D0-8B7A-CD04E3D6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3081-6156-448E-BBD7-0CC383FA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32"/>
            </a:gs>
            <a:gs pos="50000">
              <a:srgbClr val="00006e"/>
            </a:gs>
            <a:gs pos="100000">
              <a:srgbClr val="0700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e01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e01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e01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e01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e014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e01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e01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e01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e01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e014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e01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e01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e01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e01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e014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5A94-D189-4144-B210-A4B32C738C50}" type="slidenum">
              <a:rPr b="1" lang="en-GB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32"/>
            </a:gs>
            <a:gs pos="50000">
              <a:srgbClr val="00006e"/>
            </a:gs>
            <a:gs pos="100000">
              <a:srgbClr val="0700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e01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e01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e01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e01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e014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e01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e01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e01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e01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e014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e01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e01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e01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e01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e014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e014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e014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e01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0775-E86E-41AA-B81B-D2E8A59B4C46}" type="slidenum"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32"/>
            </a:gs>
            <a:gs pos="50000">
              <a:srgbClr val="00006e"/>
            </a:gs>
            <a:gs pos="100000">
              <a:srgbClr val="0700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461520"/>
            <a:ext cx="893448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Times New Roman"/>
              </a:rPr>
              <a:t>Statyczne pomiary GPS odbiornikiem Thales Mobile Mapper z wykorzystaniem obserwacji fazowyc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aeaea"/>
                </a:solidFill>
                <a:latin typeface="Times New Roman"/>
              </a:rPr>
              <a:t>Adam Ciećko,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</a:rPr>
              <a:t> Stanis</a:t>
            </a:r>
            <a:r>
              <a:rPr b="1" lang="pl-PL" sz="2400" spc="-1" strike="noStrike">
                <a:solidFill>
                  <a:srgbClr val="eaeaea"/>
                </a:solidFill>
                <a:latin typeface="Times New Roman"/>
              </a:rPr>
              <a:t>ł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</a:rPr>
              <a:t>aw Oszcza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9900"/>
                </a:solidFill>
                <a:latin typeface="Times New Roman"/>
              </a:rPr>
              <a:t>SATELITARNE METODY WYZNACZANIA POZYCJI WE WSPÓŁCZESNEJ GEODEZJI I NAWIGACJI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9900"/>
                </a:solidFill>
                <a:latin typeface="Times New Roman"/>
              </a:rPr>
              <a:t>23-24 czerwiec 2005 roku, Poznań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33520" y="0"/>
          <a:ext cx="2895480" cy="22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0"/>
                    <a:ext cx="2895480" cy="22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6477120" y="228600"/>
            <a:ext cx="2057040" cy="1980720"/>
            <a:chOff x="6477120" y="228600"/>
            <a:chExt cx="2057040" cy="1980720"/>
          </a:xfrm>
        </p:grpSpPr>
        <p:sp>
          <p:nvSpPr>
            <p:cNvPr id="127" name=""/>
            <p:cNvSpPr/>
            <p:nvPr/>
          </p:nvSpPr>
          <p:spPr>
            <a:xfrm>
              <a:off x="6477120" y="228600"/>
              <a:ext cx="2057040" cy="198072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3"/>
            <a:stretch/>
          </p:blipFill>
          <p:spPr>
            <a:xfrm>
              <a:off x="6477120" y="228600"/>
              <a:ext cx="2057040" cy="1980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32"/>
            </a:gs>
            <a:gs pos="50000">
              <a:srgbClr val="00006e"/>
            </a:gs>
            <a:gs pos="100000">
              <a:srgbClr val="0700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92240" y="-203040"/>
            <a:ext cx="8759520" cy="12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00"/>
                </a:solidFill>
                <a:latin typeface="Times New Roman"/>
              </a:rPr>
              <a:t>Mobile Mapper Office post-processing</a:t>
            </a:r>
            <a:r>
              <a:rPr b="0" lang="pl-P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0" y="1495440"/>
          <a:ext cx="9144000" cy="478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95440"/>
                    <a:ext cx="914400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32"/>
            </a:gs>
            <a:gs pos="50000">
              <a:srgbClr val="00006e"/>
            </a:gs>
            <a:gs pos="100000">
              <a:srgbClr val="0700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52440" y="-203040"/>
            <a:ext cx="8540640" cy="12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00"/>
                </a:solidFill>
                <a:latin typeface="Times New Roman"/>
              </a:rPr>
              <a:t>MMO (bez pkt. 33 oraz wysokości)</a:t>
            </a:r>
            <a:r>
              <a:rPr b="0" lang="pl-P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1460520"/>
          <a:ext cx="9144000" cy="46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60520"/>
                    <a:ext cx="914400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32"/>
            </a:gs>
            <a:gs pos="50000">
              <a:srgbClr val="00006e"/>
            </a:gs>
            <a:gs pos="100000">
              <a:srgbClr val="0700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71400" y="-203040"/>
            <a:ext cx="7931160" cy="12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ormat RINEX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91680" y="914400"/>
            <a:ext cx="8751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2              OBSERVATION DATA    G (GPS)             RINEX VERSION / TYP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202320" indent="-202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RINEXDLL.DLL V2.60                      23 - JUN - 05 07:11 PGM / RUN BY / DATE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202320" indent="-202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                                                            </a:t>
            </a: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COMMENT            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202320" indent="-202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0001                                                        MARKER NAME        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202320" indent="-202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                                                            </a:t>
            </a: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MARKER NUMBER      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202320" indent="-202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                                                            </a:t>
            </a: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OBSERVER / AGENCY  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202320" indent="-202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PROMARK2</a:t>
            </a: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            6.02      UNKNOWN   REC # / TYPE / VER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202320" indent="-202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                                                            </a:t>
            </a: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ANT # / TYPE       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202320" indent="-202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3557587.3500  1197155.5500  5139458.3900                  APPROX POSITION XYZ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202320" indent="-202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0.0000        0.0000        0.0000                  ANTENNA: DELTA H/E/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202320" indent="-202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1     0                                                WAVELENGTH FACT L1/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202320" indent="-202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3    L1    C1    D1</a:t>
            </a: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                                    # / TYPES OF OBSERV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202320" indent="-202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1.0000</a:t>
            </a: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                                                 INTERVAL           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202320" indent="-202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                                                            </a:t>
            </a: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LEAP SECONDS       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202320" indent="-202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2004    11    11    12    47   50.000000      GPS         TIME OF FIRST OBS  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202320" indent="-202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2004    11    11    13    33   59.000000      GPS         TIME OF LAST OBS   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202320" indent="-202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                                                            </a:t>
            </a: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END OF HEADER      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202320" indent="-202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04 11 11 12 47 50.0000000  0  4G30G05G24G09                         0.00000000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202320" indent="-202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-13338162.221 7  20316835.207        1529.74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202320" indent="-202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-13166094.631 7  20139013.732        -644.159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202320" indent="-202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-13661622.203 5  22433387.142        1519.503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202320" indent="-202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-13059542.519 4  22830757.978       -3666.73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202320" indent="-202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04 11 11 12 47 51.0000000  0  4G30G05G24G09                         0.00000000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202320" indent="-202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-13339778.584 7  20316527.621        1617.18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202320" indent="-202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-13165537.045 7  20139119.836        -556.763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202320" indent="-202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-13663228.174 5  22433081.534        1606.763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202320" indent="-202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-13055962.599 4  22831439.211       -3579.02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202320" indent="-202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04 11 11 12 47 52.0000000  0  4G30G05G24G09                         0.00000000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202320" indent="-202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-13341264.320 7  20316245.581        1486.44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202320" indent="-202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-13164848.830 7  20139251.013        -687.68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202320" indent="-202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-13664703.460 6  22432799.958        1475.72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202320" indent="-202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-13052252.194 5  22832147.188       -3709.55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202320" indent="-202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04 11 11 12 47 53.0000000  0  4G30G05G24G09                         0.00000000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202320" indent="-202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-13342721.316 7  20315968.155        1457.763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202320" indent="-202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-13164131.740 7  20139387.913        -716.26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202320" indent="-202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-13666149.658 5  22432502.298        1447.059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202320" indent="-202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-13048513.266 5  22832857.770       -3738.048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202320" indent="-202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04 11 11 12 47 54.0000000  0  4G30G05G24G09                         0.00000000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202320" indent="-202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de-DE" sz="1200" spc="-1" strike="noStrike">
                <a:solidFill>
                  <a:srgbClr val="eaeaea"/>
                </a:solidFill>
                <a:latin typeface="Courier New"/>
              </a:rPr>
              <a:t>-13344342.810 7  20315658.315        1622.219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202320" indent="-202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de-DE" sz="1200" spc="-1" strike="noStrike">
                <a:solidFill>
                  <a:srgbClr val="eaeaea"/>
                </a:solidFill>
                <a:latin typeface="Courier New"/>
              </a:rPr>
              <a:t>-13163579.158 7  20139492.290        -551.84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202320" indent="-202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de-DE" sz="1200" spc="-1" strike="noStrike">
                <a:solidFill>
                  <a:srgbClr val="eaeaea"/>
                </a:solidFill>
                <a:latin typeface="Courier New"/>
              </a:rPr>
              <a:t>-13667760.348 5  22432202.565        1611.42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202320" indent="-2023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de-DE" sz="800" spc="-1" strike="noStrike">
                <a:solidFill>
                  <a:srgbClr val="eaeaea"/>
                </a:solidFill>
                <a:latin typeface="Courier New"/>
              </a:rPr>
              <a:t>-13044938.990 5  22833536.666       -3573.403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32"/>
            </a:gs>
            <a:gs pos="50000">
              <a:srgbClr val="00006e"/>
            </a:gs>
            <a:gs pos="100000">
              <a:srgbClr val="0700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71400" y="-203040"/>
            <a:ext cx="7931160" cy="12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00"/>
                </a:solidFill>
                <a:latin typeface="Times New Roman"/>
              </a:rPr>
              <a:t>Ashech Office Suite for Survey</a:t>
            </a:r>
            <a:r>
              <a:rPr b="0" lang="pl-P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0" y="1630440"/>
          <a:ext cx="9144000" cy="477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30440"/>
                    <a:ext cx="9144000" cy="47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32"/>
            </a:gs>
            <a:gs pos="50000">
              <a:srgbClr val="00006e"/>
            </a:gs>
            <a:gs pos="100000">
              <a:srgbClr val="0700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71400" y="-203040"/>
            <a:ext cx="7931160" cy="12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odsumowani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77840" y="725400"/>
            <a:ext cx="8966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Uzyskano zaskakująco wysokie</a:t>
            </a:r>
            <a:r>
              <a:rPr b="0" lang="pl-PL" sz="3200" spc="-1" strike="noStrike">
                <a:solidFill>
                  <a:srgbClr val="eaeaea"/>
                </a:solidFill>
                <a:latin typeface="Times New Roman"/>
              </a:rPr>
              <a:t> – kilkucentymetrowe </a:t>
            </a:r>
            <a:r>
              <a:rPr b="0" lang="pl-PL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kładności pozycjonowania </a:t>
            </a:r>
            <a:r>
              <a:rPr b="0" lang="pl-PL" sz="3200" spc="-1" strike="noStrike">
                <a:solidFill>
                  <a:srgbClr val="eaeaea"/>
                </a:solidFill>
                <a:latin typeface="Times New Roman"/>
              </a:rPr>
              <a:t>odbiornikiem Thales Mobile Mapper </a:t>
            </a:r>
            <a:r>
              <a:rPr b="0" lang="pl-PL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mimo </a:t>
            </a:r>
            <a:r>
              <a:rPr b="0" lang="pl-PL" sz="3200" spc="-1" strike="noStrike">
                <a:solidFill>
                  <a:srgbClr val="eaeaea"/>
                </a:solidFill>
                <a:latin typeface="Times New Roman"/>
              </a:rPr>
              <a:t>niesprzyjających warunków pomiarowych:</a:t>
            </a:r>
            <a:r>
              <a:rPr b="0" lang="pl-PL" sz="35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eaeaea"/>
                </a:solidFill>
                <a:latin typeface="Times New Roman"/>
              </a:rPr>
              <a:t>użycie w</a:t>
            </a:r>
            <a:r>
              <a:rPr b="0" lang="pl-PL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pomiarze wyłącznie anteny</a:t>
            </a:r>
            <a:br>
              <a:rPr sz="3200"/>
            </a:br>
            <a:r>
              <a:rPr b="0" lang="pl-PL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pl-PL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pl-PL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ewnętrznej odbiornika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eaeaea"/>
                </a:solidFill>
                <a:latin typeface="Times New Roman"/>
              </a:rPr>
              <a:t>umiejscowienie odbiornika bezpośrednio na znaku</a:t>
            </a:r>
            <a:br>
              <a:rPr sz="3200"/>
            </a:br>
            <a:r>
              <a:rPr b="0" lang="pl-PL" sz="3200" spc="-1" strike="noStrike">
                <a:solidFill>
                  <a:srgbClr val="eaeaea"/>
                </a:solidFill>
                <a:latin typeface="Times New Roman"/>
              </a:rPr>
              <a:t>    geodezyjnym pod statyw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eaeaea"/>
                </a:solidFill>
                <a:latin typeface="Times New Roman"/>
              </a:rPr>
              <a:t>trudny teren z licznymi zasłonami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eaeaea"/>
                </a:solidFill>
                <a:latin typeface="Times New Roman"/>
              </a:rPr>
              <a:t>dość krótkie sesje obserwacyj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32"/>
            </a:gs>
            <a:gs pos="50000">
              <a:srgbClr val="00006e"/>
            </a:gs>
            <a:gs pos="100000">
              <a:srgbClr val="0700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71400" y="-203040"/>
            <a:ext cx="7931160" cy="12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odsumowani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77840" y="957240"/>
            <a:ext cx="8719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52160" indent="-452160" algn="just">
              <a:spcBef>
                <a:spcPts val="799"/>
              </a:spcBef>
              <a:buClr>
                <a:srgbClr val="ffff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Times New Roman"/>
              </a:rPr>
              <a:t>Planowane jest powtórzenie pomiarów eksperymentalnych z wykorzystaniem geodezyjnych anten zewnętrznych ustawianych na statywach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2160" indent="-452160" algn="just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Times New Roman"/>
              </a:rPr>
              <a:t>Spodziewane jest osiągniecie dokładności porównywalnych z geodezyjnymi odbiornikami GP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2160" indent="-452160" algn="just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Times New Roman"/>
              </a:rPr>
              <a:t>Cena odbiornika Thales Mobile Mapper na rynku amerykańskim wynosi zaledwie </a:t>
            </a:r>
            <a:br>
              <a:rPr sz="3200"/>
            </a:br>
            <a:r>
              <a:rPr b="0" lang="pl-PL" sz="3200" spc="-1" strike="noStrike">
                <a:solidFill>
                  <a:srgbClr val="eaeaea"/>
                </a:solidFill>
                <a:latin typeface="Times New Roman"/>
              </a:rPr>
              <a:t>2000 USD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32"/>
            </a:gs>
            <a:gs pos="50000">
              <a:srgbClr val="00006e"/>
            </a:gs>
            <a:gs pos="100000">
              <a:srgbClr val="0700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09520" y="0"/>
            <a:ext cx="8934480" cy="71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23880" indent="0" algn="ctr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00"/>
                </a:solidFill>
                <a:latin typeface="Times New Roman"/>
              </a:rPr>
              <a:t>Wstęp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152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Times New Roman"/>
              </a:rPr>
              <a:t>Czas:</a:t>
            </a:r>
            <a:r>
              <a:rPr b="0" lang="pl-PL" sz="3200" spc="-1" strike="noStrike">
                <a:solidFill>
                  <a:srgbClr val="eaeaea"/>
                </a:solidFill>
                <a:latin typeface="Times New Roman"/>
              </a:rPr>
              <a:t> listopad 2004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5238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52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Times New Roman"/>
              </a:rPr>
              <a:t>Miejsce:</a:t>
            </a:r>
            <a:r>
              <a:rPr b="0" lang="pl-PL" sz="3200" spc="-1" strike="noStrike">
                <a:solidFill>
                  <a:srgbClr val="eaeaea"/>
                </a:solidFill>
                <a:latin typeface="Times New Roman"/>
              </a:rPr>
              <a:t> granica powiatów: Tczew i Starogard Gdański, punkty sieci III klas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5238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52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Times New Roman"/>
              </a:rPr>
              <a:t>Sprzęt:</a:t>
            </a:r>
            <a:r>
              <a:rPr b="0" lang="pl-PL" sz="3200" spc="-1" strike="noStrike">
                <a:solidFill>
                  <a:srgbClr val="eaeaea"/>
                </a:solidFill>
                <a:latin typeface="Times New Roman"/>
              </a:rPr>
              <a:t>   geodezyjne odbiorniki L1/L2 Ashtech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52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eaeaea"/>
                </a:solidFill>
                <a:latin typeface="Times New Roman"/>
              </a:rPr>
              <a:t>odbiorniki Thales Mobile Mapper z opcją post-process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5238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52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Times New Roman"/>
              </a:rPr>
              <a:t>Oprogramowanie:</a:t>
            </a:r>
            <a:r>
              <a:rPr b="0" lang="pl-PL" sz="3200" spc="-1" strike="noStrike">
                <a:solidFill>
                  <a:srgbClr val="eaeaea"/>
                </a:solidFill>
                <a:latin typeface="Times New Roman"/>
              </a:rPr>
              <a:t> AOSS – Ashtech Office Suite for Surver, Mobile Mapper Off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32"/>
            </a:gs>
            <a:gs pos="50000">
              <a:srgbClr val="00006e"/>
            </a:gs>
            <a:gs pos="100000">
              <a:srgbClr val="0700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031840" y="0"/>
            <a:ext cx="484056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hales Mobile Mapp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9600" y="798480"/>
            <a:ext cx="4511520" cy="60595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021280" y="812880"/>
            <a:ext cx="412272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eaeaea"/>
                </a:solidFill>
                <a:latin typeface="Times New Roman"/>
              </a:rPr>
              <a:t>Odbiornik G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eaeaea"/>
                </a:solidFill>
                <a:latin typeface="Times New Roman"/>
              </a:rPr>
              <a:t>Opcja post-processing – </a:t>
            </a:r>
            <a:br>
              <a:rPr sz="2400"/>
            </a:br>
            <a:r>
              <a:rPr b="0" lang="pl-PL" sz="2400" spc="-1" strike="noStrike">
                <a:solidFill>
                  <a:srgbClr val="eaeaea"/>
                </a:solidFill>
                <a:latin typeface="Times New Roman"/>
              </a:rPr>
              <a:t>    możliwość dokupienia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eaeaea"/>
                </a:solidFill>
                <a:latin typeface="Times New Roman"/>
              </a:rPr>
              <a:t>Odbiór poprawek EGNOS </a:t>
            </a:r>
            <a:br>
              <a:rPr sz="2400"/>
            </a:br>
            <a:r>
              <a:rPr b="0" lang="pl-PL" sz="2400" spc="-1" strike="noStrike">
                <a:solidFill>
                  <a:srgbClr val="eaeaea"/>
                </a:solidFill>
                <a:latin typeface="Times New Roman"/>
              </a:rPr>
              <a:t>    i DGP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aeaea"/>
                </a:solidFill>
                <a:latin typeface="Times New Roman"/>
              </a:rPr>
              <a:t>Wodoszczeln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aeaea"/>
                </a:solidFill>
                <a:latin typeface="Times New Roman"/>
              </a:rPr>
              <a:t>Niewielki i poręczn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aeaea"/>
                </a:solidFill>
                <a:latin typeface="Times New Roman"/>
              </a:rPr>
              <a:t>Kolorowy wyświetlac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aeaea"/>
                </a:solidFill>
                <a:latin typeface="Times New Roman"/>
              </a:rPr>
              <a:t>Mały pobór prądu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aeaea"/>
                </a:solidFill>
                <a:latin typeface="Times New Roman"/>
              </a:rPr>
              <a:t>Logowanie obiektów: </a:t>
            </a:r>
            <a:br>
              <a:rPr sz="2400"/>
            </a:br>
            <a:r>
              <a:rPr b="0" lang="pl-PL" sz="2400" spc="-1" strike="noStrike">
                <a:solidFill>
                  <a:srgbClr val="eaeaea"/>
                </a:solidFill>
                <a:latin typeface="Times New Roman"/>
              </a:rPr>
              <a:t>   punktówych, liniowych oraz</a:t>
            </a:r>
            <a:br>
              <a:rPr sz="2400"/>
            </a:br>
            <a:r>
              <a:rPr b="0" lang="pl-PL" sz="2400" spc="-1" strike="noStrike">
                <a:solidFill>
                  <a:srgbClr val="eaeaea"/>
                </a:solidFill>
                <a:latin typeface="Times New Roman"/>
              </a:rPr>
              <a:t>   powierzchniowyc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32"/>
            </a:gs>
            <a:gs pos="50000">
              <a:srgbClr val="00006e"/>
            </a:gs>
            <a:gs pos="100000">
              <a:srgbClr val="0700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-276120"/>
            <a:ext cx="7931160" cy="12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ieć III klas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708120"/>
            <a:ext cx="9144000" cy="6084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32"/>
            </a:gs>
            <a:gs pos="50000">
              <a:srgbClr val="00006e"/>
            </a:gs>
            <a:gs pos="100000">
              <a:srgbClr val="0700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71400" y="-203040"/>
            <a:ext cx="7931160" cy="12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ieć punktów testowych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85896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32"/>
            </a:gs>
            <a:gs pos="50000">
              <a:srgbClr val="00006e"/>
            </a:gs>
            <a:gs pos="100000">
              <a:srgbClr val="0700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71400" y="-203040"/>
            <a:ext cx="7931160" cy="12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omiar terenow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64960" y="704880"/>
            <a:ext cx="8614080" cy="6460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095800" y="4346640"/>
            <a:ext cx="123840" cy="268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32"/>
            </a:gs>
            <a:gs pos="50000">
              <a:srgbClr val="00006e"/>
            </a:gs>
            <a:gs pos="100000">
              <a:srgbClr val="0700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71400" y="-203040"/>
            <a:ext cx="7931160" cy="12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ługość sesji obserwacyjnych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0" y="1392120"/>
          <a:ext cx="9144000" cy="47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92120"/>
                    <a:ext cx="914400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32"/>
            </a:gs>
            <a:gs pos="50000">
              <a:srgbClr val="00006e"/>
            </a:gs>
            <a:gs pos="100000">
              <a:srgbClr val="0700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39560" y="-174600"/>
            <a:ext cx="833760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czba satelitów i wartości PDOP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0" y="1427040"/>
          <a:ext cx="9144000" cy="480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27040"/>
                    <a:ext cx="9144000" cy="48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32"/>
            </a:gs>
            <a:gs pos="50000">
              <a:srgbClr val="00006e"/>
            </a:gs>
            <a:gs pos="100000">
              <a:srgbClr val="0700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71400" y="-203040"/>
            <a:ext cx="7931160" cy="12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toda absolutna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1386000"/>
          <a:ext cx="9144000" cy="480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86000"/>
                    <a:ext cx="914400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am Ciećko</cp:lastModifiedBy>
  <dcterms:modified xsi:type="dcterms:W3CDTF">2005-06-23T10:46:27Z</dcterms:modified>
  <cp:revision>35</cp:revision>
  <dc:subject/>
  <dc:title>Typical error sources in GPS positioning</dc:title>
</cp:coreProperties>
</file>