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A8C-B33E-486E-BE83-228D4829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CAF-C55E-400F-B621-02C8A049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8A7-F083-44F4-BD90-7A09AA10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CCB-8153-4A2C-A2E7-BB15A86E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2A71-1413-413C-A151-2D1A93D8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5982-F7A3-4956-914A-9D5D6B37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7156-3BA4-4D04-A760-35DCA50F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4C2F-A0AF-4E53-AC88-3B0BB614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1586-2EE8-4526-ABB0-D7D15A6E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1C00-7FDE-4427-A1DE-433210BE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43B7-8CF3-4AE7-B082-FAE1F8F9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04D-2C8D-4C2A-882D-1E824FA5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98CC-62D4-473C-87A4-B4376EB1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0861-1511-47AC-8DB4-39FD1244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50DF-AFE6-463C-81C3-3D980650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A235-40E0-40E7-A1CC-B17CB45C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9E79-F8E7-4319-A4B1-0A50EFE1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B7A-6B9E-4CF9-837D-920BA181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EB9-19B4-438A-8E06-88AAEA2E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F6E-8073-412B-92D8-4B2A06DC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0A8-A7F2-442D-96C3-80BF444D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E1D-E55F-46E7-90FA-CB5EE10F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B7F-1353-4DD2-9442-98FEE885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EA5-2FE0-4604-8C7A-7F1DCCEE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2DB5-1239-4E7A-8384-35F712DAAD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3BA1-29D1-457B-932C-FD3FACF305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5840" y="2819520"/>
            <a:ext cx="857232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Kontrola jako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ś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ci wykonania osnowy szczegó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ł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owej III klasy z wykorzystaniem pomiarów satelitarnych GP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380880"/>
            <a:ext cx="5295600" cy="25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WERSYT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MIŃSKO – MAZURS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 OLSZTY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atedra Geodezji Satelitarnej i Nawigacj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6019920"/>
            <a:ext cx="30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-24 czerwiec, 2005 r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zna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457200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osław Baryła, Stanisław Oszcza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934320" y="609480"/>
            <a:ext cx="190476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45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4. Wyrównanie siec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523880"/>
            <a:ext cx="8381880" cy="41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 wykonaniu pomiarów kontrolnych GPS przestąpiono do ścisłego wyrównania całej siec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 wyrównaniu przyjęto obserwacje kątowo–liniowe          z dzienników obserwacyjnych. Zbiór punktów stałych, przyjęty z pierwotnego opracowania, zwiększono o punkty kontrolne GPS. Jako współrzędne przybliżone przyjęto współrzędne katalogowe punktów wyznaczany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 wyrównaniu sieci błędy średnie m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położenia punktów wyznaczanych nie przekroczyły wartości 0.07 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151560"/>
            <a:ext cx="84582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5. Weryfikacja współrzędnych katalogowych osnowy szczegółowej III klas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371600"/>
            <a:ext cx="815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295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 podstawie wsp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nych katalogowych oraz wsp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nych uzyskanych w wynik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ścisłego wyrównania siec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bliczono odch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i liniow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6228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4496040" cy="2744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8320" y="2971800"/>
            <a:ext cx="43434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la 140 punktó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wraz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 punktami G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war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śc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dch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e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ini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c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e przekroc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0.10 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rys. 1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 przypadku 82 punktów odchyłki liniowe zawierały się w przedziale od 0.11 do 1.55 m (rys. 1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5791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y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. Odch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i liniowe do wsp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nych katalogowy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unktów osnowy szczeg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wej III klas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2438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zkład odchyłek liniowych w sieci przedstaw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41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00"/>
                </a:solidFill>
                <a:latin typeface="Arial"/>
              </a:rPr>
              <a:t>Map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371600"/>
            <a:ext cx="815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6228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Map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649116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ys.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zkic osnowy szczegółowej III klasy, gmina Goworow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7856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6. Podsumowani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zeprowadzona kontrola jakości wykonania osnowy szczegółowej III klas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ykaz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acz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zbi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p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sp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nymi katalogowymi punktó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 wsp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nymi uzyskanymi w wynik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miarów kontrolnych GPS oraz ścisłego wyrównania siec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ykonane 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miary GP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unk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kontrolnyc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z ścisłe wyrównanie siec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zwol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jednoznacznie ocen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a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ś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ozpatrywanej siec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dpowiednie rozmieszczenie punktó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trolnyc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PS przyczyn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s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o likwidacji 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ów wie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wych c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ów oraz równomiernego za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zczenia sieci punktami s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mi, które wykorzystano do ponownego wyrównania 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j osnowy szczeg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wej III klas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78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6. Podsumowanie – c.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yznaczenie punktów kontrolnych GPS oraz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 wyrównanie osnowy szczeg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wej III kl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wskazu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na praw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w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ś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wykonan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szystkic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a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 trakcie za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ania niniejszej osnowy. Stwierdzone r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ce wsp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nych wynika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z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ó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które najprawdopodobniej wystąpiły w momenci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ządzan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zez wykonaw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estawienia współrzędnych punktó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3733920"/>
            <a:ext cx="853452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 przypadku wsp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nych punktów GPS, wyznaczonych w ramach niniejszego opracowan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zaleca s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rzy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ie tych wsp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nych jako katalogow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rzypadku punktó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yznaczanych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la których r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ce wsp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nych przekrocz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war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ś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0.10 m, zaleca s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zmi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wsp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nych katalogowych na now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93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16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Wstę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czegółowa osnowa geodezyjna powinna wyróżniać się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74320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widłowo wykonanym i zweryfikowanym w terenie projektem techniczny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powiednio zastabilizowanymi punktam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zetelnie wykonanymi obserwacjam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widłowo przeprowadzonym wyrównaniem siec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średnimi błędami położenia punktu mieszczących się                w granicach dopuszczalnych tolerancj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mpletną, uporządkowaną dokumentacją techniczn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30348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Wstęp – c.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295280"/>
            <a:ext cx="8763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łównym celem przeprowadzenia kontroli jakości wykonania osnowy geodezyjnej z wykorzystaniem pomiarów GPS było wykrycie przyczyn powstania błędów w wartościach współrzędnych katalogowych punktów osnowy szczegółowa III klasy założonej w 1993 roku na obszarze gminy Goworow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42900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trolę jakości wykonania osnowy szczegółowej III klasy przeprowadzono w trzech etapach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38592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 i weryfikacja materiałów archiwalny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38592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ykonanie pomiarów kontrolnych GP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38592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yrównanie sieci z wykorzystaniem obserwacji liniowo–kątowy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27880"/>
            <a:ext cx="8991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2. Analiza i weryfikacja materiałów archiwalnyc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ntrolą objęto 237 punktów osnowy szczegółowej III klasy zlokalizowanej na terenie północnej części gminy Goworow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 pierwszym etapie poddano szczegółowej analizie    i sprawdzeniu materiały źródłowe dotycząc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nstrukcji  sieci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konania obserwacji kątowo–liniowych oraz  wyznaczenia pomiarami GPS współrzędnych punktów nawiązani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ścisłego wyrównania siec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30348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2.1. Konstrukcja siec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143000"/>
            <a:ext cx="74833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 skład sieci wchodzą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ciągów poligonowych obustronnie nawiązany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układ jednowęzłow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układ trójwęzłow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układ czterowęzłow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układ pięciowęzłow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4191120"/>
            <a:ext cx="76960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zyjęto następujące nawiązanie siec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 algn="just">
              <a:lnSpc>
                <a:spcPct val="13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punkty osnowy podstawowej I klas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 algn="just">
              <a:lnSpc>
                <a:spcPct val="13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 punktów osnowy szczegółowej II klas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 algn="just">
              <a:lnSpc>
                <a:spcPct val="13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punktów istniejącej osnowy szczegółowej III klasy oraz 12 punktów wyznaczonych pomiarami G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82296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2.2. Wykonanie obserwacji kątowo–liniowych oraz wyznaczenie współrzędnych punktów GP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676520"/>
            <a:ext cx="815364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ując dzienniki obserwacyjne zauważa się dużą staranność w ich prowadzeni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wacje kątowo–liniowe wykonano dwukrotnie, przy pojedynczym naprowadzaniu celowej, następującymi przyrządam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miar kątów: teodolit T–160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miar długości boków: dalmierz DI 16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spółrzędne punktów GPS wyznaczono na podstawie 2 punktów osnowy podstawowej I klasy               oraz 2 punktów osnowy szczegółowej II klasy. Do nawiązania wysokości przyjęto 2 punkty osnowy wysokościowe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2.3. Ścisłe wyrównanie siec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447920"/>
            <a:ext cx="845820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naliza przyjętych do wyrównania danych wykazała, że część punktów, wykazanych w projekcie jako punkty  nawiązania ciągów poligonowych, została wyłączona ze zbioru punktów stały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Średnie błędy położenia punktów m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nie przekroczyły wartości 0.10 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równanie współrzędnych wyrównanych ze współrzędnymi katalogowymi punktów wykazało różnice dochodzące do 1 m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8229600" cy="6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3. Wykonanie pomiarów kontrolnych GP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990720"/>
            <a:ext cx="746784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wykonania pomiarów kontrolnych GPS wykorzystano procedurę modernizacji starych osnów geodezyjnych polegającą n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worzeniu projektu modernizacji osnow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wentaryzacji punktów kontrolny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yznaczeniem współrzędnych punktów kontrolnych metodą GP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yrównani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snowy geodezyjnej z przy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iem punktó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trolny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ako s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trzeci etap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8229600" cy="6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3. Wykonanie pomiarów kontrolnych GP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219320"/>
            <a:ext cx="8534160" cy="45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 wyniku przeprowadzonych pomiarów kontrolnych GPS wyznaczono współrzędne 51 punktów, likwidując tym samym wielowęzłowe układy ciągów w siec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nowne wyznacz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enie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wspó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z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n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unktów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GPS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wyznaczonych przez W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jskowy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środek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eodezji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eledetekcji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nie wykaza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ło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wi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szych ró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c. Maksymalne ró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ce wspó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z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nych nie przekrocz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ył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0.05 m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, co wskazuje na prawidłowo przeprowadzoną procedurę wyznaczenia współrzędnych tych punktów przez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OGiT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06:36:44Z</dcterms:created>
  <dc:creator>Radoslaw Baryla</dc:creator>
  <dc:description/>
  <dc:language>en-US</dc:language>
  <cp:lastModifiedBy>Radosław Baryła</cp:lastModifiedBy>
  <dcterms:modified xsi:type="dcterms:W3CDTF">2005-06-22T13:16:20Z</dcterms:modified>
  <cp:revision>106</cp:revision>
  <dc:subject/>
  <dc:title>Dokładność pomiarów RTK w funkcji odległości od stacji referencyjnej</dc:title>
</cp:coreProperties>
</file>