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80.gif" ContentType="image/gif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41.jpeg" ContentType="image/jpeg"/>
  <Override PartName="/ppt/media/image14.jpeg" ContentType="image/jpeg"/>
  <Override PartName="/ppt/media/image20.jpeg" ContentType="image/jpeg"/>
  <Override PartName="/ppt/media/image21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25.jpeg" ContentType="image/jpeg"/>
  <Override PartName="/ppt/media/image32.png" ContentType="image/pn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4BD0-4E58-4EB9-A954-AACB4EC41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04D1-C24F-42DE-9E6F-43315370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C465-6401-4E90-83D0-14BB3B802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143D-3DC2-4D28-899D-9183C6ED1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C716-F6CA-45E6-B307-FA550B4A2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3D4D-6729-462D-A069-4BD54A60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B231-4609-481C-95D3-F45FD6D0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E37E-6A54-43BE-93BE-41E3D7BC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FD99-78B2-40BD-8955-2D3EC409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72DB-076B-4E7C-A986-93DA8770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17EC-AB7C-4368-898C-EFA82688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5DC1-E7A6-480E-B451-27AEE4D1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E747-E419-4948-AA03-97B8EFAD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C0E3-F2EE-4B3A-8B6A-03C76281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4F5E-948F-4436-B7E8-66FE774B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C45A-0C45-49B6-8811-9C4489AA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B06E-37D1-4E57-BFE8-F507CF613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2C39-C7FF-4B28-8572-7FEAE098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EE77-C454-4164-9075-84407E9C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CC92-0FBC-486F-B402-82AB4A07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E7D4-7D7C-4796-9062-B46BD72E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1AAC-F03F-4B37-BFA4-B7A03C28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9E95-3B08-4426-B72B-2AE48CF3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EF84-A3F2-4C09-908F-B5C961CB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28AD-3746-4A21-ACF3-AC3E0D0408F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967F-2EAC-4A96-8B12-73104822A85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image" Target="../media/image44.jpeg"/><Relationship Id="rId10" Type="http://schemas.openxmlformats.org/officeDocument/2006/relationships/image" Target="../media/image45.jpeg"/><Relationship Id="rId1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image" Target="../media/image56.jpeg"/><Relationship Id="rId9" Type="http://schemas.openxmlformats.org/officeDocument/2006/relationships/image" Target="../media/image57.jpeg"/><Relationship Id="rId10" Type="http://schemas.openxmlformats.org/officeDocument/2006/relationships/image" Target="../media/image58.jpeg"/><Relationship Id="rId11" Type="http://schemas.openxmlformats.org/officeDocument/2006/relationships/image" Target="../media/image59.jpeg"/><Relationship Id="rId12" Type="http://schemas.openxmlformats.org/officeDocument/2006/relationships/image" Target="../media/image60.jpeg"/><Relationship Id="rId13" Type="http://schemas.openxmlformats.org/officeDocument/2006/relationships/image" Target="../media/image61.jpeg"/><Relationship Id="rId14" Type="http://schemas.openxmlformats.org/officeDocument/2006/relationships/image" Target="../media/image62.jpeg"/><Relationship Id="rId15" Type="http://schemas.openxmlformats.org/officeDocument/2006/relationships/image" Target="../media/image63.jpeg"/><Relationship Id="rId16" Type="http://schemas.openxmlformats.org/officeDocument/2006/relationships/image" Target="../media/image64.jpeg"/><Relationship Id="rId17" Type="http://schemas.openxmlformats.org/officeDocument/2006/relationships/image" Target="../media/image65.jpeg"/><Relationship Id="rId18" Type="http://schemas.openxmlformats.org/officeDocument/2006/relationships/image" Target="../media/image66.jpeg"/><Relationship Id="rId19" Type="http://schemas.openxmlformats.org/officeDocument/2006/relationships/image" Target="../media/image67.jpeg"/><Relationship Id="rId20" Type="http://schemas.openxmlformats.org/officeDocument/2006/relationships/image" Target="../media/image68.jpeg"/><Relationship Id="rId21" Type="http://schemas.openxmlformats.org/officeDocument/2006/relationships/image" Target="../media/image69.jpeg"/><Relationship Id="rId22" Type="http://schemas.openxmlformats.org/officeDocument/2006/relationships/image" Target="../media/image70.jpeg"/><Relationship Id="rId23" Type="http://schemas.openxmlformats.org/officeDocument/2006/relationships/image" Target="../media/image71.jpeg"/><Relationship Id="rId24" Type="http://schemas.openxmlformats.org/officeDocument/2006/relationships/image" Target="../media/image72.jpeg"/><Relationship Id="rId25" Type="http://schemas.openxmlformats.org/officeDocument/2006/relationships/image" Target="../media/image73.jpeg"/><Relationship Id="rId26" Type="http://schemas.openxmlformats.org/officeDocument/2006/relationships/image" Target="../media/image74.jpeg"/><Relationship Id="rId27" Type="http://schemas.openxmlformats.org/officeDocument/2006/relationships/image" Target="../media/image75.jpeg"/><Relationship Id="rId28" Type="http://schemas.openxmlformats.org/officeDocument/2006/relationships/image" Target="../media/image76.jpeg"/><Relationship Id="rId29" Type="http://schemas.openxmlformats.org/officeDocument/2006/relationships/image" Target="../media/image77.jpeg"/><Relationship Id="rId30" Type="http://schemas.openxmlformats.org/officeDocument/2006/relationships/image" Target="../media/image78.jpeg"/><Relationship Id="rId31" Type="http://schemas.openxmlformats.org/officeDocument/2006/relationships/image" Target="../media/image79.jpeg"/><Relationship Id="rId3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0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394920" y="3499920"/>
            <a:ext cx="8280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omasz Michałowsk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entrum Badań Kosmicznych P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623736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6340320"/>
            <a:ext cx="8209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elitarne metody wyznaczania pozycji we współczesnej geodezji i nawigacj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znań, 23-24 czerwca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70400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4000" y="404640"/>
            <a:ext cx="78483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Analiza parametrów UDRE i szybkich poprawe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623736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9640" y="6340320"/>
            <a:ext cx="8209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elitarne metody wyznaczania pozycji we współczesnej geodezji i nawigacj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znań, 23-24 czerwca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95640" cy="3459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5616360" cy="43974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084720" y="836640"/>
            <a:ext cx="2374920" cy="17398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6084720" y="2637000"/>
            <a:ext cx="2386080" cy="1746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6084720" y="4437000"/>
            <a:ext cx="2374920" cy="17398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124000" y="5661000"/>
            <a:ext cx="1584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RN 13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2.02.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10920" y="404640"/>
            <a:ext cx="78483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Verdana"/>
              </a:rPr>
              <a:t>Analiza parametrów UDRE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250920" y="623736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9640" y="6340320"/>
            <a:ext cx="8209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elitarne metody wyznaczania pozycji we współczesnej geodezji i nawigacj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znań, 23-24 czerwca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95640" cy="3459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3419640" y="4437000"/>
            <a:ext cx="2304720" cy="16876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468360" y="981000"/>
            <a:ext cx="2303280" cy="16858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3419640" y="981000"/>
            <a:ext cx="2303280" cy="16858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6227640" y="981000"/>
            <a:ext cx="2305080" cy="16858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468360" y="2708280"/>
            <a:ext cx="2303280" cy="16858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7"/>
          <a:stretch/>
        </p:blipFill>
        <p:spPr>
          <a:xfrm>
            <a:off x="3419640" y="2708280"/>
            <a:ext cx="2303280" cy="16858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8"/>
          <a:stretch/>
        </p:blipFill>
        <p:spPr>
          <a:xfrm>
            <a:off x="6227640" y="2708280"/>
            <a:ext cx="2305080" cy="16876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9"/>
          <a:stretch/>
        </p:blipFill>
        <p:spPr>
          <a:xfrm>
            <a:off x="468360" y="4437000"/>
            <a:ext cx="2303280" cy="16876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0"/>
          <a:stretch/>
        </p:blipFill>
        <p:spPr>
          <a:xfrm>
            <a:off x="6227640" y="4437000"/>
            <a:ext cx="2305080" cy="16858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885080" y="260280"/>
            <a:ext cx="1584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RN 13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2.02.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403280" y="40464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Analiza statusu monitorowanych satelitów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250920" y="623736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9640" y="6340320"/>
            <a:ext cx="8209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elitarne metody wyznaczania pozycji we współczesnej geodezji i nawigacj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znań, 23-24 czerwca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95640" cy="3459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4892760" cy="38260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156360" y="981000"/>
            <a:ext cx="2303280" cy="16858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6156360" y="2708280"/>
            <a:ext cx="2303280" cy="16858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6156360" y="4437000"/>
            <a:ext cx="2303280" cy="16858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411280" y="5516640"/>
            <a:ext cx="1584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RN 1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2.02.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476360" y="33336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Analiza statusu monitorowanych satelitów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/>
          <p:nvPr/>
        </p:nvSpPr>
        <p:spPr>
          <a:xfrm>
            <a:off x="250920" y="623736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9640" y="6340320"/>
            <a:ext cx="8209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elitarne metody wyznaczania pozycji we współczesnej geodezji i nawigacj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znań, 23-24 czerwca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95640" cy="3459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1692360" y="836640"/>
            <a:ext cx="1295280" cy="9460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4572000" y="1916280"/>
            <a:ext cx="1295280" cy="9475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4572000" y="2997360"/>
            <a:ext cx="1295280" cy="9475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5"/>
          <a:stretch/>
        </p:blipFill>
        <p:spPr>
          <a:xfrm>
            <a:off x="4572000" y="4097160"/>
            <a:ext cx="1295280" cy="9478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6"/>
          <a:stretch/>
        </p:blipFill>
        <p:spPr>
          <a:xfrm>
            <a:off x="3132000" y="4076640"/>
            <a:ext cx="1295640" cy="9478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7"/>
          <a:stretch/>
        </p:blipFill>
        <p:spPr>
          <a:xfrm>
            <a:off x="3132000" y="2997360"/>
            <a:ext cx="1295640" cy="9475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8"/>
          <a:stretch/>
        </p:blipFill>
        <p:spPr>
          <a:xfrm>
            <a:off x="3132000" y="1916280"/>
            <a:ext cx="1295640" cy="9475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9"/>
          <a:stretch/>
        </p:blipFill>
        <p:spPr>
          <a:xfrm>
            <a:off x="1692360" y="2997360"/>
            <a:ext cx="1295280" cy="9475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0"/>
          <a:stretch/>
        </p:blipFill>
        <p:spPr>
          <a:xfrm>
            <a:off x="1692360" y="1916280"/>
            <a:ext cx="1297080" cy="9475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11"/>
          <a:stretch/>
        </p:blipFill>
        <p:spPr>
          <a:xfrm>
            <a:off x="250920" y="836640"/>
            <a:ext cx="1296720" cy="9493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2"/>
          <a:stretch/>
        </p:blipFill>
        <p:spPr>
          <a:xfrm>
            <a:off x="6012000" y="1916280"/>
            <a:ext cx="1295280" cy="9460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13"/>
          <a:stretch/>
        </p:blipFill>
        <p:spPr>
          <a:xfrm>
            <a:off x="1692360" y="4076640"/>
            <a:ext cx="1295280" cy="9478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4"/>
          <a:stretch/>
        </p:blipFill>
        <p:spPr>
          <a:xfrm>
            <a:off x="250920" y="2997360"/>
            <a:ext cx="1296720" cy="9475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15"/>
          <a:stretch/>
        </p:blipFill>
        <p:spPr>
          <a:xfrm>
            <a:off x="250920" y="5157720"/>
            <a:ext cx="1296720" cy="9493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16"/>
          <a:stretch/>
        </p:blipFill>
        <p:spPr>
          <a:xfrm>
            <a:off x="250920" y="4076640"/>
            <a:ext cx="1296720" cy="9478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17"/>
          <a:stretch/>
        </p:blipFill>
        <p:spPr>
          <a:xfrm>
            <a:off x="4572000" y="5157720"/>
            <a:ext cx="1295280" cy="9460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18"/>
          <a:stretch/>
        </p:blipFill>
        <p:spPr>
          <a:xfrm>
            <a:off x="6012000" y="2997360"/>
            <a:ext cx="1295280" cy="9460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19"/>
          <a:stretch/>
        </p:blipFill>
        <p:spPr>
          <a:xfrm>
            <a:off x="6012000" y="4076640"/>
            <a:ext cx="1296720" cy="9478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0"/>
          <a:stretch/>
        </p:blipFill>
        <p:spPr>
          <a:xfrm>
            <a:off x="1692360" y="5157720"/>
            <a:ext cx="1295280" cy="9478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1"/>
          <a:stretch/>
        </p:blipFill>
        <p:spPr>
          <a:xfrm>
            <a:off x="3132000" y="5157720"/>
            <a:ext cx="1295640" cy="9478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2"/>
          <a:stretch/>
        </p:blipFill>
        <p:spPr>
          <a:xfrm>
            <a:off x="6012000" y="5157720"/>
            <a:ext cx="1296720" cy="9478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3"/>
          <a:stretch/>
        </p:blipFill>
        <p:spPr>
          <a:xfrm>
            <a:off x="7451640" y="5157720"/>
            <a:ext cx="1297080" cy="947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4"/>
          <a:stretch/>
        </p:blipFill>
        <p:spPr>
          <a:xfrm>
            <a:off x="250920" y="1916280"/>
            <a:ext cx="1296720" cy="9475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5"/>
          <a:stretch/>
        </p:blipFill>
        <p:spPr>
          <a:xfrm>
            <a:off x="3132000" y="836640"/>
            <a:ext cx="1297080" cy="9478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6"/>
          <a:stretch/>
        </p:blipFill>
        <p:spPr>
          <a:xfrm>
            <a:off x="7451640" y="4076640"/>
            <a:ext cx="1297080" cy="9478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7"/>
          <a:stretch/>
        </p:blipFill>
        <p:spPr>
          <a:xfrm>
            <a:off x="7451640" y="2997360"/>
            <a:ext cx="1297080" cy="9475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8"/>
          <a:stretch/>
        </p:blipFill>
        <p:spPr>
          <a:xfrm>
            <a:off x="7451640" y="1916280"/>
            <a:ext cx="1297080" cy="9475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9"/>
          <a:stretch/>
        </p:blipFill>
        <p:spPr>
          <a:xfrm>
            <a:off x="4572000" y="836640"/>
            <a:ext cx="1295280" cy="9478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0"/>
          <a:stretch/>
        </p:blipFill>
        <p:spPr>
          <a:xfrm>
            <a:off x="6012000" y="836640"/>
            <a:ext cx="1296720" cy="9478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1"/>
          <a:stretch/>
        </p:blipFill>
        <p:spPr>
          <a:xfrm>
            <a:off x="7451640" y="836640"/>
            <a:ext cx="1297080" cy="9478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7885080" y="189000"/>
            <a:ext cx="1584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RN 1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2.02.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Wniosk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250920" y="623736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9640" y="6340320"/>
            <a:ext cx="8209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elitarne metody wyznaczania pozycji we współczesnej geodezji i nawigacj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znań, 23-24 czerwca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95640" cy="3459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900000" y="2205000"/>
            <a:ext cx="748836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zydatne narzędzie pomocnic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starczanie prawie na bieżąco informacji na te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unkcjonowania systemu EG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brazowanie jakości i ilości emitowanych sygnałó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łatwia zrozumienie funkcjonowania systemów SB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332000" y="177336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ziękuję za uwag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250920" y="623736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9640" y="6340320"/>
            <a:ext cx="8209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elitarne metody wyznaczania pozycji we współczesnej geodezji i nawigacj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znań, 23-24 czerwca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3635280" y="256536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84360" y="692280"/>
            <a:ext cx="640080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Verdana"/>
              </a:rPr>
              <a:t>Funkcje programu SISNeTlab v. 1.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analiza ilościowo - jakościowa przesyłanych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wiadomośc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analiza częstotliwości aktualizacji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wiadomośc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analiza utraconych wiadomośc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analiza efektów jonosferycznyc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analiza parametrów UDR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i szybkich popraw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analiza statusu monitorowanych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satelitów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Verdana"/>
              </a:rPr>
              <a:t>Obsługiwane satelity GEO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PRN 120 (AOR-E – EGNO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PRN 122 (AOR-W – WAA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PRN 124 (Artemis – EGNO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PRN 126 (IOR-W – EGNO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PRN 131 (IOR – ESTB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623736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6340320"/>
            <a:ext cx="8209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elitarne metody wyznaczania pozycji we współczesnej geodezji i nawigacj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znań, 23-24 czerwca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580000" y="1557360"/>
            <a:ext cx="3051360" cy="4392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3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50920" y="623736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6340320"/>
            <a:ext cx="8209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elitarne metody wyznaczania pozycji we współczesnej geodezji i nawigacj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znań, 23-24 czerwca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95640" cy="345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"/>
          <p:cNvGraphicFramePr/>
          <p:nvPr/>
        </p:nvGraphicFramePr>
        <p:xfrm>
          <a:off x="324000" y="1125360"/>
          <a:ext cx="8640720" cy="4952880"/>
        </p:xfrm>
        <a:graphic>
          <a:graphicData uri="http://schemas.openxmlformats.org/drawingml/2006/table">
            <a:tbl>
              <a:tblPr/>
              <a:tblGrid>
                <a:gridCol w="1152360"/>
                <a:gridCol w="2952720"/>
                <a:gridCol w="792360"/>
                <a:gridCol w="3743280"/>
              </a:tblGrid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y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Zawartoś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y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Zawartoś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ie wykorzystywane w aplikacjach związanych z bezpieczeństwem / wiadomość testow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ski IG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ska PR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łączone szybkie i wolne poprawk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, 3, 4, 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zybkie poprawk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prawki do wolnych błędów satelitarnyc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iarygodnoś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prawki do opóźnienia jonosferyczneg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spółczynnik degradacji szybkich poprawe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iadomość serwisu SB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iadomość nawigacyjna GE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formacja o macierzy kowariancyjnej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ametry degradacj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ewnętrzny test wiadomośc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prawki do czasu UT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usta wiadomośc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lmanach satelitów GE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1619280" y="40464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Typy wiadomości EG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323640" y="549360"/>
            <a:ext cx="85690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Analiza ilościowo - jakościowa przesyłanych wiadomośc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623736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6340320"/>
            <a:ext cx="8209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elitarne metody wyznaczania pozycji we współczesnej geodezji i nawigacj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znań, 23-24 czerwca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95640" cy="3459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3960720" cy="2970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324000" y="407664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4716360" y="1052640"/>
            <a:ext cx="3961080" cy="2970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3132000" y="4149720"/>
            <a:ext cx="2951280" cy="2043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708360" y="3573360"/>
            <a:ext cx="865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Verdana"/>
              </a:rPr>
              <a:t>PRN 12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Verdana"/>
              </a:rPr>
              <a:t>12.02.0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56720" y="3573360"/>
            <a:ext cx="865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Verdana"/>
              </a:rPr>
              <a:t>PRN 13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Verdana"/>
              </a:rPr>
              <a:t>12.02.0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84360" y="5734080"/>
            <a:ext cx="8654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cc"/>
                </a:solidFill>
                <a:latin typeface="Verdana"/>
              </a:rPr>
              <a:t>PRN 126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cc"/>
                </a:solidFill>
                <a:latin typeface="Verdana"/>
              </a:rPr>
              <a:t>14.06.05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08720" y="5805360"/>
            <a:ext cx="865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cc"/>
                </a:solidFill>
                <a:latin typeface="Verdana"/>
              </a:rPr>
              <a:t>PRN 124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cc"/>
                </a:solidFill>
                <a:latin typeface="Verdana"/>
              </a:rPr>
              <a:t>14.06.05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6156360" y="4076640"/>
            <a:ext cx="2771640" cy="20797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8278920" y="5805360"/>
            <a:ext cx="865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cc"/>
                </a:solidFill>
                <a:latin typeface="Verdana"/>
              </a:rPr>
              <a:t>PRN 122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cc"/>
                </a:solidFill>
                <a:latin typeface="Verdana"/>
              </a:rPr>
              <a:t>22.06.05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39280" y="549360"/>
            <a:ext cx="820764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Analiza częstotliwości aktualizacji wiadomośc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623736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6340320"/>
            <a:ext cx="8209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elitarne metody wyznaczania pozycji we współczesnej geodezji i nawigacj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znań, 23-24 czerwca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95640" cy="345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826920" y="1125360"/>
            <a:ext cx="2152800" cy="2476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3851280" y="1125360"/>
            <a:ext cx="3457440" cy="25322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1042920" y="3789360"/>
            <a:ext cx="3240000" cy="23716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5148360" y="3789360"/>
            <a:ext cx="3241440" cy="23734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740720" y="2060640"/>
            <a:ext cx="140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N 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2.02.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68360" y="549360"/>
            <a:ext cx="820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Analiza częstotliwości aktualizacji wiadomośc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23736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6340320"/>
            <a:ext cx="8209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elitarne metody wyznaczania pozycji we współczesnej geodezji i nawigacj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znań, 23-24 czerwca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95640" cy="3459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716360" y="4365720"/>
            <a:ext cx="1871640" cy="1369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877080" y="4365720"/>
            <a:ext cx="1871640" cy="13698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324000" y="1125360"/>
            <a:ext cx="1871640" cy="13701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2484360" y="1125360"/>
            <a:ext cx="1873440" cy="1370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324000" y="2708280"/>
            <a:ext cx="1871640" cy="13701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7"/>
          <a:stretch/>
        </p:blipFill>
        <p:spPr>
          <a:xfrm>
            <a:off x="2484360" y="2693880"/>
            <a:ext cx="1871640" cy="1370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8"/>
          <a:stretch/>
        </p:blipFill>
        <p:spPr>
          <a:xfrm>
            <a:off x="4716360" y="2708280"/>
            <a:ext cx="1871640" cy="13701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9"/>
          <a:stretch/>
        </p:blipFill>
        <p:spPr>
          <a:xfrm>
            <a:off x="6877080" y="2708280"/>
            <a:ext cx="1871640" cy="13701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0"/>
          <a:stretch/>
        </p:blipFill>
        <p:spPr>
          <a:xfrm>
            <a:off x="324000" y="4365720"/>
            <a:ext cx="1873080" cy="13716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1"/>
          <a:stretch/>
        </p:blipFill>
        <p:spPr>
          <a:xfrm>
            <a:off x="4716360" y="1125360"/>
            <a:ext cx="1871640" cy="13716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2"/>
          <a:stretch/>
        </p:blipFill>
        <p:spPr>
          <a:xfrm>
            <a:off x="6877080" y="1125360"/>
            <a:ext cx="1871640" cy="1371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3"/>
          <a:stretch/>
        </p:blipFill>
        <p:spPr>
          <a:xfrm>
            <a:off x="2484360" y="4365720"/>
            <a:ext cx="1871640" cy="1369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456000" y="5877000"/>
            <a:ext cx="189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RN 126, 14.06.200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1332000" y="54936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Analiza utraconych wiadomośc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623736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9640" y="6340320"/>
            <a:ext cx="8209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elitarne metody wyznaczania pozycji we współczesnej geodezji i nawigacj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znań, 23-24 czerwca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95640" cy="3459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4679640" cy="3510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5148360" y="134136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5148360" y="3716280"/>
            <a:ext cx="2952720" cy="22147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050920" y="5373720"/>
            <a:ext cx="14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N 1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2.02.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101080" y="4581360"/>
            <a:ext cx="1403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RN 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2.02.0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172360" y="2060640"/>
            <a:ext cx="1403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RN 12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5.06.0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332000" y="54936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Analiza efektów jonosferyczny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250920" y="623736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6340320"/>
            <a:ext cx="8209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elitarne metody wyznaczania pozycji we współczesnej geodezji i nawigacj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znań, 23-24 czerwca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95640" cy="3459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2732040" cy="4824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3203640" y="1268280"/>
            <a:ext cx="5724360" cy="42944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580000" y="5661000"/>
            <a:ext cx="1584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RN 1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2.02.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332000" y="54936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Analiza efektów jonosferyczny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250920" y="623736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9640" y="6340320"/>
            <a:ext cx="8209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elitarne metody wyznaczania pozycji we współczesnej geodezji i nawigacj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znań, 23-24 czerwca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95640" cy="3459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11280" y="350028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5364000" y="4221000"/>
            <a:ext cx="2521080" cy="18907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4643280" y="1125360"/>
            <a:ext cx="4032360" cy="3024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900000" y="1341360"/>
            <a:ext cx="2819520" cy="17715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924360" y="4941720"/>
            <a:ext cx="1584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RN 1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2.02.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0T12:49:11Z</dcterms:created>
  <dc:creator>tgm</dc:creator>
  <dc:description/>
  <dc:language>en-US</dc:language>
  <cp:lastModifiedBy>tgm</cp:lastModifiedBy>
  <dcterms:modified xsi:type="dcterms:W3CDTF">2005-06-22T11:27:51Z</dcterms:modified>
  <cp:revision>35</cp:revision>
  <dc:subject/>
  <dc:title>Slajd 1</dc:title>
</cp:coreProperties>
</file>