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5.wmf" ContentType="image/x-wmf"/>
  <Override PartName="/ppt/media/image10.wmf" ContentType="image/x-wmf"/>
  <Override PartName="/ppt/media/camera.wav" ContentType="audio/x-wav"/>
  <Override PartName="/ppt/media/image17.gif" ContentType="image/gif"/>
  <Override PartName="/ppt/media/image2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3C8-556A-49E9-8DAE-273E57D2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323-1F88-494F-977B-6CA619ED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A3D-864D-4CAB-AEDE-4BB62610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7BC-021D-4F3D-BB4E-257487AD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4296-B855-4BB1-BDB1-60B43EBD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5BA8-04C1-4F64-9232-6B2837E6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E290-F568-4DE4-BB99-D1DF2841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E9DC-CA94-4C0A-8C90-53011F3E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9152-D8FA-474F-8CC5-2F00A606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AE27-1367-4B7D-929B-C083CB56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2C49-20BE-41E7-91AA-1851110E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E64-16FC-4E74-8CAD-5371C19D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7D9B-0EBC-4266-9320-45E08DB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A72F-ACAB-4FD7-B451-438F0E1E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5105-C886-4BCF-A43F-9EFAA4B4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6112-D4A9-4ADB-8D43-C73C223E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1C62-0B1B-46D6-ABCB-EE98249B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A9B-A5DA-4BA8-B04A-8C3F7FE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4B0-0796-434C-B9CC-E31A3BF2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DF5-221D-4DE3-86C6-668861F7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2CC-290E-4C9E-9742-3AF227B3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B80-DA1E-4721-A86B-05928D8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30F-56D5-4580-BDBE-C1CE5DE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C4B-2E5A-4102-B046-BBE91AE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2ECC-7ACF-4C80-9173-210919537528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87C5-9D9C-4EF1-9BE7-883FDF6A9DC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BEB4-0274-481C-9EC5-7A2B4357B131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3336-B0B7-4CFA-AEA0-CEE528CA5E04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8642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Arial"/>
              </a:rPr>
              <a:t>Zmienna oscylacja roczna atmosferyczno–oceanicznej funkcji pobudzenia źródłem pobudzania oscylacji Chandlera we współrzędnych bieguna ziemskieg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2997360"/>
            <a:ext cx="853416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Kosek Wiesł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Centrum Badań Kosmicznych, 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60" y="40384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94360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95480" y="532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63400"/>
            <a:ext cx="914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Times New Roman"/>
              </a:rPr>
              <a:t>SEMINARI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Times New Roman"/>
              </a:rPr>
              <a:t>Komisji Geodezji Satelitarnej Komitetu Badań Kosmicznych i Satelitarnych P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Times New Roman"/>
              </a:rPr>
              <a:t>ora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Times New Roman"/>
              </a:rPr>
              <a:t>Sekcji Sieci Geodezyjnych Komitetu Geodezji P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Times New Roman"/>
              </a:rPr>
              <a:t>SATELITARNE METODY WYZNACZANIA POZYCJI WE WSPÓŁCZESNEJ GEODEZJI I NAWIGAC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Times New Roman"/>
              </a:rPr>
              <a:t>23-24 czerwiec 2005. Pozna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DD43-233F-4F9D-A406-808BD5C542D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19E34AC-E438-4362-9B9B-46F69D78113A}" type="datetime1">
              <a:rPr lang="en-US"/>
              <a:t>07/30/26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miany fazy oscylacji Chandlera i rocznej  wyznaczone metodą LS w 4-letnich przedziałach czasowych oraz metodą transformaty falkowej Morleta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319880" cy="468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C35-171B-482F-864B-119FA8954A0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8DE04-2CA7-405C-B891-C8BBB49682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kres zdudnienia oscylacji Chandlera i rocznej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40000" y="1484280"/>
                <a:ext cx="48974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ea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Δϕ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ean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ΔT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st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35280" y="3141720"/>
                <a:ext cx="52578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592200" y="575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9480" y="5013360"/>
                <a:ext cx="7456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22</m:t>
                    </m:r>
                    <m:r>
                      <m:rPr>
                        <m:lit/>
                        <m:nor/>
                      </m:rPr>
                      <m:t xml:space="preserve">days</m:t>
                    </m:r>
                    <m:m>
                      <m:mr>
                        <m:e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</m:sub>
                          </m:sSub>
                        </m:e>
                      </m:mr>
                    </m:m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ys</m:t>
                    </m:r>
                    <m:r>
                      <m:t xml:space="preserve">,</m:t>
                    </m:r>
                    <m:m>
                      <m:mr>
                        <m:e/>
                      </m:mr>
                    </m:m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a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yea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E40-DD62-43CF-A172-E3D179F104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81791-BD51-46D0-8B00-6CC761E6B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s zdudnienia wyznaczony z faz oscylacji rocznej i Chandlera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2865600"/>
            <a:ext cx="6481800" cy="178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5975280" cy="836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476360" y="1012680"/>
            <a:ext cx="5975280" cy="839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187280" y="4867200"/>
            <a:ext cx="6264360" cy="15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73A-6BB2-47ED-8412-19B5006BC97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AE18F-A00E-4132-AE83-CE881C526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s zdudnienia oscylacji rocznej i Chandlera. Pochodna amplitudy oscylacji Chandlera. Faza oscylacji rocznej w AAM+OAM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5761080" cy="1700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5905800" cy="1233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886520" y="2525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720" y="158904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. Coef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84-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7020000" y="2165040"/>
            <a:ext cx="792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877080" y="281304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803640" y="3860280"/>
            <a:ext cx="792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300360" y="4581360"/>
            <a:ext cx="129564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42160" y="4221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0.5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042920" y="4605480"/>
            <a:ext cx="5689800" cy="156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703-4F04-492D-95FE-103A870EBDB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460FA-19C0-4FC9-AAD3-AEED2FC852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55640" y="907920"/>
          <a:ext cx="7920000" cy="217512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mniejszenie się fazy oscylacji rocznej w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AM+O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mniejszenie się fazy oscylacji rocznej w x, 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Wzrost okresu oscylacji rocznej w x, 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Wzrost okresu zdudnienia oscylacji rocznej i Chandl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zrost amplitudy oscylacji Chandle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echanizm pobudzania oscylacji Chandler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950160" cy="25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6DA-019D-403E-B7DA-14ADA89F5B49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6742A-8D23-4418-AF4D-6BF478272B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50000">
              <a:srgbClr val="000000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WNIOSK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mplitu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scylacji Chandlera rośnie wraz ze wzrostem okresu zdudnienia oscylacji rocznej i Chandlera, a także wraz ze zmniejszaniem się fazy oscylacji rocznej w łącznej atmosferyczno-oceanicznej funkcji pobudzenia oraz fazy oscylacji rocznej we współrzędnych bieguna ziemskieg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kres zdudnienia rośnie gdy wzrasta okres oscylacji rocznej i zbliża się do okresu oscylacji Chandlera. Następuje wówczas większy przepływ energii od oscylacji rocznej do Chandlera co jest głównym powodem pobudzania oscylacji Chandler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836640"/>
            <a:ext cx="838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4DF-3614-4231-82A1-917232F252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1EE54-6980-4B49-B579-C03ABE2E4C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172f4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Podziękowa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f. A. Brzezińskiemu za liczne dyskusje dotyczące aspektów pobudzania oscylacji w ruchu obrotowym Ziemi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r. W. Popińskiemu za pomoc w opracowywaniu programów obliczeniowych.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CBB-981A-4C00-9477-FA0749F2F3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13D1A-A768-4CC8-A925-8A187315EF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66"/>
                </a:solidFill>
                <a:latin typeface="Arial"/>
              </a:rPr>
              <a:t>Przyczyny pobudzania oscylacji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Chandler</a:t>
            </a:r>
            <a:r>
              <a:rPr b="1" lang="pl-PL" sz="2800" spc="-1" strike="noStrike">
                <a:solidFill>
                  <a:srgbClr val="ffcc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electromagnetic torqu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Rochester and Smylie 1965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; Lambeck 1989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earthquakes</a:t>
            </a:r>
            <a:r>
              <a:rPr b="1" lang="pl-PL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O’Connel and Dziewonski 1976; Mansinha et al. 1979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Souriau and Cazenave 1985, Gross 1986)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oe 1978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Hameed and Currie 198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; Plag 1997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Furuya et al. 1996; Aoyama and Naito 2001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atmosphere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+ ocean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Wahr 1983),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Ponte et al. 1998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; Celaya et al. 1999; Brzeziński i Nastula 200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Gross 2000, Gross et al. 2003)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3ED-387B-42EC-80D6-C8A15CC9AC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0801D-87B0-463E-B0DE-2269F41D69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66"/>
                </a:solidFill>
                <a:latin typeface="Arial"/>
              </a:rPr>
              <a:t>Przyczyny pobudzania oscylacji Chandlera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(</a:t>
            </a:r>
            <a:r>
              <a:rPr b="1" lang="pl-PL" sz="2800" spc="-1" strike="noStrike">
                <a:solidFill>
                  <a:srgbClr val="ffcc66"/>
                </a:solidFill>
                <a:latin typeface="Arial"/>
              </a:rPr>
              <a:t>cd.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192320"/>
            <a:ext cx="856944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reason is that whatever produces a slow fluctuation of the annual motion is precisely what is needed to maintain the free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(Jeffreys 1972)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Jeffreys H. 1972, The variations of latitude, P. Melchior anf Yumi S. (eds.), Rotation of the Earth, pp. 39-42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E57-84EC-4163-AA22-870C725832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6731D-E625-409C-A82B-1FF35AED58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Dan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spółrzędn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bieguna ziemski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ERS EOPC04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62.0–200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IERS EOPC01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46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200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.0), </a:t>
            </a:r>
            <a:r>
              <a:rPr b="0" lang="pl-PL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hpiers.obspm.fr/eop-pc/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Geodezyjna funkcja pobudzeni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znaczona z EOPC04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kładowe równikowe momentu pędu atmosfery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latach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48.0-200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CEP/NCA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Times New Roman"/>
              </a:rPr>
              <a:t>http://ftp.aer.com/pub/collaborations/sb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kładowe równikowe oceanicznego momentu pędu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styczni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1980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marca 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0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uler</a:t>
            </a:r>
            <a:r>
              <a:rPr b="0" lang="pl-PL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jpl</a:t>
            </a:r>
            <a:r>
              <a:rPr b="0" lang="pl-PL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nasa.gov/sbo/sbo_data.htm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43480" y="26733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43480" y="26733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F97-15EB-4D1C-B274-89D3E5FAA2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7B477-DF30-466C-A1D7-C2774882CA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43480" y="26733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443480" y="26733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spółrzędne bieguna ziemski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9800" y="16286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OPC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11240" y="14842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OPC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844640"/>
            <a:ext cx="0" cy="4334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643640" y="1341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9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1280" y="1917720"/>
            <a:ext cx="763272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3844800"/>
            <a:ext cx="7632720" cy="1812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26520" y="1484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2005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56720" y="1916280"/>
            <a:ext cx="0" cy="4330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559-D600-4391-9721-7B0E53E7D5E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6B54E-729F-41C5-9863-721317C53C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443480" y="26733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443480" y="26733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602480" y="790560"/>
                <a:ext cx="266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596360" y="1628640"/>
                <a:ext cx="291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596360" y="2997360"/>
                <a:ext cx="6984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596360" y="3573360"/>
                <a:ext cx="698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32000" y="4444920"/>
            <a:ext cx="6080040" cy="215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451640" y="4941720"/>
                <a:ext cx="698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A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451640" y="5589720"/>
                <a:ext cx="6987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A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932360" y="5373720"/>
                <a:ext cx="520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595440"/>
                <a:ext cx="520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35280" y="2492280"/>
                <a:ext cx="5205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236000" y="476280"/>
                <a:ext cx="736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924600" y="5373720"/>
                <a:ext cx="736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549360"/>
            <a:ext cx="6518160" cy="18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164360" y="2540160"/>
                <a:ext cx="736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317600" y="2565360"/>
            <a:ext cx="6567480" cy="18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4CA-5BD5-4B4E-9AD5-F755D4C4EEF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062FF-AF7F-420D-A78F-3730B6DBC1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4005360"/>
            <a:ext cx="3240000" cy="93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637000"/>
            <a:ext cx="576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341360"/>
            <a:ext cx="489600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RLET WAVELET TIME-FREQUENCY SPECTRA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ND CO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93760" y="1341360"/>
                <a:ext cx="4572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acc>
                          <m:accPr>
                            <m:chr m:val="˘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bar>
                          <m:barPr>
                            <m:pos m:val="top"/>
                          </m:barPr>
                          <m:e>
                            <m:acc>
                              <m:accPr>
                                <m:chr m:val="˘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</m:bar>
                        <m:r>
                          <m:t xml:space="preserve">(</m:t>
                        </m:r>
                        <m:r>
                          <m:t xml:space="preserve">a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72080" y="907920"/>
            <a:ext cx="40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he Wavelet transfor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effic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8960" y="2275560"/>
            <a:ext cx="36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FT of the Morlet wavelet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2708280"/>
                <a:ext cx="53924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˘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724360" y="1125360"/>
            <a:ext cx="31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 which controls the decay of the Morlet wavelet (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changing the adaptiv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ow width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840" y="515772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ross-covari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724360" y="4057560"/>
                <a:ext cx="2953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68360" y="4005360"/>
            <a:ext cx="1366920" cy="93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4360" y="4176720"/>
                <a:ext cx="936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5733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pectrum                            phase                                           co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4005360"/>
            <a:ext cx="2951280" cy="93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424240" y="4154400"/>
                <a:ext cx="25686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[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[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24000" y="5661000"/>
            <a:ext cx="8280360" cy="7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9640" y="5661000"/>
                <a:ext cx="78487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,</m:t>
                    </m:r>
                    <m:m>
                      <m:mr>
                        <m:e>
                          <m:m>
                            <m:mr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</m:t>
                                </m:r>
                              </m:e>
                            </m:mr>
                          </m:m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26A-3D67-43FA-B3BD-19ACFB5649B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F684D-14BE-437A-B980-60220F582F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18900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Czasowo-częstotliwościowa koherencja pomiędzy geodezyjną i atmosferyczną oraz  geodezyjną i sumą atmosferyczno-oceanicznej funkcji pobudzenia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553080" cy="550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876-BB92-4353-B69B-91F91E0CCEA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661E7-910E-496C-A59C-1F3EC2F214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uł transformaty falkowej Morleta oraz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miany amplitudy oscylacji Chandlera i rocznej wyznaczona metodą LS w 4-letnich przedziałach czasowych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3592440"/>
            <a:ext cx="6840360" cy="271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" y="1077840"/>
            <a:ext cx="7993080" cy="28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23B-5BA8-4F5A-ABF0-95105FBC85A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84EBE-5FC3-4019-9956-1FBC6AE2D8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8:58:16Z</dcterms:created>
  <dc:creator/>
  <dc:description/>
  <dc:language>en-US</dc:language>
  <cp:lastModifiedBy>Kosek</cp:lastModifiedBy>
  <cp:lastPrinted>2001-10-15T08:58:16Z</cp:lastPrinted>
  <dcterms:modified xsi:type="dcterms:W3CDTF">2005-06-27T13:25:29Z</dcterms:modified>
  <cp:revision>2308</cp:revision>
  <dc:subject/>
  <dc:title>Prezentacja programu PowerPoint</dc:title>
</cp:coreProperties>
</file>