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953-8F0E-406F-A722-81EB93AD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97F-6289-4985-803E-66247DB7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6D2-24AA-4541-BBA7-BC8C9F98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7E9-FB8F-46C8-8A02-8CD8877B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649-1302-4A8D-BC6E-9FFC6F61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D7E-B60A-4903-8203-B22A6148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51D-3C48-47CA-9FA2-7E82884D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023-CE04-4EC4-9E0C-ECA7ED9D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ACF-2255-42BE-ACEC-DE6900E7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DFE-376E-4117-82D2-64452236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418-0C13-4868-982B-95EB02D2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58C-D64D-42DA-8CA6-B00288A6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D8CF-74E4-4A16-AD92-33377BFE02F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9320"/>
            <a:ext cx="7239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99"/>
                </a:solidFill>
                <a:latin typeface="Times New Roman"/>
              </a:rPr>
              <a:t>Oceaniczny i atmosferyczny moment pędu w badaniach szybkich zmian w ruchu biegu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6572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tula Jolanta*,  Daniel Gambis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entrum Badań Kosmicznych PAN, Warsza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*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Earth Orientation Center of IERS, CNRS/UMR, Paris,  F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858000" y="76320"/>
            <a:ext cx="2924280" cy="620280"/>
            <a:chOff x="6858000" y="76320"/>
            <a:chExt cx="2924280" cy="620280"/>
          </a:xfrm>
        </p:grpSpPr>
        <p:pic>
          <p:nvPicPr>
            <p:cNvPr id="44" name="Copie%20de%20logo_obs" descr=""/>
            <p:cNvPicPr/>
            <p:nvPr/>
          </p:nvPicPr>
          <p:blipFill>
            <a:blip r:embed="rId1"/>
            <a:stretch/>
          </p:blipFill>
          <p:spPr>
            <a:xfrm>
              <a:off x="7895880" y="94320"/>
              <a:ext cx="1288800" cy="6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SRC_logo_BW_00-EN" descr=""/>
            <p:cNvPicPr/>
            <p:nvPr/>
          </p:nvPicPr>
          <p:blipFill>
            <a:blip r:embed="rId2"/>
            <a:stretch/>
          </p:blipFill>
          <p:spPr>
            <a:xfrm>
              <a:off x="6858000" y="76320"/>
              <a:ext cx="1017720" cy="60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IERS_logo" descr=""/>
            <p:cNvPicPr/>
            <p:nvPr/>
          </p:nvPicPr>
          <p:blipFill>
            <a:blip r:embed="rId3"/>
            <a:stretch/>
          </p:blipFill>
          <p:spPr>
            <a:xfrm>
              <a:off x="9273240" y="76320"/>
              <a:ext cx="509040" cy="60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1088280" y="6140520"/>
            <a:ext cx="74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atelitarne metody wyznaczania pozycji we współczesnej geodezji i nawigacji,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3-24 czerwca 2005, Pozna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igspekatmn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7521480" cy="5756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20400" y="380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6001920"/>
            <a:ext cx="93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mplitude spectra of the three joint atmosphere+ocean series and the chosen geodetic excitation  series (908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igspekatna" descr=""/>
          <p:cNvPicPr/>
          <p:nvPr/>
        </p:nvPicPr>
        <p:blipFill>
          <a:blip r:embed="rId1"/>
          <a:stretch/>
        </p:blipFill>
        <p:spPr>
          <a:xfrm>
            <a:off x="1600200" y="34920"/>
            <a:ext cx="7521480" cy="5756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5925600"/>
            <a:ext cx="929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mplitude spectra of the three joint atmosphere+ocean series and the chosen geodetic excitation  series (9083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680" y="3808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5961240"/>
            <a:ext cx="9601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herence spectra between the  three joint atmosphere+ocean series and the chosen geodetic excitation series (9083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figcohana" descr=""/>
          <p:cNvPicPr/>
          <p:nvPr/>
        </p:nvPicPr>
        <p:blipFill>
          <a:blip r:embed="rId1"/>
          <a:stretch/>
        </p:blipFill>
        <p:spPr>
          <a:xfrm>
            <a:off x="1600200" y="109440"/>
            <a:ext cx="7523280" cy="5757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2286000"/>
            <a:ext cx="967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Wybrana kombinacja atmosferycznej i oceanicznej funkcji pobudzenia ruchu bieguna OAMP2+AAM była porównana z każdą z sześciu geodezyjnych funkcji pobudzenia ruchu bieg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fig1n" descr=""/>
          <p:cNvPicPr/>
          <p:nvPr/>
        </p:nvPicPr>
        <p:blipFill>
          <a:blip r:embed="rId1"/>
          <a:stretch/>
        </p:blipFill>
        <p:spPr>
          <a:xfrm>
            <a:off x="1600200" y="111240"/>
            <a:ext cx="7521480" cy="5756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5925600"/>
            <a:ext cx="92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mplitude spectra of the chosen AAM+OAMP2 series and  different geodetic excitation se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20400" y="380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ig1n4" descr=""/>
          <p:cNvPicPr/>
          <p:nvPr/>
        </p:nvPicPr>
        <p:blipFill>
          <a:blip r:embed="rId1"/>
          <a:stretch/>
        </p:blipFill>
        <p:spPr>
          <a:xfrm>
            <a:off x="1600200" y="0"/>
            <a:ext cx="7521480" cy="5756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5986080"/>
            <a:ext cx="93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tude spectra of the chosen AAM+OAMP2 series and  different geodetic excitation se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680" y="3808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fig2na" descr=""/>
          <p:cNvPicPr/>
          <p:nvPr/>
        </p:nvPicPr>
        <p:blipFill>
          <a:blip r:embed="rId1"/>
          <a:stretch/>
        </p:blipFill>
        <p:spPr>
          <a:xfrm>
            <a:off x="1600200" y="0"/>
            <a:ext cx="7521480" cy="5756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520" y="6001920"/>
            <a:ext cx="89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herence between the chosen AAM+OAMP2 series and different geodetic se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20400" y="380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fig3na" descr=""/>
          <p:cNvPicPr/>
          <p:nvPr/>
        </p:nvPicPr>
        <p:blipFill>
          <a:blip r:embed="rId1"/>
          <a:stretch/>
        </p:blipFill>
        <p:spPr>
          <a:xfrm>
            <a:off x="1600200" y="34920"/>
            <a:ext cx="7521480" cy="5756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43000" y="5986080"/>
            <a:ext cx="93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5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hase spectra  between the chosen AAM+OAMP2 series  and different geodetic excitation se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kor82n" descr=""/>
          <p:cNvPicPr/>
          <p:nvPr/>
        </p:nvPicPr>
        <p:blipFill>
          <a:blip r:embed="rId1"/>
          <a:stretch/>
        </p:blipFill>
        <p:spPr>
          <a:xfrm>
            <a:off x="1600200" y="111240"/>
            <a:ext cx="7521480" cy="5756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59414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6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 variable correlation between the chosen AAM+OAMP2 series and different geodetic series, spectral band 2 - 8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kor24n" descr=""/>
          <p:cNvPicPr/>
          <p:nvPr/>
        </p:nvPicPr>
        <p:blipFill>
          <a:blip r:embed="rId1"/>
          <a:stretch/>
        </p:blipFill>
        <p:spPr>
          <a:xfrm>
            <a:off x="1600200" y="111240"/>
            <a:ext cx="7521480" cy="5756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5925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7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ime variable correlation between chosen series AAM+OAM2 and different geodetic series, in spectral band 2 - 4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3333cc"/>
                </a:solidFill>
                <a:latin typeface="Times New Roman"/>
              </a:rPr>
              <a:t>Pobudzen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937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76280" indent="-285840" algn="just">
              <a:spcBef>
                <a:spcPts val="499"/>
              </a:spcBef>
              <a:buClr>
                <a:srgbClr val="3333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cesy zaburzające ruch bieguna bada się analizując tzw. </a:t>
            </a:r>
            <a:r>
              <a:rPr b="0" i="1" lang="pl-PL" sz="2000" spc="-1" strike="noStrike">
                <a:solidFill>
                  <a:srgbClr val="3333cc"/>
                </a:solidFill>
                <a:latin typeface="Times New Roman"/>
              </a:rPr>
              <a:t>geofizyczne funkcje pobudzenia ruchu biegun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trzymane na podstawie obserwacji bądź modeli zjawisk, zachodzących w atmosferze, hydrosferze i innych ośrodkach ciekłych naszej plane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spcBef>
                <a:spcPts val="499"/>
              </a:spcBef>
              <a:buClr>
                <a:srgbClr val="3333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burzenia w ruchu bieguna odzwierciedla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zw.</a:t>
            </a:r>
            <a:r>
              <a:rPr b="0" i="1" lang="pl-PL" sz="2000" spc="-1" strike="noStrike">
                <a:solidFill>
                  <a:srgbClr val="ff3300"/>
                </a:solidFill>
                <a:latin typeface="Times New Roman"/>
              </a:rPr>
              <a:t> geodezyjna funkcja pobudzenia ruchu biegun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yznaczona z równań ruchu, na podstawie geodezyjnych obserwacji  współrzędnych położenia biegun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spcBef>
                <a:spcPts val="499"/>
              </a:spcBef>
              <a:buClr>
                <a:srgbClr val="3333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opień zgodności pomiędzy geodezyjną funkcją pobudzenia a geofizyczną funkcją pobudzenia jest miarą wpływu danego procesu geofizycznego na ruch biegu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igvar82n" descr=""/>
          <p:cNvPicPr/>
          <p:nvPr/>
        </p:nvPicPr>
        <p:blipFill>
          <a:blip r:embed="rId1"/>
          <a:stretch/>
        </p:blipFill>
        <p:spPr>
          <a:xfrm>
            <a:off x="1600200" y="0"/>
            <a:ext cx="7521480" cy="5756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5986080"/>
            <a:ext cx="929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nce relation between chosen AAM+OAMP2 series and different geodetic series, band pass 2 - 8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figvar24n" descr=""/>
          <p:cNvPicPr/>
          <p:nvPr/>
        </p:nvPicPr>
        <p:blipFill>
          <a:blip r:embed="rId1"/>
          <a:stretch/>
        </p:blipFill>
        <p:spPr>
          <a:xfrm>
            <a:off x="1600200" y="0"/>
            <a:ext cx="7521480" cy="5756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920" y="5909760"/>
            <a:ext cx="929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10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nce relation between the chosen AAM+OAMP2 series  and different geodetic series, band pass 2 - 4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figvar24na" descr=""/>
          <p:cNvPicPr/>
          <p:nvPr/>
        </p:nvPicPr>
        <p:blipFill>
          <a:blip r:embed="rId1"/>
          <a:stretch/>
        </p:blipFill>
        <p:spPr>
          <a:xfrm>
            <a:off x="1600200" y="0"/>
            <a:ext cx="7521480" cy="5756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5909760"/>
            <a:ext cx="929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10b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Variance relation between  the chosen AAM+OAMP2 series and different geodetic series, band pass 2 - 4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figvar24nb" descr=""/>
          <p:cNvPicPr/>
          <p:nvPr/>
        </p:nvPicPr>
        <p:blipFill>
          <a:blip r:embed="rId1"/>
          <a:stretch/>
        </p:blipFill>
        <p:spPr>
          <a:xfrm>
            <a:off x="1600200" y="0"/>
            <a:ext cx="7521480" cy="5756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5986080"/>
            <a:ext cx="92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10c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nce relation between the chosen AAM+OAMP2 and different geodetic series, band pass 2 - 4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30120" y="533520"/>
            <a:ext cx="924552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WNIOSKI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chodzenie zmian w ruchu bieguna poniżej 4 dni wymaga dalszej interpret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tym celu potrzeba dokładniejszych danych geodezyjnych i geofizycz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zgodności między geodezyjnymi i geofizycznymi szeregami może służyć do wykrycia błędów i niejednorodności w badanych szereg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60240" y="1600200"/>
            <a:ext cx="2378160" cy="10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Arial"/>
              </a:rPr>
              <a:t>para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Arial"/>
              </a:rPr>
              <a:t>z obserw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Arial"/>
              </a:rPr>
              <a:t>geodezyj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69080" y="1600200"/>
            <a:ext cx="26416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3300"/>
                </a:solidFill>
                <a:latin typeface="Arial"/>
              </a:rPr>
              <a:t>Funkcje pobudzenia</a:t>
            </a:r>
            <a:r>
              <a:rPr b="0" lang="pl-PL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Arial"/>
              </a:rPr>
              <a:t>z obserwacji geodezyj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9080" y="3962520"/>
            <a:ext cx="264168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Funkcje pobudz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z obserwacji i mode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geofizy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14840" y="1600200"/>
            <a:ext cx="237816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ównania ruch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unkcja przenosz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dele budowy Zi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37040" y="2209680"/>
            <a:ext cx="49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91280" y="220968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7236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191280" y="419112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7920" y="76320"/>
            <a:ext cx="842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3333cc"/>
                </a:solidFill>
                <a:latin typeface="Times New Roman"/>
              </a:rPr>
              <a:t>Pobudzen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7800" y="3809880"/>
            <a:ext cx="2394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parame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z obserwacji i modeli geofizy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36680" y="4267080"/>
            <a:ext cx="49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1620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320" y="-360"/>
            <a:ext cx="965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3333cc"/>
                </a:solidFill>
                <a:latin typeface="Times New Roman"/>
              </a:rPr>
              <a:t>Funkcja pobudzenia ruchu biegu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332000" y="1674720"/>
                <a:ext cx="38098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</m:den>
                        </m:f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λdλdϕ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</m:den>
                        </m:f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λdλdϕ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090440" y="3274920"/>
                <a:ext cx="89679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</m:den>
                        </m:f>
                        <m:nary>
                          <m:naryPr>
                            <m:chr m:val="∭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λ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dλdϕ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5" name=""/>
          <p:cNvGraphicFramePr/>
          <p:nvPr/>
        </p:nvGraphicFramePr>
        <p:xfrm>
          <a:off x="304920" y="4959360"/>
          <a:ext cx="9493200" cy="144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9360"/>
                    <a:ext cx="9493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37400" y="1293840"/>
            <a:ext cx="39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3300"/>
                </a:solidFill>
                <a:latin typeface="Times New Roman"/>
              </a:rPr>
              <a:t>Zmiany masy: </a:t>
            </a:r>
            <a:r>
              <a:rPr b="1" lang="pl-PL" sz="1800" spc="-1" strike="noStrike">
                <a:solidFill>
                  <a:srgbClr val="00cc99"/>
                </a:solidFill>
                <a:latin typeface="Times New Roman"/>
              </a:rPr>
              <a:t>ciśnienie atmosferycz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06280" y="2970360"/>
            <a:ext cx="22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3300"/>
                </a:solidFill>
                <a:latin typeface="Times New Roman"/>
              </a:rPr>
              <a:t>Wyraz ruchu</a:t>
            </a:r>
            <a:r>
              <a:rPr b="1" lang="pl-PL" sz="1800" spc="-1" strike="noStrike">
                <a:solidFill>
                  <a:srgbClr val="00cc99"/>
                </a:solidFill>
                <a:latin typeface="Times New Roman"/>
              </a:rPr>
              <a:t>: wiatr</a:t>
            </a:r>
            <a:r>
              <a:rPr b="0" lang="pl-PL" sz="1800" spc="-1" strike="noStrike">
                <a:solidFill>
                  <a:srgbClr val="00cc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3560" y="129384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3300"/>
                </a:solidFill>
                <a:latin typeface="Times New Roman"/>
              </a:rPr>
              <a:t>lub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 ciśnienie na dnie ocea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2970360"/>
            <a:ext cx="23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3300"/>
                </a:solidFill>
                <a:latin typeface="Times New Roman"/>
              </a:rPr>
              <a:t>lub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 prądy oceaniczne</a:t>
            </a:r>
            <a:r>
              <a:rPr b="0" lang="pl-PL" sz="1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320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557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533520"/>
            <a:ext cx="95252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szechnie wiadomo, że zmiany atmosferycznego i oceanicznego momentu pędu są głównym źródłem zmian w ruchu bieguna o okresach powyżej 10 dni. Natomiast w przypadku oscylacji o okresach krótszych a w szczególności krótszych niż 4 dni ciągle pozostają znaczne rozbieżności miedzy obserwacjami geodezyjnymi a zmianami uzyskanymi z atmosferyczno-oceanicznego pobudze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acy analizujemy wpływ atmosferycznego i oceanicznego momentu pędu na zmiany w ruchu bieguna o okresach poniżej 4 dni, wykorzystując kombinacje atmosferycznego momentu pędu z trzema szeregami oceanicznego momentu pędu w tym z jednym z najnowszych modeli o rozdzielczości czasowej jednej godziny. Pokazujemy, że te geofizyczne sygnały odgrywają znaczącą rolę w pobudzeniu szybkich zmian w ruchu biegu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nym zagadnieniem przedstawionym w pracy jest analiza zgodności atmosferyczno- oceanicznego momentu pędu z funkcjami pobudzenia ruchu bieguna otrzymanymi z sześciu szeregów współrzędnych położenia bieguna, wyznaczonych przez różne centra obliczeniowe uczestniczące w IERS Combination Pilot Project. Pokazujemy, że takie porównania mogą być jedna z metod wykrywania błędów w szeregach współrzędnych położenia biegu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320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557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762120"/>
            <a:ext cx="92962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zy szeregi  oceanicznej funkcji pobudzenia ruchu bieguna (Oceanic Angular Momentum -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OA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w tym  jeden o rozdzielczości czasowej jednej godzi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66"/>
                </a:solidFill>
                <a:latin typeface="Times New Roman"/>
              </a:rPr>
              <a:t>G0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(Gross et al., 2003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; model oceaniczny ECCO-JPL; sterowany przez zmiany wiatru, strumień ciepła z NCEP/NCAR;  krok 1 dzień, okres: 1980 - 200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66"/>
                </a:solidFill>
                <a:latin typeface="Times New Roman"/>
              </a:rPr>
              <a:t>P1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(Ponte and Ali, 2002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; model barotropowy, sterowany przez  zmiany wiatru i ciśnienia atmosferycznego z NCEP; krok 1 godzina, okres 1993 -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66"/>
                </a:solidFill>
                <a:latin typeface="Times New Roman"/>
              </a:rPr>
              <a:t>P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(Brzeziński et al., 2003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; model barotropowy sterowany przez zmiany wiatru i ciśnienie atmosferycznego  z NCEP; krok 1 godzina, okres 1993-2000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962520"/>
            <a:ext cx="9169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tmosferyczna funkcja pobudzenia ruchu bieguna (Atmospheric Angular Momentum -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AAM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yła uzyskana z sześciogodzinnych danych ze specjalnego biura do spraw atmosferycznego momentu pędu SBAAM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(US  NCEP/NCAR reanalysis project Kalnay et al., 1996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uma składowych opisujących wpływ prądów i ciśnienia na dnie oceanu oraz wiatrów i ciśnienia atmosferycznego z odwrotną poprawką barometryczną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5240" y="533520"/>
            <a:ext cx="9493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odezyjne funkcje pobudzenia zostały wyznaczone przez zastosowanie  wzoru  Barnes et al.  (1983) do następujących szeregów położenia biegu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9070 - 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Rozwiązanie łączne GPS z Earth Orientation  Product Center of the 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9083 - 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Rozwiązanie łączne GPS z  International GPS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5520 - 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wiązanie operacyjne GPS z Jet Propulsion Labor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5422 - 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wiązanie operacyjne GPS z Center for Orbit Determination in Euro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NEOS - 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wiązanie łączne z wielu technik z USNO (Unitet States Naval Observator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ybki ser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SPACE -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ozwiązanie łączne z wielu technik Jet Propulsion Labor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280" y="533520"/>
            <a:ext cx="9493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równanie geodezyjnych i geofizycznych ( atmosfera + ocean) funkcji pobudzenia ruchu bieguna przeprowadzono na dwa sposo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Wybrana geodezyjna funkcja pobudzenia była porównana z każdą z trzech geofizycznych funkcji pobudz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990000"/>
                </a:solidFill>
                <a:latin typeface="Times New Roman"/>
              </a:rPr>
              <a:t>Wybrana geofizyczna funkcja pobudzenia była porównana z każdą z geodezyjnych funkcji pobudz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znaczono  widma, porównano funkcję koherencji, fazę współczynniki korel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2286000"/>
            <a:ext cx="967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Wybrana geodezyjna funkcja pobudzenia 9083 </a:t>
            </a:r>
            <a:r>
              <a:rPr b="0" i="1" lang="pl-PL" sz="2400" spc="-1" strike="noStrike">
                <a:solidFill>
                  <a:srgbClr val="cc0000"/>
                </a:solidFill>
                <a:latin typeface="Times New Roman"/>
              </a:rPr>
              <a:t>(rozwiązanie łączne GPS z  International GPS Service)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 była porównana z każdą z trzech geofizycznych funkcji pobudz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3:08:50Z</dcterms:created>
  <dc:creator>laptop</dc:creator>
  <dc:description/>
  <dc:language>en-US</dc:language>
  <cp:lastModifiedBy>pd</cp:lastModifiedBy>
  <cp:lastPrinted>2005-06-17T12:40:48Z</cp:lastPrinted>
  <dcterms:modified xsi:type="dcterms:W3CDTF">2005-06-23T11:12:10Z</dcterms:modified>
  <cp:revision>63</cp:revision>
  <dc:subject/>
  <dc:title>Bez tytułu slajdu</dc:title>
</cp:coreProperties>
</file>