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5CA-B3C7-4E08-9CC9-09999EFC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D3E-0C38-4191-8FE1-94E7E4A8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C4E-3EBE-4F03-A483-2E69846A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335-6DA7-4BA7-B589-04EEA93D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693-12CE-4D28-B2BC-858FDC9B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B85-327F-428C-A97E-FAFE9A5F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FDE-E2F2-4220-9354-740ECFC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E72D-3E92-40C1-BF48-2B03EAC4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EB2A-8BA7-483B-8C85-76C93B02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F269-2A57-488C-BC0C-1EBCA80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BC53-9FAD-4A70-8FBC-F335643C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F7F-6A75-46DD-AC6B-088AB32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32E4-CF1F-4E9C-B001-1DBB61A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98D7-7AB9-4F6B-96D2-CFAC591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FCB6-785C-45D3-905C-AA0CAB27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C85B-D0EE-4017-9E03-158D4245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26A-715D-4D66-9A3A-CE5A7685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F1C-0911-4DB4-A06E-77D4778D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AA9-2976-43EB-8476-096D54B3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FE8-1D28-41C3-B5CF-945D3F28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0E5-241A-4801-83DC-D90F786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09A-DA16-4454-B469-BD92D5A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800-89A8-40C6-B1A9-130DA6D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135-F9BB-48CD-BC43-65ACCE4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2913-50B2-4750-9C31-2ED75AAC20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A2A9-F471-467A-BCBE-42CF9F2C7A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png"/><Relationship Id="rId15" Type="http://schemas.openxmlformats.org/officeDocument/2006/relationships/image" Target="../media/image2.wmf"/><Relationship Id="rId1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606600"/>
            <a:ext cx="8839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Wyznaczanie centrum </a:t>
            </a:r>
            <a:br>
              <a:rPr sz="4000"/>
            </a:br>
            <a:r>
              <a:rPr b="0" lang="pl-PL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fazowego anten GNSS</a:t>
            </a:r>
            <a:br>
              <a:rPr sz="4000"/>
            </a:br>
            <a:r>
              <a:rPr b="0" lang="pl-PL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metodą dynamicznego nachylani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00200" y="29718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Jan Cisa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stytut Geodezji i Kartografii</a:t>
            </a: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, Warszawa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evgen M. Zanimonski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Instytut Metrologia, Charkó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617400" y="5410080"/>
            <a:ext cx="852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NARIUM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atelitarne metody wyznaczania pozycji we współczesnej geodezji i nawig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3-24 czerw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2005 r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zna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logo2a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1219320" cy="628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8380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-93600"/>
            <a:ext cx="7696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yniki w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yznaczani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średnieg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 poł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"/>
              </a:rPr>
              <a:t>ż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enia centra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fazoweg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I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95240" cy="5558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9320" y="5334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rednie położenie centra fazowego zdecydowanie zależy od układu satelitó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6858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-154800"/>
            <a:ext cx="6553080" cy="19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Wyznaczanie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zmian położeni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entra fazowego anteny</a:t>
            </a: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95240" cy="5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5638680" y="2286000"/>
          <a:ext cx="331812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286000"/>
                    <a:ext cx="33181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" y="1981080"/>
            <a:ext cx="4268880" cy="928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304920" y="3124080"/>
            <a:ext cx="5294160" cy="704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58880" y="4267080"/>
            <a:ext cx="4440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cz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nych okres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ian odległości antena-sate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 (!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liwe na podstaw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 różniczkowanych obserw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ania są w to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5640" y="683640"/>
            <a:ext cx="469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nioski końcow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9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Wstępne pomiary i opracowania potwierdzają przydatność małego przenośnego urządzenia prototypowego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dokładność wyznaczenia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Arial"/>
              </a:rPr>
              <a:t>średniego położenia centra fazowego anteny GNSS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zy pomocy tego urządzenia jest obecnie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Arial"/>
              </a:rPr>
              <a:t> na poziomie pojedynczych milimetrów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miary antarktyczne potwierdzają konieczność badania anten „in situ” ze względu na inny średni układ satelitów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O średnim położeniu centra fazowego anteny na stanowisku obserwacyjnym decyduje również zjawisko wielotorowości. W dalszych badaniach ten problem też będzie uwzględnion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ace nad zwiększeniem dokładności wyznaczenia średniego położenia centra fazowego oraz zmian jego położenia w czasie (PCV) będą kontynuowane we współpracy obu Instytutów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9524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335016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ziękujemy za uwagę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895480" cy="1493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243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0480"/>
            <a:ext cx="8425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zy badanie ante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GNSS jest konieczne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648320"/>
          </a:xfrm>
          <a:prstGeom prst="rect">
            <a:avLst/>
          </a:prstGeom>
          <a:noFill/>
          <a:ln w="9360">
            <a:solidFill>
              <a:srgbClr val="9a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2872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Międzynarodowy projekt badawczy ustanowiony na Sympozjum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SCAR w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Bremie w 2004 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situ GNSS Antenna Tests and Validation of Phase Centre Calibration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ta”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2872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Resolucja no. 1 Sympozjum EUREF w Wiedniu w 2005 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IAG Reference Frame Sub-commission for Europe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EURE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9a0000"/>
                </a:solidFill>
                <a:latin typeface="Verdana"/>
                <a:ea typeface="Times New Roman"/>
              </a:rPr>
              <a:t>considering the importance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using individual antenna calibration models for the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UREF Permanent GPS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etwork (EPN) and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UREF campaig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improvement in results when absolute calibrations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employ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aving consistent standards in these mat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1600" spc="-1" strike="noStrike">
                <a:solidFill>
                  <a:srgbClr val="9a0000"/>
                </a:solidFill>
                <a:latin typeface="Verdana"/>
                <a:ea typeface="Times New Roman"/>
              </a:rPr>
              <a:t>invite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International GPS Service (IGS) and EPN t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 the timely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f standards for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ese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echniqu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83808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o wyznaczam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 antenach GNSS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4280" y="1905120"/>
            <a:ext cx="4222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Średnie położenie centra fazowego (Mean 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se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Offse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Zmiany położenia centra fazowego anteny (Phase Center Variations-PCV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vs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 Off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3520" y="2397240"/>
            <a:ext cx="4343400" cy="3201840"/>
          </a:xfrm>
          <a:prstGeom prst="rect">
            <a:avLst/>
          </a:prstGeom>
          <a:ln w="0">
            <a:noFill/>
          </a:ln>
        </p:spPr>
      </p:pic>
      <p:pic>
        <p:nvPicPr>
          <p:cNvPr id="222" name="logo2a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077320" y="152280"/>
            <a:ext cx="83808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4760" y="303120"/>
            <a:ext cx="5257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Kto i jak bad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nteny GNSS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505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ligon dla wzgl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nej kalibracji anten w NGS Geoscience Research Division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2209680" cy="1574640"/>
          </a:xfrm>
          <a:prstGeom prst="rect">
            <a:avLst/>
          </a:prstGeom>
          <a:ln w="0">
            <a:noFill/>
          </a:ln>
        </p:spPr>
      </p:pic>
      <p:pic>
        <p:nvPicPr>
          <p:cNvPr id="227" name="logo2a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077320" y="152280"/>
            <a:ext cx="838080" cy="586080"/>
          </a:xfrm>
          <a:prstGeom prst="rect">
            <a:avLst/>
          </a:prstGeom>
          <a:ln w="0">
            <a:noFill/>
          </a:ln>
        </p:spPr>
      </p:pic>
      <p:pic>
        <p:nvPicPr>
          <p:cNvPr id="229" name="i3" descr=""/>
          <p:cNvPicPr/>
          <p:nvPr/>
        </p:nvPicPr>
        <p:blipFill>
          <a:blip r:embed="rId4"/>
          <a:stretch/>
        </p:blipFill>
        <p:spPr>
          <a:xfrm>
            <a:off x="1905120" y="5181480"/>
            <a:ext cx="2438280" cy="1486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181480" y="54100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Kalibracyjny zestaw na Uniwersytecie w Laval, K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4343400" cy="1641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86400" y="3429000"/>
            <a:ext cx="32004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ow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(robot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olutnej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alibracji anten firmy GEO++ we współpracy z Uniwersytetem w Hanower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819520"/>
            <a:ext cx="3505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11040"/>
            <a:ext cx="6553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Udział IGiK w badaniu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nten GNS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yfikacja położenia centrów fazowych an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eksperyment wykonany w kwietniu 1999 roku na Bazie Długościowej na Bemowie w Warszaw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łożenie centrum fazowego anteny z sesji czterogodzinnych i dobowych oraz średnie położenie ze wszystkich pomiaró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eksperyment wykonany we wrześniu 2002 ro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res zmian wysokości centrum fazowego różnych modeli anten GPS z sesji czterogodzinny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 tego samego eksperymen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37" name="Rys6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04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828800" y="3581280"/>
          <a:ext cx="2133720" cy="171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581280"/>
                    <a:ext cx="213372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828800" y="5334120"/>
          <a:ext cx="2133720" cy="13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334120"/>
                    <a:ext cx="213372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914400" y="3581280"/>
          <a:ext cx="91440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581280"/>
                    <a:ext cx="9144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914400" y="4267080"/>
          <a:ext cx="91440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267080"/>
                    <a:ext cx="914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14400" y="5029200"/>
          <a:ext cx="914400" cy="75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5029200"/>
                    <a:ext cx="91440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14400" y="5867280"/>
          <a:ext cx="914400" cy="73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5867280"/>
                    <a:ext cx="91440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15"/>
          <a:stretch/>
        </p:blipFill>
        <p:spPr>
          <a:xfrm>
            <a:off x="8077320" y="152280"/>
            <a:ext cx="83808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53172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spółpraca IGiK z Instytutem Metrologia w Charkowi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63840" y="1981080"/>
            <a:ext cx="3979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 urządzenia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badania anten metodą dynamicznego nachylania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nany przy współpracy IGiK i Instytutu Metrologia w Charkowie – badany w Borowej Górz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danie anteny ASH700228A       na ukraińskiej stacji „Akademik Vernadsky” na Półwyspie Antarktyczn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54" name="100_0859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2895840" cy="2133360"/>
          </a:xfrm>
          <a:prstGeom prst="rect">
            <a:avLst/>
          </a:prstGeom>
          <a:ln w="0">
            <a:noFill/>
          </a:ln>
        </p:spPr>
      </p:pic>
      <p:pic>
        <p:nvPicPr>
          <p:cNvPr id="255" name="IMG_3440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256" name="IMG_2222" descr=""/>
          <p:cNvPicPr/>
          <p:nvPr/>
        </p:nvPicPr>
        <p:blipFill>
          <a:blip r:embed="rId4"/>
          <a:stretch/>
        </p:blipFill>
        <p:spPr>
          <a:xfrm>
            <a:off x="609480" y="2152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57" name="pingwiny1" descr=""/>
          <p:cNvPicPr/>
          <p:nvPr/>
        </p:nvPicPr>
        <p:blipFill>
          <a:blip r:embed="rId5"/>
          <a:stretch/>
        </p:blipFill>
        <p:spPr>
          <a:xfrm>
            <a:off x="3533760" y="3962520"/>
            <a:ext cx="1346040" cy="2133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8077320" y="152280"/>
            <a:ext cx="83808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Jak działa urządzenie prototypowe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24280" y="1904760"/>
            <a:ext cx="4299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838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152280" y="1920960"/>
          <a:ext cx="8839440" cy="39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920960"/>
                    <a:ext cx="883944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146960" y="5562720"/>
            <a:ext cx="67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t wahadełka dla kalibracji anten GN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360" y="55623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t)=sin(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/T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=30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762120" y="-93600"/>
            <a:ext cx="7696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Zasady w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yznaczani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średnieg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 poł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"/>
              </a:rPr>
              <a:t>ż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enia centra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fazowego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95240" cy="555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495680" y="556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dległość do stacji bazowej–40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jestracja co 1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981080"/>
          <a:ext cx="9023400" cy="343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902340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logo2a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218960" cy="6285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-93600"/>
            <a:ext cx="7696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yniki w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 Unicode MS"/>
              </a:rPr>
              <a:t>yznaczani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średnieg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 poł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Arial"/>
              </a:rPr>
              <a:t>ż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enia centra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  <a:ea typeface="Times New Roman"/>
              </a:rPr>
              <a:t>fazowego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95240" cy="5558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miany współrzędnych w dwóch kolejnych dni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erunek wahania N-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oczna powtarzalność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1:20:28Z</dcterms:created>
  <dc:creator>jan</dc:creator>
  <dc:description/>
  <dc:language>en-US</dc:language>
  <cp:lastModifiedBy>Instytut Geodezji</cp:lastModifiedBy>
  <dcterms:modified xsi:type="dcterms:W3CDTF">2005-06-22T20:31:24Z</dcterms:modified>
  <cp:revision>14</cp:revision>
  <dc:subject/>
  <dc:title>Wyznaczanie centrum fazowego anten GNSS metodą dynamicznego nachylania</dc:title>
</cp:coreProperties>
</file>