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27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3.jpeg" ContentType="image/jpeg"/>
  <Override PartName="/ppt/media/image18.wmf" ContentType="image/x-wmf"/>
  <Override PartName="/ppt/media/image20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B32-43A6-4CA2-A924-8BEE7BCF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6F5-63A0-429A-99B1-DD00B229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8D8-5F4D-4C83-BAC4-C59B323D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AC6-DD9C-4AC3-8A7F-D6686B17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75D-157F-47A6-9110-32F2656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F4E-1A57-4035-9860-815880B5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EFE-6A9B-4E3D-BECD-A7E90F0B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B9C-D9EA-467E-BC6C-3D3876C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3AD-2BAB-4179-AFA1-600E9479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D5C-38CA-46B7-B260-E8914269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E72-AE98-46EA-A03B-14A5874B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C4C-590D-4955-B8E9-FC879A88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2616-7219-4114-8F7E-A349F2595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14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95280" y="16761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bc000"/>
                </a:solidFill>
                <a:latin typeface="Humanst521 BT"/>
              </a:rPr>
              <a:t>Opracowanie i analiza danyc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bc000"/>
                </a:solidFill>
                <a:latin typeface="Humanst521 BT"/>
              </a:rPr>
              <a:t>ze stacji CGPS serwisu ESEA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bc000"/>
                </a:solidFill>
                <a:latin typeface="Humanst521 BT"/>
              </a:rPr>
              <a:t>z okresu 001/2000 - 366/2004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bc000"/>
                </a:solidFill>
                <a:latin typeface="Humanst521 BT"/>
              </a:rPr>
              <a:t> </a:t>
            </a:r>
            <a:r>
              <a:rPr b="1" lang="pl-PL" sz="4000" spc="-1" strike="noStrike">
                <a:solidFill>
                  <a:srgbClr val="0bc000"/>
                </a:solidFill>
                <a:latin typeface="Humanst521 BT"/>
              </a:rPr>
              <a:t>prowadzonych w ramach jedne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bc000"/>
                </a:solidFill>
                <a:latin typeface="Humanst521 BT"/>
              </a:rPr>
              <a:t> </a:t>
            </a:r>
            <a:r>
              <a:rPr b="1" lang="pl-PL" sz="4000" spc="-1" strike="noStrike">
                <a:solidFill>
                  <a:srgbClr val="0bc000"/>
                </a:solidFill>
                <a:latin typeface="Humanst521 BT"/>
              </a:rPr>
              <a:t>z Centrum Analiz GPS Serwis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417760" y="-103680"/>
            <a:ext cx="67262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00"/>
                </a:solidFill>
                <a:latin typeface="Humanst521 BT"/>
              </a:rPr>
              <a:t>Seminarium „Satelitarne metody wyznaczania pozycji we współczesnej geodezji i nawigacji”</a:t>
            </a:r>
            <a:br>
              <a:rPr sz="3200"/>
            </a:b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Poznan</a:t>
            </a:r>
            <a:r>
              <a:rPr b="0" lang="en-GB" sz="1600" spc="-1" strike="noStrike">
                <a:solidFill>
                  <a:srgbClr val="ffcc00"/>
                </a:solidFill>
                <a:latin typeface="Humanst521 BT"/>
              </a:rPr>
              <a:t>, </a:t>
            </a: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23</a:t>
            </a:r>
            <a:r>
              <a:rPr b="0" lang="en-GB" sz="1600" spc="-1" strike="noStrike">
                <a:solidFill>
                  <a:srgbClr val="ffcc00"/>
                </a:solidFill>
                <a:latin typeface="Humanst521 BT"/>
              </a:rPr>
              <a:t>-2</a:t>
            </a: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4</a:t>
            </a:r>
            <a:r>
              <a:rPr b="0" lang="en-GB" sz="1600" spc="-1" strike="noStrike">
                <a:solidFill>
                  <a:srgbClr val="ffcc00"/>
                </a:solidFill>
                <a:latin typeface="Humanst521 BT"/>
              </a:rPr>
              <a:t> </a:t>
            </a: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czerwca</a:t>
            </a:r>
            <a:r>
              <a:rPr b="0" lang="en-GB" sz="1600" spc="-1" strike="noStrike">
                <a:solidFill>
                  <a:srgbClr val="ffcc00"/>
                </a:solidFill>
                <a:latin typeface="Humanst521 BT"/>
              </a:rPr>
              <a:t> 200</a:t>
            </a: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8080" y="6324480"/>
            <a:ext cx="89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CBK PAN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, </a:t>
            </a: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ul. Bartycka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 18</a:t>
            </a: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A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, 00-716 Wars</a:t>
            </a: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z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aw</a:t>
            </a: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a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324480"/>
            <a:ext cx="8610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14960" y="5181480"/>
            <a:ext cx="302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809eca"/>
                </a:solidFill>
                <a:latin typeface="Humanst521 BT"/>
              </a:rPr>
              <a:t>Ryszard Zdun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809eca"/>
                </a:solidFill>
                <a:latin typeface="Humanst521 BT"/>
              </a:rPr>
              <a:t>Leszek J. Jaworski</a:t>
            </a:r>
            <a:r>
              <a:rPr b="0" i="1" lang="pl-PL" sz="2400" spc="-1" strike="noStrike" baseline="30000">
                <a:solidFill>
                  <a:srgbClr val="809eca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5708520"/>
            <a:ext cx="799920" cy="48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187280" y="5718240"/>
            <a:ext cx="648000" cy="47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24200" y="5877000"/>
            <a:ext cx="2828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fafaf"/>
                </a:solidFill>
                <a:latin typeface="Humanst521 BT"/>
              </a:rPr>
              <a:t>EVR1-CT-2002-40025</a:t>
            </a:r>
            <a:br>
              <a:rPr sz="18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3320" y="31104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zgpsmall" descr=""/>
          <p:cNvPicPr/>
          <p:nvPr/>
        </p:nvPicPr>
        <p:blipFill>
          <a:blip r:embed="rId4"/>
          <a:stretch/>
        </p:blipFill>
        <p:spPr>
          <a:xfrm>
            <a:off x="57240" y="104760"/>
            <a:ext cx="68400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38098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52600" y="152280"/>
            <a:ext cx="679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Humanst521 BT"/>
              </a:rPr>
              <a:t>CGPS – </a:t>
            </a:r>
            <a:r>
              <a:rPr b="1" lang="pl-PL" sz="2800" spc="-1" strike="noStrike">
                <a:solidFill>
                  <a:srgbClr val="ffcc00"/>
                </a:solidFill>
                <a:latin typeface="Humanst521 BT"/>
              </a:rPr>
              <a:t>kontrola jakości obserw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0120" y="1305000"/>
          <a:ext cx="7953480" cy="2433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0120" y="1305000"/>
                    <a:ext cx="7953480" cy="2433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33520" y="3814920"/>
          <a:ext cx="8076960" cy="2481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814920"/>
                    <a:ext cx="807696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Humanst521 BT"/>
              </a:rPr>
              <a:t>CGPS – </a:t>
            </a:r>
            <a:r>
              <a:rPr b="1" lang="pl-PL" sz="2800" spc="-1" strike="noStrike">
                <a:solidFill>
                  <a:srgbClr val="ffcc00"/>
                </a:solidFill>
                <a:latin typeface="Humanst521 BT"/>
              </a:rPr>
              <a:t>kontrola jakości obserwacji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8098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6305400" cy="2838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pic>
        <p:nvPicPr>
          <p:cNvPr id="274" name="image002" descr=""/>
          <p:cNvPicPr/>
          <p:nvPr/>
        </p:nvPicPr>
        <p:blipFill>
          <a:blip r:embed="rId5"/>
          <a:stretch/>
        </p:blipFill>
        <p:spPr>
          <a:xfrm>
            <a:off x="609480" y="3821040"/>
            <a:ext cx="78613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Humanst521 BT"/>
              </a:rPr>
              <a:t>CGPS – </a:t>
            </a:r>
            <a:r>
              <a:rPr b="1" lang="pl-PL" sz="2800" spc="-1" strike="noStrike">
                <a:solidFill>
                  <a:srgbClr val="ffcc00"/>
                </a:solidFill>
                <a:latin typeface="Humanst521 BT"/>
              </a:rPr>
              <a:t>kontrola jakości obserwacji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8098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2120" y="1209600"/>
            <a:ext cx="6095880" cy="2746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pic>
        <p:nvPicPr>
          <p:cNvPr id="287" name="image001" descr=""/>
          <p:cNvPicPr/>
          <p:nvPr/>
        </p:nvPicPr>
        <p:blipFill>
          <a:blip r:embed="rId5"/>
          <a:stretch/>
        </p:blipFill>
        <p:spPr>
          <a:xfrm>
            <a:off x="828720" y="4068720"/>
            <a:ext cx="74674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GCM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–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l Command of Mapping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 Tur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ffffff"/>
                </a:solidFill>
                <a:latin typeface="Arial"/>
              </a:rPr>
              <a:t>NMA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egian Mapping Authority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 Norwe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ffffff"/>
                </a:solidFill>
                <a:latin typeface="Arial"/>
              </a:rPr>
              <a:t>ROA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yal Naval Observatory of Spain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 Hiszp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SR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– Centrum Badan Kosmicznych PAN, Pol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UNOTT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versity of Nottingham, Institut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gineering Surveying and Space Geodesy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elka Bryt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UP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versidad Politecnica d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taluna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 Hisz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cc00"/>
                </a:solidFill>
                <a:latin typeface="Tahoma"/>
              </a:rPr>
              <a:t>Centra Analiz GPS Serwisu ESEAS</a:t>
            </a:r>
            <a:endParaRPr b="0" lang="en-US" sz="2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229280"/>
            <a:ext cx="381240" cy="304560"/>
          </a:xfrm>
          <a:custGeom>
            <a:avLst/>
            <a:gdLst>
              <a:gd name="textAreaLeft" fmla="*/ 59400 w 381240"/>
              <a:gd name="textAreaRight" fmla="*/ 333720 w 3812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600360"/>
            <a:ext cx="381240" cy="304920"/>
          </a:xfrm>
          <a:custGeom>
            <a:avLst/>
            <a:gdLst>
              <a:gd name="textAreaLeft" fmla="*/ 59400 w 381240"/>
              <a:gd name="textAreaRight" fmla="*/ 333720 w 3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2971800"/>
            <a:ext cx="381240" cy="304920"/>
          </a:xfrm>
          <a:custGeom>
            <a:avLst/>
            <a:gdLst>
              <a:gd name="textAreaLeft" fmla="*/ 59400 w 381240"/>
              <a:gd name="textAreaRight" fmla="*/ 333720 w 3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286000"/>
            <a:ext cx="381240" cy="304920"/>
          </a:xfrm>
          <a:custGeom>
            <a:avLst/>
            <a:gdLst>
              <a:gd name="textAreaLeft" fmla="*/ 59400 w 381240"/>
              <a:gd name="textAreaRight" fmla="*/ 333720 w 3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676520"/>
            <a:ext cx="381240" cy="304560"/>
          </a:xfrm>
          <a:custGeom>
            <a:avLst/>
            <a:gdLst>
              <a:gd name="textAreaLeft" fmla="*/ 59400 w 381240"/>
              <a:gd name="textAreaRight" fmla="*/ 333720 w 3812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5810400"/>
            <a:ext cx="381240" cy="304560"/>
          </a:xfrm>
          <a:custGeom>
            <a:avLst/>
            <a:gdLst>
              <a:gd name="textAreaLeft" fmla="*/ 59400 w 381240"/>
              <a:gd name="textAreaRight" fmla="*/ 333720 w 3812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bc000"/>
                </a:solidFill>
                <a:latin typeface="Arial"/>
              </a:rPr>
              <a:t>3 pakiety oprogramow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PSY-OASIS II, Bernese GPS Software 4.2, GA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2 strategie określania układu odniesi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bc000"/>
                </a:solidFill>
                <a:latin typeface="Arial"/>
              </a:rPr>
              <a:t>3 grupy parametrów globalnych (orbity, zegary, ERP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PL, IGS Precise, IGS Rapid (IG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bc000"/>
                </a:solidFill>
                <a:latin typeface="Arial"/>
              </a:rPr>
              <a:t>2 strategie opracowania obserwacj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dwójnych różnic (DD), Precise Point Positioning (PPP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236196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cc00"/>
                </a:solidFill>
                <a:latin typeface="Tahoma"/>
              </a:rPr>
              <a:t>Zróżnicowanie opracowania</a:t>
            </a:r>
            <a:endParaRPr b="0" lang="en-US" sz="2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352760" y="3684600"/>
            <a:ext cx="4267440" cy="26398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cc00"/>
                </a:solidFill>
                <a:latin typeface="Tahoma"/>
              </a:rPr>
              <a:t>Zróżnicowanie opracowania</a:t>
            </a:r>
            <a:endParaRPr b="0" lang="en-US" sz="2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533520" y="3693960"/>
            <a:ext cx="4495680" cy="2619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33520" y="3695760"/>
            <a:ext cx="8076960" cy="262728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1219320"/>
            <a:ext cx="807696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Analysis Centre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program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trategia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l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GP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produ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kty global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model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zegar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G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model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 geofizycz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ocean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czne efekty obciążeniow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MF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funkcja mapowania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mos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ferycznego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C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korekty centrów fazowych anten satelitarnych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C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poprawki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oss-correlation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odbiorni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CV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zmiany centrów fazowych ant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h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nterwał dla którego usunięte są obserwacje po wyjściu satelity ze stożk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ienia Ziem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nterwał obserwacyjn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ieoznaczonośc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poprawki jonosferyczn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-go rzęd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Inne skróty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.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.: 'white noise'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N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rozwiązanie regionalne siec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zgodne z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konwencjami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ERS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IG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G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Scherneck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Ni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funkcja mapowania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ell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'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S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ode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astamoinen,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usunięte nieoznaczonośc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8564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AC w CBK opracowuje dane ze stacji ESEAS CGPS przy użyciu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Bernese GPS Software Ver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4.2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(oraz 5.0) w trybie podwójnych różnic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Double Difference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),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stosując zaimplementowane modele geofizyczne i parametry przyjęte przez konwencje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ERS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IGS.</a:t>
            </a:r>
            <a:br>
              <a:rPr sz="28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c000"/>
                </a:solidFill>
                <a:latin typeface="Humanst521 BT"/>
              </a:rPr>
              <a:t>Szczegóły strategii opracowania</a:t>
            </a:r>
            <a:r>
              <a:rPr b="1" lang="en-GB" sz="2800" spc="-1" strike="noStrike">
                <a:solidFill>
                  <a:srgbClr val="0bc000"/>
                </a:solidFill>
                <a:latin typeface="Humanst521 BT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interwał opracowania obserwacji - 3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0 sec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pionowy kąt odciącia obserwacji -1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0°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i 15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wagowanie obserwacji w funkcji kąta pionoweg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kombinacja liniowa </a:t>
            </a:r>
            <a:r>
              <a:rPr b="0" i="1" lang="pl-PL" sz="26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i="1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onosphere–free</a:t>
            </a:r>
            <a:r>
              <a:rPr b="0" i="1" lang="pl-PL" sz="26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podwójnych różn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Strategie opracowani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model zmian centrów fazowych anten - IG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parametry globalne (orbity, poprawki zegarów, parametry ERP) –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z rozwiązań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GS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 Final Combined oraz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ODE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(dla testów i porównań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układ odniesienia -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G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00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(parametry globalne wyrażone w układzie IGS'97 przetransformowane zostały do IGS00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model obciążeniowych efektów pływowych dla stacji - tabela poprawek dla amplitud i faz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chernec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'a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(poprawki atmosferycznych efektów obciążeniowych dodawane są do współrzędnych na poziomie analiz szeregów czasowy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poprawki zegara odbiornikowego – na każdą epok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Strategie opracowania cd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95360" y="1180800"/>
            <a:ext cx="8191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rozwiązanie parametrów nieoznaczonosci -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he Quasi–Ionosphere–Free (QIF)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ze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stochast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ycznymi parametrami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os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r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ycznym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modelowanie efektów troposferycznych – funkcja mapowania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Niell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'a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(DRY_NIELL)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z globalnym modelem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tropos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ferycznym Saastamoine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opóźnienia troposferyczne w zenicie wyznaczane dla 60 min. Interwałów czasu z błędem a priori 5.0 m dla względnych i bezwzględnych parametró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rozwiązania dobowe równań normalnych połączone w rozwiązania tygodniowe</a:t>
            </a:r>
            <a:r>
              <a:rPr b="0" lang="pl-PL" sz="2400" spc="-1" strike="noStrike">
                <a:solidFill>
                  <a:srgbClr val="ffffff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Strategie opracowania cd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24280" y="38098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52600" y="152280"/>
            <a:ext cx="663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CGPS</a:t>
            </a:r>
            <a:r>
              <a:rPr b="1" lang="en-GB" sz="3200" spc="-1" strike="noStrike">
                <a:solidFill>
                  <a:srgbClr val="ffcc00"/>
                </a:solidFill>
                <a:latin typeface="Humanst521 BT"/>
              </a:rPr>
              <a:t> – </a:t>
            </a:r>
            <a:r>
              <a:rPr b="1" lang="pl-PL" sz="2600" spc="-1" strike="noStrike">
                <a:solidFill>
                  <a:srgbClr val="ffcc00"/>
                </a:solidFill>
                <a:latin typeface="Humanst521 BT"/>
              </a:rPr>
              <a:t>szeregi czasowe z problemam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pic>
        <p:nvPicPr>
          <p:cNvPr id="374" name="image030" descr=""/>
          <p:cNvPicPr/>
          <p:nvPr/>
        </p:nvPicPr>
        <p:blipFill>
          <a:blip r:embed="rId4"/>
          <a:stretch/>
        </p:blipFill>
        <p:spPr>
          <a:xfrm>
            <a:off x="552600" y="3867120"/>
            <a:ext cx="8045280" cy="2438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4038480"/>
            <a:ext cx="304560" cy="20574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image016" descr=""/>
          <p:cNvPicPr/>
          <p:nvPr/>
        </p:nvPicPr>
        <p:blipFill>
          <a:blip r:embed="rId5"/>
          <a:stretch/>
        </p:blipFill>
        <p:spPr>
          <a:xfrm>
            <a:off x="542880" y="1265400"/>
            <a:ext cx="8058240" cy="24778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705720" y="1676520"/>
            <a:ext cx="1752480" cy="1295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6680" y="129528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prowadzenie – słów kilka o serwisie i projek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 główne cele projektu ESEAS-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Streszczeni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438280"/>
            <a:ext cx="8305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ieć stacji obserwacyjnych serwisu ES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4440" y="3083040"/>
            <a:ext cx="8305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cedury dla stacji ESEAS CG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4440" y="4343400"/>
            <a:ext cx="8305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pracowania obserwacji GPS w SRC-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987800"/>
            <a:ext cx="8305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potykane proble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5591160"/>
            <a:ext cx="8305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dsumowanie i wnio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3800" y="3733920"/>
            <a:ext cx="8305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entra Analiz GPS i strategie oprac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4280" y="38098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52600" y="152280"/>
            <a:ext cx="663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CGPS</a:t>
            </a:r>
            <a:r>
              <a:rPr b="1" lang="en-GB" sz="3200" spc="-1" strike="noStrike">
                <a:solidFill>
                  <a:srgbClr val="ffcc00"/>
                </a:solidFill>
                <a:latin typeface="Humanst521 BT"/>
              </a:rPr>
              <a:t> – </a:t>
            </a: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"</a:t>
            </a:r>
            <a:r>
              <a:rPr b="1" lang="pl-PL" sz="2600" spc="-1" strike="noStrike">
                <a:solidFill>
                  <a:srgbClr val="ffcc00"/>
                </a:solidFill>
                <a:latin typeface="Humanst521 BT"/>
              </a:rPr>
              <a:t>Dual Receiver concept"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pic>
        <p:nvPicPr>
          <p:cNvPr id="389" name="image005" descr=""/>
          <p:cNvPicPr/>
          <p:nvPr/>
        </p:nvPicPr>
        <p:blipFill>
          <a:blip r:embed="rId4"/>
          <a:stretch/>
        </p:blipFill>
        <p:spPr>
          <a:xfrm>
            <a:off x="582480" y="1181160"/>
            <a:ext cx="7979040" cy="3314520"/>
          </a:xfrm>
          <a:prstGeom prst="rect">
            <a:avLst/>
          </a:prstGeom>
          <a:ln w="0">
            <a:noFill/>
          </a:ln>
        </p:spPr>
      </p:pic>
      <p:pic>
        <p:nvPicPr>
          <p:cNvPr id="390" name="image004" descr=""/>
          <p:cNvPicPr/>
          <p:nvPr/>
        </p:nvPicPr>
        <p:blipFill>
          <a:blip r:embed="rId5"/>
          <a:stretch/>
        </p:blipFill>
        <p:spPr>
          <a:xfrm>
            <a:off x="600120" y="3789360"/>
            <a:ext cx="7953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24280" y="38098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52600" y="152280"/>
            <a:ext cx="663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CGPS</a:t>
            </a:r>
            <a:r>
              <a:rPr b="1" lang="en-GB" sz="3200" spc="-1" strike="noStrike">
                <a:solidFill>
                  <a:srgbClr val="ffcc00"/>
                </a:solidFill>
                <a:latin typeface="Humanst521 BT"/>
              </a:rPr>
              <a:t> – </a:t>
            </a:r>
            <a:r>
              <a:rPr b="1" lang="pl-PL" sz="2600" spc="-1" strike="noStrike">
                <a:solidFill>
                  <a:srgbClr val="ffcc00"/>
                </a:solidFill>
                <a:latin typeface="Humanst521 BT"/>
              </a:rPr>
              <a:t>szeregi czasowe - przykład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pic>
        <p:nvPicPr>
          <p:cNvPr id="402" name="image012" descr=""/>
          <p:cNvPicPr/>
          <p:nvPr/>
        </p:nvPicPr>
        <p:blipFill>
          <a:blip r:embed="rId4"/>
          <a:stretch/>
        </p:blipFill>
        <p:spPr>
          <a:xfrm>
            <a:off x="609480" y="1276200"/>
            <a:ext cx="7925040" cy="2459160"/>
          </a:xfrm>
          <a:prstGeom prst="rect">
            <a:avLst/>
          </a:prstGeom>
          <a:ln w="0">
            <a:noFill/>
          </a:ln>
        </p:spPr>
      </p:pic>
      <p:pic>
        <p:nvPicPr>
          <p:cNvPr id="403" name="image032" descr=""/>
          <p:cNvPicPr/>
          <p:nvPr/>
        </p:nvPicPr>
        <p:blipFill>
          <a:blip r:embed="rId5"/>
          <a:stretch/>
        </p:blipFill>
        <p:spPr>
          <a:xfrm>
            <a:off x="609480" y="3870360"/>
            <a:ext cx="79250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95000" y="1219320"/>
            <a:ext cx="806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la wielu stacji brak jest dobrego udokumentowania zdarzeń mających wpływ na proces opracowania dany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poro stacji przy mareografach ma zbyt krótkie szeregi czasowe, potrzebne dla dokładnych wyznaczeń ruchów pionowych lądu w ich sąsiedztwi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wielu przypadkach brak jest weryfikacji zgodności nagłówka RINEX z plikami typu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'sitelog'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stacj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kiedy występuje zbyt długi czas reakcji na pojawienie się problemów ze stacją (np. z wyników QC, opracowania danych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dostatecznie dokładne transformacje między kolejnymi realizacjami układu ITRF i ich pochodnymi (np. IGS, JPL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Napotykane problemy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95360" y="1219320"/>
            <a:ext cx="8267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d lipca 2004 do lutego 2005 pojawiały się aktualizacje i poprawki do pakietu Bernese w wersji 4.2 oraz 5.0 (dotyczące błędów w liczeniu poprawek pływowych dla Ziemi sztywnej oraz programu ADNEQ2 i błędów w wyznaczaniu wektorów prędkości stacji), wymagające rekompilacji źródła i wykonania ponownego opracowania danych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(BSWmails)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afafaf"/>
                </a:solidFill>
                <a:latin typeface="Arial"/>
              </a:rPr>
              <a:t>BSWMAIL #190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afafaf"/>
                </a:solidFill>
                <a:latin typeface="Arial"/>
              </a:rPr>
              <a:t>Symptom: Error in step 2 correction of solid Earth tides. This causes subdaily station height variations with an amplitude of 1 cm at mid-latitudes. Station heights in small networks are not affected (0.1 mm), in large regional networks the scale may show an annual variation, and in global networks the height component of mid-latitude stations is affected by up to 1 cm. Troposphere zenith path delays show a periodic daily variation with an amplitude of 4 mm at midlatitu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Napotykane problemy cd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09480" y="1289160"/>
            <a:ext cx="80647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Arial"/>
              </a:rPr>
              <a:t>Analizy wielowariantowe opracowania obserwacji GPS, wykonywane przez poszczególne Centra Analiz w ramach projektu pilotażowego ESEAS-RI zgodnie z wypracowanymi i modyfikowanymi strategiami opracowania dobiegają końca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Arial"/>
              </a:rPr>
              <a:t>Kontynuowane są analizy zmierzające do zidentyfikowania źródeł rozbieżności, jakie pojawiły się między dotychczasowymi rozwiązaniami poszczególnych Centrów Analiz serwisu oraz wypracowania metody generowania jednego szeregu dla każdej stacji serwisu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Podsumowani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09480" y="1289160"/>
            <a:ext cx="806472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Wiele stacji CGPS przy mareografach (praktycznie wszystkie nowo-założone w ramach projektu ESEAS-RI) ma jeszcze zbyt krótkie szeregi czasowe dla wyznaczenia ich ruchów pionowych (trendu liniowego i wyrazów sezonowych) z odpowiednio wysoką dokładnością i na ich podstawie względnych i bezwzględnych zmian poziomu morza dla różnych skal czasu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Po zakończeniu projektu ESEAS-RI planowane jest uruchomienie serwisu ESEAS w trybie operacyjnym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Podsumowanie cd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88880" y="1270080"/>
            <a:ext cx="806472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Osiągnięcie, wymaganej dla celów badania zmian poziomu morza </a:t>
            </a:r>
            <a:r>
              <a:rPr b="0" lang="pl-PL" sz="2600" spc="-1" strike="noStrike">
                <a:solidFill>
                  <a:srgbClr val="0bc000"/>
                </a:solidFill>
                <a:latin typeface="Arial"/>
              </a:rPr>
              <a:t>w długiej skali czasu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600" spc="-1" strike="noStrike">
                <a:solidFill>
                  <a:srgbClr val="ffffff"/>
                </a:solidFill>
                <a:latin typeface="Arial"/>
              </a:rPr>
              <a:t>(wiekowej)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, dokładności ruchów pionowych lądu </a:t>
            </a:r>
            <a:r>
              <a:rPr b="0" lang="pl-PL" sz="2600" spc="-1" strike="noStrike">
                <a:solidFill>
                  <a:srgbClr val="0bc000"/>
                </a:solidFill>
                <a:latin typeface="Arial"/>
              </a:rPr>
              <a:t>na poziomie 1 mm/ro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uwarunkowane jest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wprowadzeniem spójnych i dokładnych modeli zjawisk geofizycznych dla wszystkich technik obserwacyjnych współtworzących układ i zgodnych z przyjętymi konwencjami międzynarodowymi (IERS, IGS)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podniesieniem dokładności i zapewnieniem długookresowej stabilności globalnego układu geocentrycznego (na poziomie definiowania, realizacji jak i konserwacji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Podsumowanie cd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53880" y="220968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79768"/>
                </a:solidFill>
                <a:latin typeface="Arial"/>
              </a:rPr>
              <a:t>Dziękujemy za uwag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324480"/>
            <a:ext cx="8610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8080" y="6324480"/>
            <a:ext cx="89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CBK PAN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, </a:t>
            </a: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ul. Bartycka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 18</a:t>
            </a: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A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, 00-716 Wars</a:t>
            </a: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z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aw</a:t>
            </a:r>
            <a:r>
              <a:rPr b="0" i="1" lang="pl-PL" sz="1800" spc="-1" strike="noStrike">
                <a:solidFill>
                  <a:srgbClr val="afafaf"/>
                </a:solidFill>
                <a:latin typeface="Humanst521 BT"/>
              </a:rPr>
              <a:t>a</a:t>
            </a:r>
            <a:r>
              <a:rPr b="0" i="1" lang="en-GB" sz="1800" spc="-1" strike="noStrike">
                <a:solidFill>
                  <a:srgbClr val="afafaf"/>
                </a:solidFill>
                <a:latin typeface="Humanst521 BT"/>
              </a:rPr>
              <a:t>,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2417760" y="-103680"/>
            <a:ext cx="672624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00"/>
                </a:solidFill>
                <a:latin typeface="Humanst521 BT"/>
              </a:rPr>
              <a:t>Seminarium „Satelitarne metody wyznaczania pozycji we współczesnej geodezji i nawigacji”</a:t>
            </a:r>
            <a:br>
              <a:rPr sz="2000"/>
            </a:b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Poznan</a:t>
            </a:r>
            <a:r>
              <a:rPr b="0" lang="en-GB" sz="1600" spc="-1" strike="noStrike">
                <a:solidFill>
                  <a:srgbClr val="ffcc00"/>
                </a:solidFill>
                <a:latin typeface="Humanst521 BT"/>
              </a:rPr>
              <a:t>, </a:t>
            </a: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23</a:t>
            </a:r>
            <a:r>
              <a:rPr b="0" lang="en-GB" sz="1600" spc="-1" strike="noStrike">
                <a:solidFill>
                  <a:srgbClr val="ffcc00"/>
                </a:solidFill>
                <a:latin typeface="Humanst521 BT"/>
              </a:rPr>
              <a:t>-2</a:t>
            </a: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4</a:t>
            </a:r>
            <a:r>
              <a:rPr b="0" lang="en-GB" sz="1600" spc="-1" strike="noStrike">
                <a:solidFill>
                  <a:srgbClr val="ffcc00"/>
                </a:solidFill>
                <a:latin typeface="Humanst521 BT"/>
              </a:rPr>
              <a:t> </a:t>
            </a: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czerwca</a:t>
            </a:r>
            <a:r>
              <a:rPr b="0" lang="en-GB" sz="1600" spc="-1" strike="noStrike">
                <a:solidFill>
                  <a:srgbClr val="ffcc00"/>
                </a:solidFill>
                <a:latin typeface="Humanst521 BT"/>
              </a:rPr>
              <a:t> 200</a:t>
            </a:r>
            <a:r>
              <a:rPr b="0" lang="pl-PL" sz="1600" spc="-1" strike="noStrike">
                <a:solidFill>
                  <a:srgbClr val="ffcc00"/>
                </a:solidFill>
                <a:latin typeface="Humanst521 BT"/>
              </a:rPr>
              <a:t>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24000" y="5589720"/>
            <a:ext cx="1008000" cy="608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03280" y="5610240"/>
            <a:ext cx="792360" cy="584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019920" y="518148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809eca"/>
                </a:solidFill>
                <a:latin typeface="Humanst521 BT"/>
              </a:rPr>
              <a:t>Ryszard Zdun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809eca"/>
                </a:solidFill>
                <a:latin typeface="Humanst521 BT"/>
              </a:rPr>
              <a:t>Leszek J. Jaworski</a:t>
            </a:r>
            <a:r>
              <a:rPr b="0" i="1" lang="pl-PL" sz="2400" spc="-1" strike="noStrike" baseline="30000">
                <a:solidFill>
                  <a:srgbClr val="809eca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Wprowadzeni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520" y="1295280"/>
            <a:ext cx="828036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Projekt ESEAS-RI został złożony w ramach 5-go Programu Ramowego Unii Europejskiej przez organizatorów i członków Europejskiego Serwisu Zmian Poziomu Morza 'ESEAS', który powstał jako efekt wypracowanych koncepcji naukowych i strategii w ramach Akcji 40 programu COST (EOSS)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Projekt został zaakceptowany i przyjęty do realizacji 18 października 2002 pod numerem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R1-CT-2002-40025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, jako 3-letni projekt pilotażowy Serwisu ESE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91760" y="129492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zagęszczenie i modernizacja istniejącej ‘sieci’ stacji mareograficznych wokół kontynentu europejskiego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ujednolicenie standardów obserwacji, kalibrowania instrumentów oraz wypracowanie wspólnych formatów dla wymiany, przetwarzania, archiwizacji danych i produktów serwisu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organizacja struktur baz danych, wypracowanie efektywnych metod dostępu do danych, ich wymiany i aktualizacji poprzez Internet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bc000"/>
              </a:buClr>
              <a:buSzPct val="1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rozwijanie i wdrażanie nowych modeli dla celów badań zmian poziomu morza, pionowych ruchów stacji i innych parametrów fizycznych, służących rozwojowi badań środowiska naturalnego w skali regionalnej i globalnej,</a:t>
            </a:r>
            <a:r>
              <a:rPr b="0" lang="pl-PL" sz="2100" spc="-1" strike="noStrike">
                <a:solidFill>
                  <a:srgbClr val="ffffff"/>
                </a:solidFill>
                <a:latin typeface="Humanst521 B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Główne cele projektu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91760" y="1294920"/>
            <a:ext cx="819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tacje mareograficzne rejestrują zmiany poziomu mor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dniesione do lądu. Dla odseparowania zmian absolutn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ych zmian od pionowych ruchów lądu stosuje się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lokację z permanentnymi stacjami G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by zapewnić dokładność, wymaganą dla potrzeb studió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mian poziomu morza w ska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lobalnej na poziom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bc000"/>
                </a:solidFill>
                <a:latin typeface="Arial"/>
              </a:rPr>
              <a:t>1 mm/rok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 musimy znać z n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niejszą dokładności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ionowe ruchy tychże stacji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rażone w stabilnym długo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kresowo, geocentryczny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kładzie odniesi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Wymagania dokładnosciow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ozorna%20zmiana%20poziomu%20morza" descr=""/>
          <p:cNvPicPr/>
          <p:nvPr/>
        </p:nvPicPr>
        <p:blipFill>
          <a:blip r:embed="rId4"/>
          <a:stretch/>
        </p:blipFill>
        <p:spPr>
          <a:xfrm>
            <a:off x="4734000" y="3600360"/>
            <a:ext cx="38480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Humanst521 BT"/>
              </a:rPr>
              <a:t>Rozmieszczenie stacji E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692360"/>
            <a:ext cx="144720" cy="142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378080"/>
            <a:ext cx="146160" cy="145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295280"/>
            <a:ext cx="3206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tacje mareograficzne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    17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tacje CGPS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      25 (2d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tacje EGPS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      58 (1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tacje z absolutnymi pomiaram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rawimetrycznymi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        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eseas_eos" descr=""/>
          <p:cNvPicPr/>
          <p:nvPr/>
        </p:nvPicPr>
        <p:blipFill>
          <a:blip r:embed="rId4"/>
          <a:stretch/>
        </p:blipFill>
        <p:spPr>
          <a:xfrm>
            <a:off x="3994200" y="118116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2016000"/>
            <a:ext cx="146160" cy="14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" y="2336760"/>
            <a:ext cx="179640" cy="1792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0" y="1143000"/>
            <a:ext cx="0" cy="5257800"/>
          </a:xfrm>
          <a:prstGeom prst="line">
            <a:avLst/>
          </a:prstGeom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8120"/>
            <a:ext cx="3505320" cy="0"/>
          </a:xfrm>
          <a:prstGeom prst="line">
            <a:avLst/>
          </a:prstGeom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04720" y="4065480"/>
            <a:ext cx="3409920" cy="230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988920" y="5648400"/>
            <a:ext cx="277920" cy="226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76200" y="5383080"/>
            <a:ext cx="276480" cy="2937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200400"/>
            <a:ext cx="33526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bc000"/>
                </a:solidFill>
                <a:latin typeface="Arial"/>
              </a:rPr>
              <a:t>Stacja mareograficzna i CGP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bc000"/>
                </a:solidFill>
                <a:latin typeface="Arial"/>
              </a:rPr>
              <a:t>we Władysławowie ( WLAD 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035080" y="1860480"/>
          <a:ext cx="6624720" cy="44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35080" y="1860480"/>
                    <a:ext cx="662472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cc00"/>
                </a:solidFill>
                <a:latin typeface="Humanst521 BT"/>
              </a:rPr>
              <a:t>Kolokacja 4 technik obserwacyjnych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9200" y="2039760"/>
            <a:ext cx="122220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welac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9200" y="2543040"/>
            <a:ext cx="122220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9200" y="3022560"/>
            <a:ext cx="1222200" cy="307080"/>
          </a:xfrm>
          <a:prstGeom prst="rect">
            <a:avLst/>
          </a:prstGeom>
          <a:solidFill>
            <a:srgbClr val="0b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awimet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3320" y="4067280"/>
            <a:ext cx="576360" cy="246240"/>
          </a:xfrm>
          <a:prstGeom prst="rect">
            <a:avLst/>
          </a:prstGeom>
          <a:solidFill>
            <a:srgbClr val="0b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raw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00240" y="4282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0640" y="3500280"/>
            <a:ext cx="1220760" cy="307080"/>
          </a:xfrm>
          <a:prstGeom prst="rect">
            <a:avLst/>
          </a:prstGeom>
          <a:solidFill>
            <a:srgbClr val="809e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areograf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2492280"/>
            <a:ext cx="712800" cy="246240"/>
          </a:xfrm>
          <a:prstGeom prst="rect">
            <a:avLst/>
          </a:prstGeom>
          <a:solidFill>
            <a:srgbClr val="809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reog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637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720" y="1219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tacja EOS - Władysławow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819440"/>
            <a:ext cx="8229600" cy="0"/>
          </a:xfrm>
          <a:prstGeom prst="line">
            <a:avLst/>
          </a:prstGeom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09880" y="1828800"/>
            <a:ext cx="0" cy="4572000"/>
          </a:xfrm>
          <a:prstGeom prst="line">
            <a:avLst/>
          </a:prstGeom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76600" y="3962520"/>
            <a:ext cx="304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2600" y="152280"/>
            <a:ext cx="679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Humanst521 BT"/>
              </a:rPr>
              <a:t>Procedury dla stacji ESEAS CG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990880"/>
            <a:ext cx="12193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95440" y="2981160"/>
            <a:ext cx="6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O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Ash_uZ-CGRS" descr=""/>
          <p:cNvPicPr/>
          <p:nvPr/>
        </p:nvPicPr>
        <p:blipFill>
          <a:blip r:embed="rId4"/>
          <a:stretch/>
        </p:blipFill>
        <p:spPr>
          <a:xfrm>
            <a:off x="971640" y="1809720"/>
            <a:ext cx="1095120" cy="716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52800" y="2990880"/>
            <a:ext cx="1209600" cy="28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05200" y="2990880"/>
            <a:ext cx="4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Q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Ash_DM%20antenna" descr=""/>
          <p:cNvPicPr/>
          <p:nvPr/>
        </p:nvPicPr>
        <p:blipFill>
          <a:blip r:embed="rId5"/>
          <a:stretch/>
        </p:blipFill>
        <p:spPr>
          <a:xfrm>
            <a:off x="1077840" y="1447920"/>
            <a:ext cx="912960" cy="498240"/>
          </a:xfrm>
          <a:prstGeom prst="rect">
            <a:avLst/>
          </a:prstGeom>
          <a:ln w="0">
            <a:noFill/>
          </a:ln>
        </p:spPr>
      </p:pic>
      <p:pic>
        <p:nvPicPr>
          <p:cNvPr id="168" name="PC_computer" descr=""/>
          <p:cNvPicPr/>
          <p:nvPr/>
        </p:nvPicPr>
        <p:blipFill>
          <a:blip r:embed="rId6"/>
          <a:stretch/>
        </p:blipFill>
        <p:spPr>
          <a:xfrm>
            <a:off x="895320" y="3083040"/>
            <a:ext cx="1143000" cy="817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57280" y="2438280"/>
            <a:ext cx="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1914480"/>
            <a:ext cx="12193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5280" y="190512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C_computer" descr=""/>
          <p:cNvPicPr/>
          <p:nvPr/>
        </p:nvPicPr>
        <p:blipFill>
          <a:blip r:embed="rId7"/>
          <a:stretch/>
        </p:blipFill>
        <p:spPr>
          <a:xfrm>
            <a:off x="5772240" y="2006640"/>
            <a:ext cx="1143000" cy="817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715000" y="2981160"/>
            <a:ext cx="12193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15280" y="298116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C_computer" descr=""/>
          <p:cNvPicPr/>
          <p:nvPr/>
        </p:nvPicPr>
        <p:blipFill>
          <a:blip r:embed="rId8"/>
          <a:stretch/>
        </p:blipFill>
        <p:spPr>
          <a:xfrm>
            <a:off x="5772240" y="3073320"/>
            <a:ext cx="1143000" cy="817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15000" y="4048200"/>
            <a:ext cx="12193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15280" y="4038480"/>
            <a:ext cx="4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C_computer" descr=""/>
          <p:cNvPicPr/>
          <p:nvPr/>
        </p:nvPicPr>
        <p:blipFill>
          <a:blip r:embed="rId9"/>
          <a:stretch/>
        </p:blipFill>
        <p:spPr>
          <a:xfrm>
            <a:off x="5772240" y="4140360"/>
            <a:ext cx="1143000" cy="817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52800" y="3362400"/>
            <a:ext cx="1218960" cy="26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52800" y="3733920"/>
            <a:ext cx="1218960" cy="23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52600" y="33336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ompres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19400" y="3686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archiwizac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4191120"/>
            <a:ext cx="533520" cy="304560"/>
          </a:xfrm>
          <a:prstGeom prst="roundRect">
            <a:avLst>
              <a:gd name="adj" fmla="val 16667"/>
            </a:avLst>
          </a:prstGeom>
          <a:solidFill>
            <a:srgbClr val="afaf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743200" y="213372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057040" y="213372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6240" y="4191120"/>
            <a:ext cx="4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Q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1911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4191120"/>
            <a:ext cx="8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IN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2981160"/>
            <a:ext cx="12193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90800" y="2660760"/>
            <a:ext cx="137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SEAS serw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C_computer" descr=""/>
          <p:cNvPicPr/>
          <p:nvPr/>
        </p:nvPicPr>
        <p:blipFill>
          <a:blip r:embed="rId10"/>
          <a:stretch/>
        </p:blipFill>
        <p:spPr>
          <a:xfrm>
            <a:off x="3943440" y="3073320"/>
            <a:ext cx="1143000" cy="817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080" y="4876920"/>
            <a:ext cx="12193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876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OC serw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C_computer" descr=""/>
          <p:cNvPicPr/>
          <p:nvPr/>
        </p:nvPicPr>
        <p:blipFill>
          <a:blip r:embed="rId11"/>
          <a:stretch/>
        </p:blipFill>
        <p:spPr>
          <a:xfrm>
            <a:off x="895320" y="5281560"/>
            <a:ext cx="704880" cy="504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5120" y="1371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CGPS / E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4840" y="449568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09720" y="449568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105520" y="2362320"/>
            <a:ext cx="60948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42900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3733920"/>
            <a:ext cx="60948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71880" y="4343400"/>
            <a:ext cx="1790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962520" y="39625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3962520"/>
            <a:ext cx="0" cy="1447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57560" y="426708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34120" y="2165400"/>
            <a:ext cx="1219320" cy="48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05840" y="2133720"/>
            <a:ext cx="96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zeregi czasow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43840" y="3222720"/>
            <a:ext cx="1218960" cy="48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3191040"/>
            <a:ext cx="96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zeregi czasow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43840" y="4289400"/>
            <a:ext cx="1218960" cy="48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4257720"/>
            <a:ext cx="96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zeregi czasow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45744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4956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24382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10080" y="5429160"/>
            <a:ext cx="18288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5334120"/>
            <a:ext cx="152388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1880" y="2438280"/>
            <a:ext cx="152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4524480"/>
            <a:ext cx="152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3476520"/>
            <a:ext cx="152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1600200"/>
            <a:ext cx="0" cy="28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1295280"/>
            <a:ext cx="15238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257800" y="160020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9eca"/>
                </a:solidFill>
                <a:latin typeface="Humanst521 BT"/>
              </a:rPr>
              <a:t>FTP, WW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52760" y="40100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9eca"/>
                </a:solidFill>
                <a:latin typeface="Humanst521 BT"/>
              </a:rPr>
              <a:t>FTP, WW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1905120"/>
            <a:ext cx="0" cy="10666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1400040"/>
            <a:ext cx="16761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kompilowa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zeregi czasow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2362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3300"/>
                </a:solidFill>
                <a:latin typeface="Humanst521 BT"/>
              </a:rPr>
              <a:t>problem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19240" y="186696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3300"/>
                </a:solidFill>
                <a:latin typeface="Humanst521 BT"/>
              </a:rPr>
              <a:t>interwencj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14560" y="39625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19440" y="39625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4329000"/>
            <a:ext cx="1295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serwac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duk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715000"/>
            <a:ext cx="137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użytkownic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42840"/>
            <a:ext cx="0" cy="9144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838080"/>
            <a:ext cx="67057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1240" y="272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Space Research Cent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PalmSpringspl"/>
              </a:rPr>
              <a:t>Polish Academy of Sc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655308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38098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2600" y="152280"/>
            <a:ext cx="679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Humanst521 BT"/>
              </a:rPr>
              <a:t>CGPS – </a:t>
            </a:r>
            <a:r>
              <a:rPr b="1" lang="pl-PL" sz="2800" spc="-1" strike="noStrike">
                <a:solidFill>
                  <a:srgbClr val="ffcc00"/>
                </a:solidFill>
                <a:latin typeface="Humanst521 BT"/>
              </a:rPr>
              <a:t>kontrola jakości obserw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8152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PalmSpringspl"/>
              </a:rPr>
              <a:t>Poznań, 23-24 września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57200" y="641988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00080" y="6424560"/>
            <a:ext cx="457200" cy="33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noFill/>
          <a:ln w="38160">
            <a:solidFill>
              <a:srgbClr val="97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3520" y="1238400"/>
          <a:ext cx="8076960" cy="248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238400"/>
                    <a:ext cx="807696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533520" y="3795840"/>
          <a:ext cx="8076960" cy="2481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795840"/>
                    <a:ext cx="807696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1:12:03Z</dcterms:created>
  <dc:creator>Ryszard Zdunek</dc:creator>
  <dc:description/>
  <dc:language>en-US</dc:language>
  <cp:lastModifiedBy>rysiek</cp:lastModifiedBy>
  <dcterms:modified xsi:type="dcterms:W3CDTF">2005-06-22T21:14:27Z</dcterms:modified>
  <cp:revision>144</cp:revision>
  <dc:subject/>
  <dc:title>Szablon_NatGeogr</dc:title>
</cp:coreProperties>
</file>