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A7B8-9BB2-498F-9B8F-E7FB550CF25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ziałają w tych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3F2-895B-4726-A703-730BFE21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B62-A3F8-4100-B0C3-9705B4C2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6AE-BF7F-4CE7-B956-6C68D2E7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90F-D309-4D11-80CF-ED761C88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80B-4076-42E5-B1F4-0B4EDF8B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718-63E9-44D0-A877-DF620790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A24-E720-482F-8632-5AA57E73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C10-3A58-4B5F-A4EC-02C14842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E4E-A9FE-4FA1-98EE-9A9BF4A2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F9B-824F-4A05-ABC4-E70BE909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211-11C6-4095-95E0-EDA7055E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90D-3C63-42B7-92AF-DEA494A4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4A87-5B1E-4997-9DEA-CB2076685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ahoma"/>
              </a:rPr>
              <a:t>CZAS  DLA 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 GALILEO</a:t>
            </a:r>
            <a:br>
              <a:rPr sz="4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 polski w nim udzia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2004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Jerzy Nawrocki,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aweł Nogaś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nna F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Obserwatorium Astrogeodynamiczne CBK 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Borowi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159680" y="0"/>
          <a:ext cx="1984320" cy="8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59680" y="0"/>
                    <a:ext cx="19843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09080" y="6095880"/>
            <a:ext cx="70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33"/>
                </a:solidFill>
                <a:latin typeface="Tahoma"/>
              </a:rPr>
              <a:t>Satelitarne metody wyznaczania pozycji we współczesnej geodezji i nawigacji</a:t>
            </a:r>
            <a:br>
              <a:rPr sz="1400"/>
            </a:br>
            <a:r>
              <a:rPr b="1" lang="pl-PL" sz="1400" spc="-1" strike="noStrike">
                <a:solidFill>
                  <a:srgbClr val="333333"/>
                </a:solidFill>
                <a:latin typeface="Tahoma"/>
              </a:rPr>
              <a:t>Poznań,</a:t>
            </a:r>
            <a:r>
              <a:rPr b="1" lang="en-GB" sz="1400" spc="-1" strike="noStrike">
                <a:solidFill>
                  <a:srgbClr val="333333"/>
                </a:solidFill>
                <a:latin typeface="Tahoma"/>
              </a:rPr>
              <a:t> 2</a:t>
            </a:r>
            <a:r>
              <a:rPr b="1" lang="pl-PL" sz="1400" spc="-1" strike="noStrike">
                <a:solidFill>
                  <a:srgbClr val="333333"/>
                </a:solidFill>
                <a:latin typeface="Tahoma"/>
              </a:rPr>
              <a:t>3</a:t>
            </a:r>
            <a:r>
              <a:rPr b="1" lang="en-GB" sz="1400" spc="-1" strike="noStrike">
                <a:solidFill>
                  <a:srgbClr val="333333"/>
                </a:solidFill>
                <a:latin typeface="Tahoma"/>
              </a:rPr>
              <a:t>-</a:t>
            </a:r>
            <a:r>
              <a:rPr b="1" lang="pl-PL" sz="1400" spc="-1" strike="noStrike">
                <a:solidFill>
                  <a:srgbClr val="333333"/>
                </a:solidFill>
                <a:latin typeface="Tahoma"/>
              </a:rPr>
              <a:t>24 czerwca</a:t>
            </a:r>
            <a:r>
              <a:rPr b="1" lang="en-GB" sz="1400" spc="-1" strike="noStrike">
                <a:solidFill>
                  <a:srgbClr val="333333"/>
                </a:solidFill>
                <a:latin typeface="Tahoma"/>
              </a:rPr>
              <a:t>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OPONOWANA  REALIZACJA  SKALI  CZASU GALI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(GST – GALILEO SYSTEM TIM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Dokładność: UTC - GST  &lt;  50 ns (2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precyzja: UTC – GST &lt; 28 ns (2</a:t>
            </a:r>
            <a:r>
              <a:rPr b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maser wodorowy o stabilności 2.0 e-15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1 dzień (GALILEO Precise Time Facilit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ime links for realization TA(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523880"/>
            <a:ext cx="4113000" cy="4114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819520"/>
            <a:ext cx="2011320" cy="2011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1600200"/>
          <a:ext cx="7331040" cy="399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600200"/>
                    <a:ext cx="73310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0" y="1143000"/>
          <a:ext cx="9144000" cy="5334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4300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TC – UTC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10480" y="2971800"/>
            <a:ext cx="122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Tahoma"/>
              </a:rPr>
              <a:t>UTC – UTC(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00"/>
                </a:solidFill>
                <a:latin typeface="Tahoma"/>
              </a:rPr>
              <a:t>(Warsa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80840" y="1828800"/>
            <a:ext cx="12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66ff"/>
                </a:solidFill>
                <a:latin typeface="Tahoma"/>
              </a:rPr>
              <a:t>UTC – UTC(O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66ff"/>
                </a:solidFill>
                <a:latin typeface="Tahoma"/>
              </a:rPr>
              <a:t>(Par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4000" y="1447920"/>
            <a:ext cx="13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0080"/>
                </a:solidFill>
                <a:latin typeface="Tahoma"/>
              </a:rPr>
              <a:t>UTC – UTC(N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0080"/>
                </a:solidFill>
                <a:latin typeface="Tahoma"/>
              </a:rPr>
              <a:t>(Teddingt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12520" y="2133720"/>
            <a:ext cx="129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Tahoma"/>
              </a:rPr>
              <a:t>UTC – UTC(PT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8080"/>
                </a:solidFill>
                <a:latin typeface="Tahoma"/>
              </a:rPr>
              <a:t>(Braunschwe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39080" y="426708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8000"/>
                </a:solidFill>
                <a:latin typeface="Tahoma"/>
              </a:rPr>
              <a:t>UTC – UTC(I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8000"/>
                </a:solidFill>
                <a:latin typeface="Tahoma"/>
              </a:rPr>
              <a:t>(Tur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68000" y="2971800"/>
            <a:ext cx="144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ahoma"/>
              </a:rPr>
              <a:t>UTC – UTC(USN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ahoma"/>
              </a:rPr>
              <a:t>(Washington D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nsfer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stem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1800" y="1260360"/>
            <a:ext cx="686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of TTS-2 in single-channel mode is simila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 that of the original NBS (National Bureau of Standard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PS recei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ITR-Antena_1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2759040" cy="2049480"/>
          </a:xfrm>
          <a:prstGeom prst="rect">
            <a:avLst/>
          </a:prstGeom>
          <a:ln w="0">
            <a:noFill/>
          </a:ln>
        </p:spPr>
      </p:pic>
      <p:pic>
        <p:nvPicPr>
          <p:cNvPr id="160" name="TTS-2_Foto" descr=""/>
          <p:cNvPicPr/>
          <p:nvPr/>
        </p:nvPicPr>
        <p:blipFill>
          <a:blip r:embed="rId4"/>
          <a:stretch/>
        </p:blipFill>
        <p:spPr>
          <a:xfrm>
            <a:off x="5181480" y="2438280"/>
            <a:ext cx="2971800" cy="2086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3520" y="5181480"/>
            <a:ext cx="73962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correction for ionospheric delays and precise ephemerides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oot-mean-square noise level for baselines of up to 8000 k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s about 3.0 ns, in the multi-channel mode it is even bet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2160" y="4572000"/>
            <a:ext cx="39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TTS-2 Receiver working at BIPM, Sev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nsfer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stem -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219320"/>
            <a:ext cx="5639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TS-3 system consists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C industrial compu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C card time interval count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76520" y="2971800"/>
          <a:ext cx="5867280" cy="34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971800"/>
                    <a:ext cx="586728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Nowy-14a" descr=""/>
          <p:cNvPicPr/>
          <p:nvPr/>
        </p:nvPicPr>
        <p:blipFill>
          <a:blip r:embed="rId5"/>
          <a:stretch/>
        </p:blipFill>
        <p:spPr>
          <a:xfrm>
            <a:off x="5486400" y="1523880"/>
            <a:ext cx="28735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PS and Galileo System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8476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7600" y="1447920"/>
            <a:ext cx="899640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alileo Time Service Provider (GT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600200"/>
            <a:ext cx="838224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consortium, which won the tender of European Commission for GTS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lios Technology LT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strogeodynamic Observatory, Space Research Centre (AOS, P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Centre National d'Etudes Spatiale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CNES, 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Istituto Elettrotecnico Nazionale  Galileo Ferrari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IEN , 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ayser-Threde GmbH (KT, D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ational Physical Laboratory (NPL, G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bservatoire de Paris (OP, 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hysikalisch Technische Bundesanstalt (PTB, 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ales Research &amp; Technology Ltd (TRT, UK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idelity’s  GTSP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71840" y="2378160"/>
            <a:ext cx="5329080" cy="3384360"/>
          </a:xfrm>
          <a:custGeom>
            <a:avLst/>
            <a:gdLst/>
            <a:ahLst/>
            <a:rect l="l" t="t" r="r" b="b"/>
            <a:pathLst>
              <a:path w="3357" h="2132">
                <a:moveTo>
                  <a:pt x="0" y="0"/>
                </a:moveTo>
                <a:lnTo>
                  <a:pt x="0" y="680"/>
                </a:lnTo>
                <a:lnTo>
                  <a:pt x="1361" y="680"/>
                </a:lnTo>
                <a:lnTo>
                  <a:pt x="1361" y="2132"/>
                </a:lnTo>
                <a:lnTo>
                  <a:pt x="3357" y="2132"/>
                </a:lnTo>
                <a:lnTo>
                  <a:pt x="335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16200" y="1585800"/>
            <a:ext cx="2879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lient: G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4040" y="3602160"/>
            <a:ext cx="28814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ssociate</a:t>
            </a:r>
            <a:r>
              <a:rPr b="1" lang="pl-PL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02160"/>
            <a:ext cx="2881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r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16200" y="2521080"/>
            <a:ext cx="2879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rog. Mgt: He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3962520"/>
            <a:ext cx="2881080" cy="16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elios, NPL, KT, TRT, IEN, AOS, CNES, P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4" idx="2"/>
            <a:endCxn id="67" idx="0"/>
          </p:cNvCxnSpPr>
          <p:nvPr/>
        </p:nvCxnSpPr>
        <p:spPr>
          <a:xfrm flipV="1" rot="10800000">
            <a:off x="4155480" y="1958760"/>
            <a:ext cx="1080" cy="54972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7" idx="2"/>
            <a:endCxn id="66" idx="0"/>
          </p:cNvCxnSpPr>
          <p:nvPr/>
        </p:nvCxnSpPr>
        <p:spPr>
          <a:xfrm flipH="1" rot="16200000">
            <a:off x="4889880" y="2159640"/>
            <a:ext cx="695520" cy="2162880"/>
          </a:xfrm>
          <a:prstGeom prst="bentConnector3">
            <a:avLst>
              <a:gd name="adj1" fmla="val 49766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7" idx="2"/>
            <a:endCxn id="65" idx="0"/>
          </p:cNvCxnSpPr>
          <p:nvPr/>
        </p:nvCxnSpPr>
        <p:spPr>
          <a:xfrm rot="5400000">
            <a:off x="2728080" y="2160720"/>
            <a:ext cx="695520" cy="2161080"/>
          </a:xfrm>
          <a:prstGeom prst="bentConnector3">
            <a:avLst>
              <a:gd name="adj1" fmla="val 49766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72" name=""/>
          <p:cNvSpPr/>
          <p:nvPr/>
        </p:nvSpPr>
        <p:spPr>
          <a:xfrm>
            <a:off x="6606000" y="241776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idelity’s  GTSP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823480"/>
            <a:ext cx="1067040" cy="642600"/>
          </a:xfrm>
          <a:prstGeom prst="flowChart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TC(k)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747160"/>
            <a:ext cx="1067040" cy="64260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li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5" idx="3"/>
            <a:endCxn id="78" idx="1"/>
          </p:cNvCxnSpPr>
          <p:nvPr/>
        </p:nvCxnSpPr>
        <p:spPr>
          <a:xfrm>
            <a:off x="2362320" y="3144600"/>
            <a:ext cx="838800" cy="81036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6" idx="1"/>
            <a:endCxn id="78" idx="3"/>
          </p:cNvCxnSpPr>
          <p:nvPr/>
        </p:nvCxnSpPr>
        <p:spPr>
          <a:xfrm flipV="1" rot="10800000">
            <a:off x="5562000" y="3067560"/>
            <a:ext cx="762480" cy="88668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80" name=""/>
          <p:cNvSpPr/>
          <p:nvPr/>
        </p:nvSpPr>
        <p:spPr>
          <a:xfrm>
            <a:off x="2133720" y="1832760"/>
            <a:ext cx="11430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li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832760"/>
            <a:ext cx="114300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1832760"/>
            <a:ext cx="1143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WST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0" idx="2"/>
            <a:endCxn id="75" idx="0"/>
          </p:cNvCxnSpPr>
          <p:nvPr/>
        </p:nvCxnSpPr>
        <p:spPr>
          <a:xfrm flipH="1">
            <a:off x="1828440" y="2204640"/>
            <a:ext cx="8769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81" idx="2"/>
            <a:endCxn id="75" idx="0"/>
          </p:cNvCxnSpPr>
          <p:nvPr/>
        </p:nvCxnSpPr>
        <p:spPr>
          <a:xfrm flipH="1">
            <a:off x="1828440" y="2204640"/>
            <a:ext cx="240120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1" idx="2"/>
            <a:endCxn id="76" idx="0"/>
          </p:cNvCxnSpPr>
          <p:nvPr/>
        </p:nvCxnSpPr>
        <p:spPr>
          <a:xfrm>
            <a:off x="4229280" y="2204640"/>
            <a:ext cx="262944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80" idx="2"/>
            <a:endCxn id="76" idx="0"/>
          </p:cNvCxnSpPr>
          <p:nvPr/>
        </p:nvCxnSpPr>
        <p:spPr>
          <a:xfrm>
            <a:off x="2705040" y="2204640"/>
            <a:ext cx="415368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82" idx="2"/>
            <a:endCxn id="75" idx="0"/>
          </p:cNvCxnSpPr>
          <p:nvPr/>
        </p:nvCxnSpPr>
        <p:spPr>
          <a:xfrm flipH="1">
            <a:off x="1828080" y="2204640"/>
            <a:ext cx="38487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2" idx="2"/>
            <a:endCxn id="76" idx="0"/>
          </p:cNvCxnSpPr>
          <p:nvPr/>
        </p:nvCxnSpPr>
        <p:spPr>
          <a:xfrm>
            <a:off x="5676480" y="2204640"/>
            <a:ext cx="118188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endCxn id="90" idx="3"/>
          </p:cNvCxnSpPr>
          <p:nvPr/>
        </p:nvCxnSpPr>
        <p:spPr>
          <a:xfrm flipH="1">
            <a:off x="1885320" y="4647960"/>
            <a:ext cx="243900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1" name=""/>
          <p:cNvCxnSpPr>
            <a:stCxn id="92" idx="0"/>
          </p:cNvCxnSpPr>
          <p:nvPr/>
        </p:nvCxnSpPr>
        <p:spPr>
          <a:xfrm flipV="1">
            <a:off x="2333160" y="4630320"/>
            <a:ext cx="2086920" cy="70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3200400" y="3142800"/>
            <a:ext cx="2362320" cy="162180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G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pl-PL" sz="1600" spc="-1" strike="noStrike">
                <a:solidFill>
                  <a:srgbClr val="ffffcc"/>
                </a:solidFill>
                <a:latin typeface="Tahoma"/>
              </a:rPr>
              <a:t>data pre-process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pl-PL" sz="1600" spc="-1" strike="noStrike">
                <a:solidFill>
                  <a:srgbClr val="ffffcc"/>
                </a:solidFill>
                <a:latin typeface="Tahoma"/>
              </a:rPr>
              <a:t>data arch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pl-PL" sz="1600" spc="-1" strike="noStrike">
                <a:solidFill>
                  <a:srgbClr val="ffffcc"/>
                </a:solidFill>
                <a:latin typeface="Tahoma"/>
              </a:rPr>
              <a:t>TAI pred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78" idx="2"/>
            <a:endCxn id="94" idx="1"/>
          </p:cNvCxnSpPr>
          <p:nvPr/>
        </p:nvCxnSpPr>
        <p:spPr>
          <a:xfrm>
            <a:off x="4381200" y="4630680"/>
            <a:ext cx="2019960" cy="411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78" idx="2"/>
            <a:endCxn id="96" idx="1"/>
          </p:cNvCxnSpPr>
          <p:nvPr/>
        </p:nvCxnSpPr>
        <p:spPr>
          <a:xfrm>
            <a:off x="4381560" y="4630680"/>
            <a:ext cx="1651680" cy="1045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457200" y="4724280"/>
            <a:ext cx="1428840" cy="7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6400800" y="4724280"/>
            <a:ext cx="2031840" cy="6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1981080" y="5334120"/>
            <a:ext cx="703440" cy="91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6039000" y="5490360"/>
            <a:ext cx="1056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ran-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asks of GT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1337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ftware, time 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5334120"/>
            <a:ext cx="3124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NSS time-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419720"/>
            <a:ext cx="2286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ime st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9625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04812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osite 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5053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erations, EG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5909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4876920"/>
            <a:ext cx="3124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WSTFT time-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9907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gent between Galileo and the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of time metrology instit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TSP realization 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717560"/>
            <a:ext cx="7467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ased on clocks of associated European laborato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(~70 Cesium clocks and ~15-20 H-masers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bility 1-day averaging time MDEV&lt;3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-14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requency steering  - daily rate &lt;1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-14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ock comparisons using „common-view” and TWST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TSP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981080"/>
            <a:ext cx="228600" cy="3048120"/>
          </a:xfrm>
          <a:prstGeom prst="upArrow">
            <a:avLst>
              <a:gd name="adj1" fmla="val 50000"/>
              <a:gd name="adj2" fmla="val 333346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447920"/>
          <a:ext cx="7869240" cy="43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447920"/>
                    <a:ext cx="7869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352680" y="1981080"/>
            <a:ext cx="228600" cy="3048120"/>
          </a:xfrm>
          <a:prstGeom prst="upArrow">
            <a:avLst>
              <a:gd name="adj1" fmla="val 50000"/>
              <a:gd name="adj2" fmla="val 333346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1981080"/>
            <a:ext cx="228600" cy="3048120"/>
          </a:xfrm>
          <a:prstGeom prst="upArrow">
            <a:avLst>
              <a:gd name="adj1" fmla="val 50000"/>
              <a:gd name="adj2" fmla="val 333346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981080"/>
            <a:ext cx="228600" cy="3048120"/>
          </a:xfrm>
          <a:prstGeom prst="upArrow">
            <a:avLst>
              <a:gd name="adj1" fmla="val 50000"/>
              <a:gd name="adj2" fmla="val 333346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24680" y="1981080"/>
            <a:ext cx="228600" cy="3048120"/>
          </a:xfrm>
          <a:prstGeom prst="upArrow">
            <a:avLst>
              <a:gd name="adj1" fmla="val 50000"/>
              <a:gd name="adj2" fmla="val 333346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2600" y="53341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O 1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44960" y="525780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07280" y="51814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0760" y="510552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Prel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28880" y="510552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T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I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Free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>
            <a:lum bright="70000" contrast="-70000"/>
          </a:blip>
          <a:srcRect l="0" t="0" r="0" b="125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828800" y="380880"/>
            <a:ext cx="550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articipation of AOS in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Galileo Time Servic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981080"/>
            <a:ext cx="5649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laboration of data transf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GPS, Two-w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082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03680" y="2971800"/>
            <a:ext cx="437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-transfer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elaboration of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technical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"/>
              </a:rPr>
              <a:t>requirement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truction, calibr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99160" y="4191120"/>
            <a:ext cx="253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gorithm elab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60600" y="464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5960" y="5410080"/>
            <a:ext cx="75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iciency and accuracy analysis of GTSP 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9:59:58Z</dcterms:created>
  <dc:creator>jen</dc:creator>
  <dc:description/>
  <dc:language>en-US</dc:language>
  <cp:lastModifiedBy>Jerzy Nawrocki</cp:lastModifiedBy>
  <cp:lastPrinted>2005-06-23T05:09:44Z</cp:lastPrinted>
  <dcterms:modified xsi:type="dcterms:W3CDTF">2005-06-23T07:55:17Z</dcterms:modified>
  <cp:revision>126</cp:revision>
  <dc:subject/>
  <dc:title>TIME FOR GALILEO</dc:title>
</cp:coreProperties>
</file>