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  <p:custShowLst>
    <p:custShow name="POZNAŃ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9"/>
        <p:sld r:id="rId20"/>
        <p:sld r:id="rId21"/>
        <p:sld r:id="rId22"/>
        <p:sld r:id="rId23"/>
        <p:sld r:id="rId24"/>
        <p:sld r:id="rId25"/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973-19DE-4969-9919-C0C565C3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83D-C639-4B2C-98C3-C880FEC6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61D-FE64-415B-844F-0D701468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265-FB9E-407C-8599-4611C833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7B71-368D-4A6D-B752-C43413D3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BCF0-69A3-4034-8945-38E3264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B9A-0A84-4DDC-83C3-76A4824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E01-1861-436C-93B6-13E69EDA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DCC-36F7-4227-97A1-87881111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E132-F11A-4E56-ACE5-B68ACCF3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8691-8E9C-482A-AB65-D1CBA4D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B6F-7455-4D70-BB12-B03AA24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F6CE-295B-481F-88AC-81C4B63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F0F-08DF-4FDB-99AE-C3D51DF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2F49-CE20-4012-9607-447D13F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A9D-AFD0-4916-A376-5C0BCFE0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14A-DABB-4E63-80BC-98EA1C61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954-FEC0-4016-AF5E-5E4E25C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9AD-95F5-447D-A391-5366B06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267-6469-4360-958E-495A26A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F58-80ED-4C37-9117-5F857C00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5B1-234D-428B-8BBC-DAC5362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F5D-FBA3-49D9-8AD0-E95C0BC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032-E149-40EA-9654-74378E4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500-3B41-434D-A770-042653D5E7AA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B0D-E193-4497-9D89-D7ABD102E9E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630-80DB-40FD-B649-89FB639D294E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3219-0921-43E0-836B-2F09ED741D7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3.xml"/><Relationship Id="rId3" Type="http://schemas.openxmlformats.org/officeDocument/2006/relationships/slide" Target="slide9.xml"/><Relationship Id="rId4" Type="http://schemas.openxmlformats.org/officeDocument/2006/relationships/slide" Target="slide14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3808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POZNAŃ 23 – 24 czerwc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057400"/>
            <a:ext cx="838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Analiza wyznaczenia składowej pionowej wybranych permanentnych stacji GPS w rozwiązaniach globalnych I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029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Marek Lehman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szek Jawor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1AE-4CF9-485D-B7E0-F3E08D485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44B-5D39-460C-9246-6ECE5DC5CC65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2CB-8EA8-4BF8-A9BF-9D9A4B4E1181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7F0-046D-4722-9FD2-C453AE65569A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1F0-F242-4AF9-A6F2-B98D1DB414E4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9DF-0FC7-4CBD-88E3-3DBD46A27EE3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42252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30B-B208-47D1-B6E8-56A65B73D9C7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Korelacje między stacjami dla wybranych rozwiązań AC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5984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89D-E8D9-4FA2-8731-2AE579878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598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F42-0730-4E18-A90D-3DEA3EE8E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22B-9125-49EB-96E9-6B1893A0B3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0F0-B39F-4E52-AF14-D7C3C7C47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bcbcb"/>
                </a:solidFill>
                <a:latin typeface="Verdana"/>
              </a:rPr>
              <a:t>Wstę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czynając od 09-11-2003 (1244 tydzień GPS) punkt IGS - BOR1 12205M002 jest przyjmowany jako stacja referencyjna w rozwiązaniu łącznym („combined”) sieci globalnej IGS liczonym przez  AC M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Interesujące było porównanie wyznaczeń współrzędnych z kilku ośrodków, a w szczególności dla składowej pionowe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3A3-947B-40A6-805E-F948E4C51F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10744200" cy="4862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Zestawienie wspólnych stacji /tygodni </a:t>
            </a:r>
            <a:br>
              <a:rPr sz="3200"/>
            </a:b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rozwiązań poszczególnych AC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C0E-FA70-4C00-B238-94D8A3C137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Współczynniki korelacji między </a:t>
            </a:r>
            <a:br>
              <a:rPr sz="3200"/>
            </a:b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rozwiązaniami poszczególnych AC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049480"/>
            <a:ext cx="1082016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438-A5C2-4383-87CF-49FF2BFA1B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Lucida Sans"/>
              </a:rPr>
              <a:t>WNIOSK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óżna dokładność rozwiązań AC we wszystkich składowy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ystematyczne efekty związane z AC (software, strategia opracowani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ystematyczne efekty związane z warunkami pomiarowymi na stacj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rost błędów wyznaczenia współrzędnych w cz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06A-2A30-4C5B-B5F6-C637B2EE6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ogo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3808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POZNAŃ 23 – 24 czerwc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057400"/>
            <a:ext cx="838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844-9A66-4E2C-AB37-D86F3375B0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Verdana"/>
              </a:rPr>
              <a:t>Wybrane ośrodki Analysis Centers of the IG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1337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opracowywanych w poszczególnych ośrodkach stacji GPS oraz wykorzystanych w rozwiązaniu łącznym („combined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080" y="2583000"/>
            <a:ext cx="622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28600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5435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475080"/>
            <a:ext cx="8915400" cy="19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BD1-432A-4F04-B727-1F40A1637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Zmiany składowej „U” w poszczególnych rozwiązaniach AC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990800"/>
            <a:ext cx="876312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A42-817D-4465-A293-C0101E87F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Błędy wyznaczenia składowej „U”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940040"/>
            <a:ext cx="9144000" cy="48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095-56C4-4FDB-B3D3-30B21E25E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auważone, systematyczne różnice między rozwiązaniami poszczególnych AC dla stacji BOR1 skłoniły  autorów do wykonania podobnej analizy dla stacji które występują w kilku rozwiązania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yjęte zostały następujące kryter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stępne wyniki z okresu od 1244 do 1319 tygodnia GP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tacja powinna być wyznaczana z minimum 7 AC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E4E-CDD1-40C4-AA3B-D7708469C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Wybrane stacje IG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naleziono 7 takich stacj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ALGO 40104M002 – ALGONQUIN (KANAD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CAS1 66011M001  – CASEY (ANTARKTYDA)</a:t>
            </a:r>
            <a:r>
              <a:rPr b="1" lang="pl-PL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IRKT 12313M001   – IRKUTSK (ROSJ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NSA 10402M004 – ONSALA (SZWECJ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VILL 13406M001 – VILLAFRANCA (HISZPANI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TZR 14201M010 – WETTZELL (NIEM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YELL 40127M003  – YELLOWKNIFE (KANAD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34A-3EF7-4FFD-99B1-80658FA13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114800" y="3200400"/>
            <a:ext cx="45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Arial"/>
              </a:rPr>
              <a:t>Wybrane stacje IGS (lokalizacja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2514600" y="3048120"/>
            <a:ext cx="60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4648320" y="3048120"/>
            <a:ext cx="60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4419720" y="2743200"/>
            <a:ext cx="60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2057400" y="2666880"/>
            <a:ext cx="533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rId7" action="ppaction://hlinksldjump"/>
          </p:cNvPr>
          <p:cNvSpPr/>
          <p:nvPr/>
        </p:nvSpPr>
        <p:spPr>
          <a:xfrm>
            <a:off x="6019920" y="2895480"/>
            <a:ext cx="457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8" action="ppaction://hlinksldjump"/>
          </p:cNvPr>
          <p:cNvSpPr/>
          <p:nvPr/>
        </p:nvSpPr>
        <p:spPr>
          <a:xfrm>
            <a:off x="6400800" y="601992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84C-7D5D-4A3A-A5BF-A605D4ECD3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1CB-049C-4617-85A2-4433112DBC4E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ek Lehmann</cp:lastModifiedBy>
  <dcterms:modified xsi:type="dcterms:W3CDTF">2005-06-22T11:34:41Z</dcterms:modified>
  <cp:revision>60</cp:revision>
  <dc:subject/>
  <dc:title>Prezentacja programu PowerPoint</dc:title>
</cp:coreProperties>
</file>