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259-D397-477D-A4C0-1CB8A94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571-BEE9-45EB-AE3C-B823E6D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18B-1BC1-4D75-9F78-FE8BA6DF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BB6-B0D0-4959-B0F5-ED270C71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E0EA-2A1D-42DD-9932-F255D1C1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567-ED54-447A-8A0B-5AC37D04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BC4E-0BBF-45AE-9FDB-52E87CB9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08F-F3A8-4210-87CA-224AEF7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4B28-CE4E-4BDF-B920-FCE616DC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CB7-6B3E-42DB-AB4A-FA3AA2B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53D-0873-44C5-93D3-10D30C7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91F-466A-4C69-9F58-ADBB95D2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7D10-9A69-40DF-847C-4BAB656C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595D-BBEE-4563-B9D7-E752A5A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F42-8411-4CCF-8233-958FBFA9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3E54-04F8-4675-A287-3A7C3192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1C3-EB25-472B-AB4A-5B52058C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F4D-695E-4C53-AADF-0920E892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F08-AA54-457B-B9BA-0E010F73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D5A-11B1-43E1-8F13-17144B7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E83-8F4B-4CEC-9D01-66AAECDA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BDB-DD51-48DE-A4EE-B001ED6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426-C5D5-485C-B776-755CD80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8E8-1633-456A-9694-3F7C478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F99A-9C5A-4E15-8CE0-32EB811D7A8E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D308-9C71-4617-8810-C68E0B7169EB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AB85-3321-4DD1-BA99-64E107EF466A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BAD-5595-4382-86B1-E0188681654D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8991720" cy="154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cc66"/>
                </a:solidFill>
                <a:latin typeface="Arial"/>
              </a:rPr>
              <a:t>Wstępna analiza wpływu zaburzonej jonosfery wywołanej trzęsieniem Ziemi na dokładność pozycjonowania GP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286080"/>
            <a:ext cx="907272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. Krakowski, L.W. Baran, R. Sieradz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111560"/>
            <a:ext cx="80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Instytut Geodezji, Uniwersytet Warmińsko-Mazurski w Olszty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6545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66880" y="5300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SEMINARI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9560" y="5516640"/>
            <a:ext cx="76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Satelitarne metody wyznaczania pozycji we współczesnej geodezji i nawigacji”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596360" y="189000"/>
            <a:ext cx="1296360" cy="1152360"/>
            <a:chOff x="7596360" y="189000"/>
            <a:chExt cx="1296360" cy="1152360"/>
          </a:xfrm>
        </p:grpSpPr>
        <p:sp>
          <p:nvSpPr>
            <p:cNvPr id="95" name=""/>
            <p:cNvSpPr/>
            <p:nvPr/>
          </p:nvSpPr>
          <p:spPr>
            <a:xfrm>
              <a:off x="7596360" y="200880"/>
              <a:ext cx="1296360" cy="1080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596360" y="189000"/>
              <a:ext cx="129636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2841480" y="594828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oznań, 23 – 24 czerwca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ECFF-2F40-4241-B595-32B1E77B2E3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B5BB806-C0A4-4BA1-B28C-549913836261}" type="datetime1">
              <a:rPr lang="en-US"/>
              <a:t>07/28/26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4480" y="798480"/>
          <a:ext cx="6618240" cy="26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798480"/>
                    <a:ext cx="6618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3646440"/>
          <a:ext cx="6696000" cy="28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3646440"/>
                    <a:ext cx="6696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486160" y="26028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Times New Roman"/>
              </a:rPr>
              <a:t>Lamkówko - Wil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3800" y="19162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długośc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ekto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72200" y="4602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północnej -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6EA-86AE-4F07-A6EB-2D9C895BC5A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15AB9-204C-45B8-9DD4-169BC0F07F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79280" y="907920"/>
          <a:ext cx="6408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6408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79280" y="3798720"/>
          <a:ext cx="6408720" cy="275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798720"/>
                    <a:ext cx="640872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072200" y="4602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ysokościowej - 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520" y="21337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schodniej -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86160" y="26028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Times New Roman"/>
              </a:rPr>
              <a:t>Lamkówko - Wil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8F8-9D4A-4327-AE20-647809FA297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7231D-1D52-4752-90F0-CDA2679B22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000" y="1990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niosk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9370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miany TEC podczas bałtyckiego trzęsienia Ziemi były analizowane przy użyciu permanentnych obserwacji GPS z europejskiej sieci EPN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777680"/>
            <a:ext cx="864072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jsmo-sejsmiczne anomalie zostały zaobserwowane jeden dzień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zed trzęsieniem Ziemi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nomalia ta wynosiła około 4 TECU (tj. około 20-25% wartości TE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 niezaburzonego stanu jonosfery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zas trwania, charakter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gą być więc powiązane z sejsmo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onosferycznym prekursorem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jsmo-jonosferyczne anomalie wpłynęły również na dokładność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pracowania wektorów GPS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ajwiększy wpływ, rzędu kilku centymetrów uwidocznił się n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kładowej wysokościowej również na jeden dzień przed wystąpieni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rzęsienia Ziemi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8BA-A887-4F5D-AB3A-F262354318D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032FF-57D1-4E98-9466-9DCAE44E26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240" y="457200"/>
            <a:ext cx="128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640" y="1135080"/>
            <a:ext cx="699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Opis trzęsienia Ziemi w dniu 21 września 2004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oraz warunki geomagnetyczn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40" y="4827600"/>
            <a:ext cx="1626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GB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Wniosk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" y="2143080"/>
            <a:ext cx="825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Dzienne zmiany TEC nad wybranymi stacjami IGS/EPN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w rejonie trzęsieni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0" y="3100320"/>
            <a:ext cx="702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Czasowo-przestrzenne zmiany TEC nad Europą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640" y="3789360"/>
            <a:ext cx="829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Wpływ zaburzonej jonosfery na dokładność wyznaczeni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500" spc="-1" strike="noStrike">
                <a:solidFill>
                  <a:srgbClr val="ffffff"/>
                </a:solidFill>
                <a:latin typeface="Times New Roman"/>
              </a:rPr>
              <a:t>współrzędnych i długości wektorów GPS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705-B800-4479-9186-083ED198518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2C9B-7A65-46DB-9364-8977786F0A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33360"/>
            <a:ext cx="954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8160" y="20952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1. Opis trzęsienia Ziemi ora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arunki geomagnetycz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4176720" cy="3316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649840" y="48751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miana indeksów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Kp, Ap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e wrześni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004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6120" y="11970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33"/>
                </a:solidFill>
                <a:latin typeface="Times New Roman"/>
              </a:rPr>
              <a:t>21 wrześni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0480" y="1581120"/>
            <a:ext cx="359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cc66"/>
                </a:solidFill>
                <a:latin typeface="Times New Roman"/>
              </a:rPr>
              <a:t>11:05 UT – pierwszy wstrzą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9760" y="1989000"/>
            <a:ext cx="31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cc66"/>
                </a:solidFill>
                <a:latin typeface="Times New Roman"/>
              </a:rPr>
              <a:t>13:32 UT – drugi wstrzą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2708280"/>
          <a:ext cx="4608360" cy="2376000"/>
        </p:xfrm>
        <a:graphic>
          <a:graphicData uri="http://schemas.openxmlformats.org/drawingml/2006/table">
            <a:tbl>
              <a:tblPr/>
              <a:tblGrid>
                <a:gridCol w="2080800"/>
                <a:gridCol w="1263960"/>
                <a:gridCol w="1263600"/>
              </a:tblGrid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Stacj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Zjawisk</a:t>
                      </a:r>
                      <a:r>
                        <a:rPr b="1" lang="pl-PL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Zjawisko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Suwałk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Górka Klaszto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Warszaw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Ksią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Kalwaria Pacławs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Średn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33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2400" y="5235480"/>
            <a:ext cx="57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Magnitudy dwóch wstrząsów w dniu 21 września 2004 rok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aobserwowane przez polskie centra sejsmologicz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27F-658C-4D31-B989-009A01D3430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29129-0028-43A6-92C5-210A6EEB4A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835280" y="836640"/>
          <a:ext cx="54720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836640"/>
                    <a:ext cx="54720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1400" y="246240"/>
            <a:ext cx="91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Dzienne zmiany TEC nad wybranymi stacjami IGS/E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65120" y="5882760"/>
            <a:ext cx="64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Dzienne zmian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TEC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nad stacjam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iga, Lamkowk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orowie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dniac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7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2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wrześn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004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645-B898-49AF-8E91-A4FD6FFAA28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5606B-59B2-4DF1-8984-445065099E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400" y="246240"/>
            <a:ext cx="91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Dzienne zmiany TEC nad wybranymi stacjami IGS/E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268280"/>
          <a:ext cx="435636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43563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751280" y="1268280"/>
          <a:ext cx="439272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1280" y="1268280"/>
                    <a:ext cx="43927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4360" y="3573360"/>
          <a:ext cx="3690720" cy="19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573360"/>
                    <a:ext cx="369072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788000" y="3573360"/>
          <a:ext cx="3695760" cy="19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573360"/>
                    <a:ext cx="369576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98040" y="2636280"/>
            <a:ext cx="79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Zmian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nad stacjam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iga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praz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amkowko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dniac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7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2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wrześn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004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8520" y="5595480"/>
            <a:ext cx="83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zasowe zmiany TEC dla pojedynczeg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rzejścia satelity 26 obserwowaneg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 Lamkowko i Rydze w dni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9 (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przerywana lin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0 (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iągła lin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rześn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2004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B7A-B3E8-4FA4-9AA6-3E8108202E7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A1706-EB2D-4717-B536-34B5CCF976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040" y="260280"/>
            <a:ext cx="89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pl-PL" sz="3200" spc="-1" strike="noStrike">
                <a:solidFill>
                  <a:srgbClr val="ffffff"/>
                </a:solidFill>
                <a:latin typeface="Times New Roman"/>
              </a:rPr>
              <a:t>Czasowo-przestrzenne zmiany TEC nad Europ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411280" y="907920"/>
          <a:ext cx="405612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907920"/>
                    <a:ext cx="405612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3573360"/>
          <a:ext cx="388800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573360"/>
                    <a:ext cx="388800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076720" y="3573360"/>
          <a:ext cx="3700440" cy="24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573360"/>
                    <a:ext cx="370044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750680" y="612684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Różnicowe mapy TEC nad Europą w dniu 20 września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451640" y="1052640"/>
          <a:ext cx="466920" cy="221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1640" y="1052640"/>
                    <a:ext cx="4669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A7B-E429-49AE-A839-019E2258CD04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28191-7896-4383-820D-0AF12D37E7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640" y="158760"/>
            <a:ext cx="91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Wpływ zaburzonej jonosfery wywołanej trzesienie Ziemi 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okładność wyznaczenia współrzędnych i długości wektorów GP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20060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naliza polegała na badaniu powtarzalności wyznaczeń współrzędnych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 długości wektorów łączących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Lamkowko (stacja najblizsza epcentru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trzęsienia ) z następującymi Obserwatoriami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1640" y="2454840"/>
            <a:ext cx="478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Borowiec, wektor o długości ok. 300 k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41280" y="285012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Wilno, wektor o długości ok. 313 k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31200" y="3247200"/>
            <a:ext cx="43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- Ryga, wektor o długości ok. 402 km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377100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Obliczenia wykonano w oparciu o permanentne 6-godzin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obserwacje GPS z godzinna zakładką oraz oprogramowanie Berne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l-PL" sz="2200" spc="-1" strike="noStrike">
                <a:solidFill>
                  <a:srgbClr val="ffffff"/>
                </a:solidFill>
                <a:latin typeface="Times New Roman"/>
              </a:rPr>
              <a:t>v.4.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DA1-6881-4339-9902-C82C2D44D39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8F1AB-4F0B-4C22-AD50-C1A9918A05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763560"/>
          <a:ext cx="6480000" cy="25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3560"/>
                    <a:ext cx="6480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3524400"/>
          <a:ext cx="6480000" cy="27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524400"/>
                    <a:ext cx="6480000" cy="27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486160" y="26028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Times New Roman"/>
              </a:rPr>
              <a:t>Lamkówko - Borowi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93800" y="19162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długośc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ekto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72200" y="4602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północnej - 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9CA-77BB-4264-BBF7-890E2393EAD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146D8-1EF6-48B0-8B31-F6EC57684E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692280"/>
          <a:ext cx="6408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6408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3627360"/>
          <a:ext cx="6408720" cy="275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627360"/>
                    <a:ext cx="640872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072200" y="460224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ysokościowej - 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4520" y="213372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miany składowe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wschodniej - 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1890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66"/>
                </a:solidFill>
                <a:latin typeface="Times New Roman"/>
              </a:rPr>
              <a:t>Lamkówko - Borowi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FAB-C796-4DA8-B0BA-C269741652D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862CA-CFB6-4E50-9558-9B24B7C667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08:58:16Z</dcterms:created>
  <dc:creator/>
  <dc:description/>
  <dc:language>en-US</dc:language>
  <cp:lastModifiedBy>UWM</cp:lastModifiedBy>
  <cp:lastPrinted>2001-10-15T08:58:16Z</cp:lastPrinted>
  <dcterms:modified xsi:type="dcterms:W3CDTF">2005-06-22T10:40:43Z</dcterms:modified>
  <cp:revision>1423</cp:revision>
  <dc:subject/>
  <dc:title>Prezentacja programu PowerPoint</dc:title>
</cp:coreProperties>
</file>