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10.wmf" ContentType="image/x-wmf"/>
  <Override PartName="/ppt/media/image30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5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7ED-5CDC-4F31-97C5-A2E5A654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BB6-9865-4DB5-A1AA-6F7E2C02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324-0392-403F-B713-3015FB1B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C47-1923-4389-9F7D-BB4B1B8A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31D6-34E5-4CDF-8DA4-3A73BA1B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3862-47FE-46F4-8A1D-2E47BCDC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2068-9098-4634-BC2C-336481E4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C652-D788-4384-A065-EEE71951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EE75-274B-4094-AB07-BE670C7A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3D09-79AA-4F49-9391-717995D5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EAD7-FF00-44E3-B0E7-8988AD9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746-12C1-4506-99CE-B96A4E8E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DA4B-24F7-49CE-95AF-7A01B79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E69D-B647-4654-BD0D-27C9E44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7863-280A-48B9-96B2-47CAE11C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3847-390E-4BB9-AE0B-A5246108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F4FC-2CA7-4AFF-B93F-E9EF1E85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EFB-F6CE-49B4-B7EE-E4888C50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830-BB2B-4D01-8711-228CABBB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680-AC4B-4269-BD5C-CB7C69C1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85A-B15F-4E3B-9498-3FC3E634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4CB-566D-44C9-9920-224B0822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5FC-A69D-4F9A-92BD-693FA6DC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15C-B3F9-48EC-9111-17449BE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0776-DF8F-46EB-ADC7-A48AD0FCB733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376E-5805-4357-977F-4D23CD2AA112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8420-AE90-4A55-92B6-3F480469718A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B93-1DCE-4DAD-A592-CBF7D54FED5E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kand@uwm.edu.p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379160"/>
            <a:ext cx="8991720" cy="15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cc66"/>
                </a:solidFill>
                <a:latin typeface="Arial"/>
              </a:rPr>
              <a:t>Porównanie całkowitej koncentracji elektronów (TEC) nad Europą otrzymanej z permanentnych obserwacji GPS i VLBI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213000"/>
            <a:ext cx="907272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Krankowski (1),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H. Schuh (2),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. Kosek, (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. Popiński (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60" y="439884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94360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789360"/>
            <a:ext cx="81550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Instytut Geodezji, Uniwersytet Warmińsko-Mazurski w Olsztynie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Institute of Geodesy and Geophysics, Vienna University of Technology, AUSTRIA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Centrum Badań Kosmicznych, Polska Akademia Nauk, Warszaw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(4) Centralny Urząd Statystyczny, Warszaw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558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SEMINAR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89560" y="5805360"/>
            <a:ext cx="76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Satelitarne metody wyznaczania pozycji we współczesnej geodezji i nawigacji”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987640" y="189000"/>
            <a:ext cx="719280" cy="720720"/>
            <a:chOff x="2987640" y="189000"/>
            <a:chExt cx="719280" cy="720720"/>
          </a:xfrm>
        </p:grpSpPr>
        <p:sp>
          <p:nvSpPr>
            <p:cNvPr id="96" name=""/>
            <p:cNvSpPr/>
            <p:nvPr/>
          </p:nvSpPr>
          <p:spPr>
            <a:xfrm>
              <a:off x="2987640" y="196200"/>
              <a:ext cx="719280" cy="67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987640" y="189000"/>
              <a:ext cx="719280" cy="720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8" name=""/>
          <p:cNvGraphicFramePr/>
          <p:nvPr/>
        </p:nvGraphicFramePr>
        <p:xfrm>
          <a:off x="4643280" y="189000"/>
          <a:ext cx="792360" cy="73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89000"/>
                    <a:ext cx="7923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TU-Logo"/>
          <p:cNvPicPr/>
          <p:nvPr/>
        </p:nvPicPr>
        <p:blipFill>
          <a:blip r:embed="rId4"/>
          <a:srcRect l="0" t="0" r="47332" b="0"/>
          <a:stretch/>
        </p:blipFill>
        <p:spPr>
          <a:xfrm>
            <a:off x="3780000" y="189000"/>
            <a:ext cx="795240" cy="753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41480" y="623736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Poznań, 23 – 24 czerwca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201D-F79C-4FC9-94E9-AA5C941AD7A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3DE066-91CF-4880-8D5D-B5442A33D8D4}" type="datetime1">
              <a:rPr lang="en-US"/>
              <a:t>07/30/26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00000" y="11592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WAVELET TIME-FREQUENCY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CO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BETWEEN GPS-TEC AND VLBI-TEC OVER WETTZ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78480" y="76356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WETTZ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060640"/>
            <a:ext cx="305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velet time-frequency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coherence betwee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EC data obtained  using VLBI and GPS measurements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ov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Wettze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during the period of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March to June 20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1720" y="1000080"/>
            <a:ext cx="25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diurnal oscil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11.03.2001 – 19.06.200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835280" y="4149720"/>
          <a:ext cx="367344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149720"/>
                    <a:ext cx="36734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79280" y="5084640"/>
          <a:ext cx="15224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084640"/>
                    <a:ext cx="15224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064200" y="445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3840" y="4707000"/>
            <a:ext cx="326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 wavelet transform coherence (s=1, M=1000, Morlet) between TEC data together with the empirical coherence for white noise data (dashed lines)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179280" y="1628640"/>
            <a:ext cx="5580000" cy="227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460-D3E0-437B-A5D9-183DCA7C45D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9F3BA-7EA5-4B9D-AA1F-E9A7480D5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932360" y="1862280"/>
          <a:ext cx="2519280" cy="25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862280"/>
                    <a:ext cx="251928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231840" y="425520"/>
            <a:ext cx="89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MEAN AMPLITUDE SPECTRA OF TEC OBTAINED USING GPS AND VLBI MEASUREMENTS OVER WETTZEL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ND MAT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70160" y="14778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WETTZ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23560" y="1484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MAT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5120" y="4508640"/>
            <a:ext cx="81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 mean amplitude spectra of TEC obtained using GPS and VLBI measurements over Wettze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and Matera during one (TEC from GPS) and two solar cycles  (TEC from VLB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92360" y="1844640"/>
          <a:ext cx="251928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1844640"/>
                    <a:ext cx="25192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EC7-811C-45C6-AECC-2D3B1E67293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DE818-8F60-4FD9-B96D-1F9469173F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79280" y="115920"/>
            <a:ext cx="9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MORLET WAVELET TIME-FREQUENCY SPECTRA OF TEC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6145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Wavelet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time-frequency spectru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of the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VLBI-TEC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98560" y="3784680"/>
            <a:ext cx="7273800" cy="2092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269880" y="9018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WETTZELL (1984-200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1440" y="34941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MATERA (1990-200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0560" y="6016680"/>
            <a:ext cx="8444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velet time-frequency spectrum of the TEC data obtained  using VLBI measurements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ov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Wettze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and Matera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uring two solar 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272360" cy="20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6E9-FD15-4E6A-B44C-B3A990AF950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78A85-A35A-4142-8556-A6E86321A9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9280" y="398520"/>
            <a:ext cx="9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MORLET WAVELET TIME-FREQUENCY SPECTRA OF TEC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47640" y="765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Wavelet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time-frequency spectru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of the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GPS-TEC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716360" y="1846440"/>
            <a:ext cx="4318200" cy="1876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05080" y="378792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Wavelet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time-frequency spectru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of the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VLBI-TEC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6520" y="4149720"/>
            <a:ext cx="4318200" cy="1876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8720" y="14778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WETTZELL (1996-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69080" y="1492200"/>
            <a:ext cx="23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MATERA (1996-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28000" y="1046160"/>
            <a:ext cx="36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nnual and semiannual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scillations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560" y="6087960"/>
            <a:ext cx="844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velet time-frequency spectrum of the TEC data obtained  using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GP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top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panel) and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VLBI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low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panel) measurements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ov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Wettze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L and Mater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1996 - 2002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4321440" cy="1871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79280" y="1844640"/>
            <a:ext cx="4321440" cy="18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7EA-9BA5-4270-8ED2-85635658C30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947F0-BC34-4336-A06A-84D51B4C8D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3240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442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WAVELET TIME-FREQUENCY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COHERENCE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BETWEEN GPS-TEC AND VLBI-T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08000" y="1197000"/>
            <a:ext cx="25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Times New Roman"/>
              </a:rPr>
              <a:t>WETTZELL  1997 -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07920" y="76500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annual and semiannual oscil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6360" y="5987880"/>
            <a:ext cx="58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velet time-frequency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coherence function betwee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EC data obtained  using VLBI and GPS measurements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ov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Wettze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l and Mater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during the period of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1996 to 2002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4920" y="4029120"/>
            <a:ext cx="5616720" cy="1992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-47520" y="3668760"/>
            <a:ext cx="22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Times New Roman"/>
              </a:rPr>
              <a:t>MATERA   1997 -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848200" y="2335320"/>
          <a:ext cx="3187800" cy="23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8200" y="2335320"/>
                    <a:ext cx="31878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012000" y="4724280"/>
            <a:ext cx="29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 wavelet transform coherence (σ=1, Morlet) between TEC data (solid lines) together with the empirical coherence for white noise data (dashed lines)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796000" y="1704960"/>
          <a:ext cx="327672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1704960"/>
                    <a:ext cx="32767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34920" y="1484280"/>
            <a:ext cx="5616720" cy="21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9BB-71CE-43C9-8AC4-B8B1A902445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A4CBE-3901-4B33-93B0-C271DD305F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2560" y="189000"/>
            <a:ext cx="28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Conclusions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83664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TEC time series of quiet and disturbed ionospheric conditions above different European collocation stations (GPS and VLBI): Wettzel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, Matera 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Onsala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were compared in this study, covering one (GPS) and two solar cycles (VLBI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Our research has led to the following conclus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1840" y="2276640"/>
            <a:ext cx="85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th estimation methods of TEC: from GPS and VLBI permanent measurem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vide an acceptable accuracy (about 1 – 3 TECU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1840" y="2905200"/>
            <a:ext cx="85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y good agreement  between diurnal variations of TEC obtained using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P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d VLBI observations was obtained. The differences between diur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ariations of GPS-TEC and VLBI-TEC data, even during maximum solar ac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 2001, amounted to 3-4 TECU. During increasing and low solar activity the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fference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were significant lower and reached 1-1.5 TEC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44877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The MW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time-frequency spectra of GPS-TEC and VLBI-TEC data over tw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llocation stations Wettzel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nd Matera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fro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a half period of solar activity (betwe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996 – 2002) present the same p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attern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 semidiurnal and diurnal oscillation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41B-9A4B-4396-A7F8-B9604F6D0E6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BBA30-8BBD-40B5-B3FD-574C8328C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19700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me-frequency coherence map between GPS-TEC and VLBI-TEC data over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Wettzel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d Matera reveals two maxim (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der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.85 – 0.97)  for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the 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urnal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midiurnal oscillations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8000" y="220968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sults for semiannual and annual oscillations obtained using GPS and VLBI TE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asurements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agree also very wel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me-frequency coherence map reveals also tw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xim (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der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0.95)  for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miannual and annual oscillation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920" y="3284640"/>
            <a:ext cx="8856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day the IGS / EPN and IVS networks are broader and denser than the ionos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. Joint GPS and VLBI TEC measurement will be used in the further investig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iming at creating the predicted TEC maps over Europe, especially at the high latitu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onosphere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02560" y="189000"/>
            <a:ext cx="28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Conclusions (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2EC-0C6A-4002-9F1D-B4E56CAA919F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D8C0F-E71A-4F62-BE29-DF8E82437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50880" y="2133720"/>
            <a:ext cx="417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cc66"/>
                </a:solidFill>
                <a:latin typeface="Times New Roman"/>
              </a:rPr>
              <a:t>Thank yo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cc66"/>
                </a:solidFill>
                <a:latin typeface="Times New Roman"/>
              </a:rPr>
              <a:t>for your atten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42120" y="39337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33"/>
                </a:solidFill>
                <a:latin typeface="Times New Roman"/>
              </a:rPr>
              <a:t>e-mail: </a:t>
            </a:r>
            <a:r>
              <a:rPr b="0" lang="pl-PL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kand@uwm.edu.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184-D4D7-4B36-A935-2613C84B9368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61506-75BD-4EEE-8B3D-126D24C54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5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5400" y="3284640"/>
            <a:ext cx="680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- czasowo-częstotliwościowe widma danych TEC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160" y="4292640"/>
            <a:ext cx="1960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GB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WNIO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00" y="2060640"/>
            <a:ext cx="751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DZIENNE ZMIANY TEC (GPS-TEC i VLBI-TEC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8920" y="257040"/>
            <a:ext cx="43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PLAN WYSTĄPI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80" y="985680"/>
            <a:ext cx="86115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DANE  I  ESTYMACJ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TAL ELECTRON CONTENT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 UŻYCIU POMIARÓW GPS I VL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00" y="2811600"/>
            <a:ext cx="622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ANALIZY  WIDMOWE  DANYCH  TE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200" y="3676680"/>
            <a:ext cx="738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- czasowo-częstotliwościowe koherencje danych TEC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3BB-AACD-408E-B693-99BCB0938ED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CDBFC-E266-48DD-8A52-50BA1CE36A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33360"/>
            <a:ext cx="95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G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 SOURCE AND ESTIMATION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981000"/>
            <a:ext cx="8713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PS measurements of European IGS stations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1996 – 200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were used to obtain TEC dat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range of solar activity during the years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verag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rom low (1996) to high (2001) leve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514600"/>
            <a:ext cx="3886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 TEC estimation we used the single site algorithm. The TEC was approximated as a function of the local time (LT) and difference between the receiver latitude and the latitude of the subionospheric point (sp) along satellite pass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47920" y="5815080"/>
            <a:ext cx="4819680" cy="890640"/>
            <a:chOff x="1447920" y="5815080"/>
            <a:chExt cx="4819680" cy="890640"/>
          </a:xfrm>
        </p:grpSpPr>
        <p:sp>
          <p:nvSpPr>
            <p:cNvPr id="114" name=""/>
            <p:cNvSpPr/>
            <p:nvPr/>
          </p:nvSpPr>
          <p:spPr>
            <a:xfrm>
              <a:off x="1447920" y="5815080"/>
              <a:ext cx="4819680" cy="89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627560" y="5942160"/>
                  <a:ext cx="4510800" cy="63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EC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is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6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Δϕ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Δϕ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Δϕ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" name=""/>
          <p:cNvSpPr/>
          <p:nvPr/>
        </p:nvSpPr>
        <p:spPr>
          <a:xfrm>
            <a:off x="1371240" y="550080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diurnal variation of TEC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411800" y="2133720"/>
            <a:ext cx="4275000" cy="2971800"/>
            <a:chOff x="4411800" y="2133720"/>
            <a:chExt cx="4275000" cy="2971800"/>
          </a:xfrm>
        </p:grpSpPr>
        <p:sp>
          <p:nvSpPr>
            <p:cNvPr id="118" name=""/>
            <p:cNvSpPr/>
            <p:nvPr/>
          </p:nvSpPr>
          <p:spPr>
            <a:xfrm>
              <a:off x="4411800" y="2133720"/>
              <a:ext cx="427500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443480" y="2199240"/>
              <a:ext cx="4123440" cy="285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4098960" y="5105520"/>
            <a:ext cx="49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. Geographic map of GPS stations used for retrieving TEC over Europe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AE4-F793-4D64-A63C-F088F43BDB6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79C8B-3CCF-4169-96F7-FF1674D82E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17520"/>
            <a:ext cx="95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VLBI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 SOURCE AND ESTIMATION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2920" y="112536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AT" sz="2200" spc="-1" strike="noStrike">
                <a:solidFill>
                  <a:srgbClr val="ffcc66"/>
                </a:solidFill>
                <a:latin typeface="Times New Roman"/>
              </a:rPr>
              <a:t>VLBI provides only baseline </a:t>
            </a:r>
            <a:r>
              <a:rPr b="0" lang="pl-PL" sz="2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de-AT" sz="2200" spc="-1" strike="noStrike">
                <a:solidFill>
                  <a:srgbClr val="ffcc66"/>
                </a:solidFill>
                <a:latin typeface="Times New Roman"/>
              </a:rPr>
              <a:t>(=differential) measure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200" y="2090880"/>
            <a:ext cx="511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de-AT" sz="2200" spc="-1" strike="noStrike">
                <a:solidFill>
                  <a:srgbClr val="ffcc66"/>
                </a:solidFill>
                <a:latin typeface="Times New Roman"/>
              </a:rPr>
              <a:t>estimation method developed at</a:t>
            </a:r>
            <a:r>
              <a:rPr b="0" lang="pl-PL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AT" sz="2400" spc="-1" strike="noStrike">
                <a:solidFill>
                  <a:srgbClr val="ffcc66"/>
                </a:solidFill>
                <a:latin typeface="Times New Roman"/>
              </a:rPr>
              <a:t>Vienna</a:t>
            </a:r>
            <a:r>
              <a:rPr b="0" lang="pl-PL" sz="2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pl-PL" sz="2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de-AT" sz="2200" spc="-1" strike="noStrike">
                <a:solidFill>
                  <a:srgbClr val="ffcc66"/>
                </a:solidFill>
                <a:latin typeface="Times New Roman"/>
              </a:rPr>
              <a:t>University of 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5360" y="3003480"/>
            <a:ext cx="6115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Times New Roman"/>
              </a:rPr>
              <a:t>station dependent VTEC values modell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AT" sz="2000" spc="-1" strike="noStrike">
                <a:solidFill>
                  <a:srgbClr val="ffffff"/>
                </a:solidFill>
                <a:latin typeface="Times New Roman"/>
              </a:rPr>
              <a:t>by piece-wise linear fun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Times New Roman"/>
              </a:rPr>
              <a:t>longitudinal rotation of datapoi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AT" sz="2000" spc="-1" strike="noStrike">
                <a:solidFill>
                  <a:srgbClr val="ffffff"/>
                </a:solidFill>
                <a:latin typeface="Times New Roman"/>
              </a:rPr>
              <a:t>equivalent to sun-fixed referenc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AT" sz="2000" spc="-1" strike="noStrike">
                <a:solidFill>
                  <a:srgbClr val="ffffff"/>
                </a:solidFill>
                <a:latin typeface="Times New Roman"/>
              </a:rPr>
              <a:t>north-south variations described by linear grad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AT" sz="2000" spc="-1" strike="noStrike">
                <a:solidFill>
                  <a:srgbClr val="ffffff"/>
                </a:solidFill>
                <a:latin typeface="Times New Roman"/>
              </a:rPr>
              <a:t>adjustment algorithm prohibits negative TEC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2320" y="5018040"/>
            <a:ext cx="762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AT" sz="2200" spc="-1" strike="noStrike">
                <a:solidFill>
                  <a:srgbClr val="ffcc66"/>
                </a:solidFill>
                <a:latin typeface="Times New Roman"/>
              </a:rPr>
              <a:t>data from International VLBI Service for Geodesy &amp; Astrome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240" y="5589720"/>
            <a:ext cx="667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AT" sz="2200" spc="-1" strike="noStrike">
                <a:solidFill>
                  <a:srgbClr val="ffcc66"/>
                </a:solidFill>
                <a:latin typeface="Times New Roman"/>
              </a:rPr>
              <a:t>period: 1984 – 2005, depending on antenna involv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49880" y="836640"/>
            <a:ext cx="3859200" cy="3176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75280" y="400536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ig. Geographic map of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VLBI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stations used for retrieving TEC over Euro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D81-83AB-4A1D-BD31-1BC4453A9C2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2155A-2241-4685-AA35-41029CB13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042920" y="3656160"/>
          <a:ext cx="705816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656160"/>
                    <a:ext cx="705816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269880" y="54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WETTZELL (1984-200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476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DIURNAL VARIATIONS OF TEC  (GPS and VLBI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86240" y="320688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MATERA (1990-200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573408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GPS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EC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and VLBI-TEC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observed over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Wettzell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top panel) and Matera (lower panel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1984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00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907920"/>
          <a:ext cx="7058160" cy="203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7058160" cy="20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369-DC05-4627-8070-9E6CE7AF9B3C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A2298-6600-4106-A8A7-DC7EDF3A8D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960" y="189000"/>
            <a:ext cx="789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COMPARISON OF DIURNAL VARIATIONS OF TEC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(GPS and VLBI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13240" y="1117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WETTZ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6560" y="134136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maximum solar activity -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2920" y="2082960"/>
          <a:ext cx="21589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82960"/>
                    <a:ext cx="21589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708360" y="2060640"/>
          <a:ext cx="2158920" cy="19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060640"/>
                    <a:ext cx="21589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229440" y="2082960"/>
          <a:ext cx="2158920" cy="19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9440" y="2082960"/>
                    <a:ext cx="21589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650240" y="171756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Times New Roman"/>
              </a:rPr>
              <a:t>Janu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15680" y="1700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Times New Roman"/>
              </a:rPr>
              <a:t>Apr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51960" y="170028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Times New Roman"/>
              </a:rPr>
              <a:t>Octo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70920" y="407664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maximum solar activity -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44720" y="4437000"/>
          <a:ext cx="2158920" cy="19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4720" y="4437000"/>
                    <a:ext cx="215892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708360" y="4437000"/>
          <a:ext cx="2232000" cy="194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4437000"/>
                    <a:ext cx="22320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229440" y="4456080"/>
          <a:ext cx="2158920" cy="192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9440" y="4456080"/>
                    <a:ext cx="215892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499-5B3F-4A04-BF42-DB5DF728BA3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29300-9956-4981-9014-DC013CC8D0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7960" y="189000"/>
            <a:ext cx="789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COMPARISON OF DIURNAL VARIATIONS OF TEC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(GPS and VLBI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3600" y="11174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MAT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6560" y="134136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maximum solar activity -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50240" y="157464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Times New Roman"/>
              </a:rPr>
              <a:t>Janu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15680" y="15573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Times New Roman"/>
              </a:rPr>
              <a:t>Apr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51960" y="155736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33"/>
                </a:solidFill>
                <a:latin typeface="Times New Roman"/>
              </a:rPr>
              <a:t>Octo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0920" y="39337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maximum solar activity -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87280" y="1917720"/>
          <a:ext cx="215928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7720"/>
                    <a:ext cx="215928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708360" y="1917720"/>
          <a:ext cx="2158920" cy="19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917720"/>
                    <a:ext cx="21589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229440" y="1917720"/>
          <a:ext cx="2158920" cy="19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9440" y="1917720"/>
                    <a:ext cx="21589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187280" y="4313160"/>
          <a:ext cx="2159280" cy="19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4313160"/>
                    <a:ext cx="2159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637080" y="4294080"/>
          <a:ext cx="2230200" cy="194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7080" y="4294080"/>
                    <a:ext cx="223020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229440" y="4294080"/>
          <a:ext cx="2158920" cy="192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9440" y="4294080"/>
                    <a:ext cx="215892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932-7000-48D8-B3BA-C911FA29E3C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A2E90-97A0-438D-83C6-213DC16797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516640"/>
            <a:ext cx="8209080" cy="1152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282840"/>
            <a:ext cx="6769080" cy="1009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843200"/>
            <a:ext cx="504036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89000"/>
            <a:ext cx="871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E MORLET WAVELET TIME-FREQUENC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PECTRA </a:t>
            </a:r>
            <a:r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AND COHERENC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F TEC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27040" y="1916280"/>
                <a:ext cx="4848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acc>
                          <m:accPr>
                            <m:chr m:val="˘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bar>
                          <m:barPr>
                            <m:pos m:val="top"/>
                          </m:barPr>
                          <m:e>
                            <m:acc>
                              <m:accPr>
                                <m:chr m:val="˘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</m:bar>
                        <m:r>
                          <m:t xml:space="preserve">(</m:t>
                        </m:r>
                        <m:r>
                          <m:t xml:space="preserve">a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43000" y="148428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The Wavelet transform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oefficients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8240" y="2908800"/>
            <a:ext cx="37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The CFT of the Morlet wavelet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3080" y="3355920"/>
                <a:ext cx="6368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207120" y="170028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which controls the decay of the Morlet wave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581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Time-frequency spectru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84720" y="5734080"/>
                <a:ext cx="4181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76760" y="5084640"/>
            <a:ext cx="31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Time-frequency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 coherence</a:t>
            </a:r>
            <a:r>
              <a:rPr b="1" lang="pl-PL" sz="20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84360" y="5734080"/>
                <a:ext cx="30891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85308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92360" y="4437000"/>
            <a:ext cx="1295640" cy="792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637080" y="4581360"/>
                <a:ext cx="11523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227640" y="1320840"/>
                <a:ext cx="576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812000" y="1339920"/>
                <a:ext cx="436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6857280" y="12682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- CFT of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300720" y="1844640"/>
                <a:ext cx="235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4D7-7703-43CB-BE0A-ABA4D6AB252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2CBAA-FDED-4123-9672-0D2435236E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2360" y="22392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MORLET WAVELET TIME-FREQUENCY SPECTRA OF TEC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1700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Wavelet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time-frequency spectru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the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VLBI-TEC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78480" y="765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WETTZ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58200" y="1052640"/>
            <a:ext cx="25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diurnal oscil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33"/>
                </a:solidFill>
                <a:latin typeface="Times New Roman"/>
              </a:rPr>
              <a:t>11.03.2001 – 19.06.200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0560" y="4581360"/>
            <a:ext cx="844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velet time-frequency spectrum of the TEC data obtained  using VLBI (left panel) and GPS (right panel) measurements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ov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Wettze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during the period of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March to June 20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61080" y="17082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Wavelet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time-frequency spectru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the </a:t>
            </a:r>
            <a:r>
              <a:rPr b="1" lang="pl-PL" sz="1800" spc="-1" strike="noStrike">
                <a:solidFill>
                  <a:srgbClr val="ffcc66"/>
                </a:solidFill>
                <a:latin typeface="Times New Roman"/>
              </a:rPr>
              <a:t>GPS-TEC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105080" cy="2232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544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86B-1E2D-4598-B9FB-6DBD03A7709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13A25-E34B-49E4-A712-010F338CF2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8:58:16Z</dcterms:created>
  <dc:creator/>
  <dc:description/>
  <dc:language>en-US</dc:language>
  <cp:lastModifiedBy>UWM</cp:lastModifiedBy>
  <cp:lastPrinted>2001-10-15T08:58:16Z</cp:lastPrinted>
  <dcterms:modified xsi:type="dcterms:W3CDTF">2005-06-14T07:33:39Z</dcterms:modified>
  <cp:revision>1406</cp:revision>
  <dc:subject/>
  <dc:title>Prezentacja programu PowerPoint</dc:title>
</cp:coreProperties>
</file>